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2E2-F6F2-499E-940C-90AFC06A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D85-43C2-4704-8A23-CE49846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F4A-6B94-49A5-A18F-5C78008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9FB-C2AA-4158-AD5E-6FCCB190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6BB0-DA52-4F7F-8C08-77453F50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6D6C-05D0-4F13-995C-5FFBC1A9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3188-B229-4848-85FD-8D31267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8679-C4A6-48A6-B540-0C49322F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E0D3-AC8C-4B5D-B94E-39C8BB62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55CB-7EFE-4695-A464-F10A49D3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EF26-CCD4-49DE-B910-9B33695D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119-74F7-45AF-A0BA-411A167E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566E-E8CF-4882-9E3E-CB4B57A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340-1BB1-47E6-9397-BBF6B62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7E44-7010-4BED-9053-542FC3E5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254-B520-47A5-975F-CB980A30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C913-4EDD-4D7A-AF93-3D07E50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DD6C-49AA-40ED-A3E3-5E48401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F970-B8E9-46AE-BCC5-5CF7F9EC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F4A0-36D8-4E9A-9C76-28C87BC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B2DE-7D3C-425D-A51A-5B7C7987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4C28-864D-4249-80F5-3A873D19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F60-6A40-450C-8F59-A7FE03FF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77DD-280A-452B-8CF9-D17A60B7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D546-3C90-46B2-B01B-0A1D583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E6F3-52F5-4871-8035-4CE9AC4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96A6-7F3F-4A97-8CB4-19D9BD7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52A0-7FA8-4F6B-B5F5-1B01BC29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EADE-2FCB-458C-9194-E44F4EC9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CB5B-C8EC-40C0-AFBD-595BABD9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1049-1B20-44D3-B515-4C834643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9B6F0-8368-45D8-B6B0-7513E62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45CE-205F-4620-BCC7-6208AA1F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78F-42A5-4E77-8716-8A688C0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280E-E6A1-4478-9A71-1E5950B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01548-B48B-41BA-941C-67854D8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BF489-2503-4773-8DDD-AE8BA7C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F7CE-E8D8-48E9-AB21-02F2755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0224-433F-4D69-9ACF-E0B461BD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E512-2B96-4FE0-B3A2-5E820EE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CC04E-DFCF-4D1E-B189-47DC8A89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46E4-DA7D-4330-A90F-C36395C5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B436-07AF-4479-BEC5-1AA58A58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C828-EF5F-413E-BD4D-21C234E3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9D9-2BCC-4E4C-8236-C40AE15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D29A-0292-43D0-A2DE-35195F28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1D75-6EFC-4DFD-ABFB-381E1BD5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1DEF3-6C3E-4B65-A638-3E1ABB92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D2E7-7F77-48AC-84E5-3FD44D60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02C0-CE8C-4487-BE45-3F469562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B49F-A8A2-46C4-9C95-BEAAEBB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CBF0-4A44-4AF7-9B0E-B3348AD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A0D8-34EC-430E-B716-E23C7A9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C0C8-30D6-4CBC-9FA1-99D2E99A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D6D0E-161C-4D0C-9B76-AD981BA9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084-8C00-453F-8D21-06708C3F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E2FB6-7359-4366-9D98-B12283CE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42A6C-0486-41BE-ADD6-F8A7F19A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6005-D34A-427B-BC2C-E35EEA0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9320-3BE4-4BCF-88DF-9A35CE0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D909-F934-4398-B475-DF6E4B4E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179A3-F513-4B20-A311-6D890BD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1AF9-A0A0-4789-AF4C-695133E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3B41-6839-4303-948D-130F8C3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6C6F-FB5F-4A35-A91A-FDC3603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4663-6ECD-40E6-92FD-E462CDAB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6AC-5EDB-49DE-AF51-0B9C779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6EE4F-B0AB-4522-B02A-3B3C63D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E075-58E7-4517-9ADE-6E74E901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87748-988E-4978-A9E5-65EED019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52B1-E609-4948-97AB-BE0136FA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4F2CD-5B43-4E7D-9E70-A327B1D9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9613-B371-4FB9-8058-49DA641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DCBA0-BE47-4762-9D5E-C3AF24C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4DFC-1A94-4627-B744-F0591151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D80BE-7582-4E6B-BFDC-AFECF698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4534-AAB1-40D3-9819-BB9F9CDA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24D-83EC-48ED-A8CC-FFC6B56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A9C1-FFAB-4415-A907-989A2749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630F-651D-48E2-ADA6-CB7269B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6826E-6361-458B-9CA5-D237BCF1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025D-3387-4B42-BC48-006BDA69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0D4B2-F74A-40F2-8A9B-42510A1F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E4F-1868-4E58-8E19-5405943A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04E-B1B2-4F98-80AB-C7BA387DD43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E966-D189-470D-B8BC-2A2AF9FC79A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966-0088-4273-BEA1-638E660C8BA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827-D9E2-4530-BEB8-F9D012ABB35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64F-918A-4552-84E8-F6A95F796EF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7663-FB66-4BEA-9956-4A5875B0CDA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27C-CF06-4210-A749-FEFE37AD326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Control of posture and mov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40719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Done by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ohamed Faleh Al-Jathlani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43010668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or corte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600200"/>
            <a:ext cx="76150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oluntary movement are directed by the motor cortex , and its consist of three are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nd 2 - ( area 6 ) premotor cortex and supplementary motor cort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Generating a plan of movemen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- (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a 4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)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primary motor cortex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ecution of movemen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 for listening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عنصر نائب للمحتوى 3" descr="traditionalthankyou.jpg"/>
          <p:cNvPicPr/>
          <p:nvPr/>
        </p:nvPicPr>
        <p:blipFill>
          <a:blip r:embed="rId1"/>
          <a:stretch/>
        </p:blipFill>
        <p:spPr>
          <a:xfrm>
            <a:off x="1643040" y="2286000"/>
            <a:ext cx="7000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scending motor pathway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yramidal tr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dullary pyramid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pyramidal tr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centra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trapyramidal t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28800" y="1600200"/>
            <a:ext cx="82152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ubrospinal tract             (+ Flexor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Stimulation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(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d nucleu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             ( -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nhibition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Pontine reticulospinal tract                  (+ Flexor 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(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Pon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                                          ( ++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edullary reticulosoinal tract               (- Flexor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(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edullary reticula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                      (- -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سهم إلى اليمين 5"/>
          <p:cNvSpPr/>
          <p:nvPr/>
        </p:nvSpPr>
        <p:spPr>
          <a:xfrm>
            <a:off x="4000680" y="1785960"/>
            <a:ext cx="785520" cy="46080"/>
          </a:xfrm>
          <a:prstGeom prst="rightArrow">
            <a:avLst>
              <a:gd name="adj1" fmla="val 50000"/>
              <a:gd name="adj2" fmla="val 49562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سهم للأسفل 6"/>
          <p:cNvSpPr/>
          <p:nvPr/>
        </p:nvSpPr>
        <p:spPr>
          <a:xfrm>
            <a:off x="4143240" y="178596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سهم إلى اليمين 7"/>
          <p:cNvSpPr/>
          <p:nvPr/>
        </p:nvSpPr>
        <p:spPr>
          <a:xfrm>
            <a:off x="4143240" y="228600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سهم إلى اليمين 8"/>
          <p:cNvSpPr/>
          <p:nvPr/>
        </p:nvSpPr>
        <p:spPr>
          <a:xfrm>
            <a:off x="5429160" y="3143160"/>
            <a:ext cx="71460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سهم للأسفل 9"/>
          <p:cNvSpPr/>
          <p:nvPr/>
        </p:nvSpPr>
        <p:spPr>
          <a:xfrm>
            <a:off x="5572080" y="3214800"/>
            <a:ext cx="71640" cy="500040"/>
          </a:xfrm>
          <a:prstGeom prst="downArrow">
            <a:avLst>
              <a:gd name="adj1" fmla="val 50000"/>
              <a:gd name="adj2" fmla="val 49861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سهم إلى اليمين 10"/>
          <p:cNvSpPr/>
          <p:nvPr/>
        </p:nvSpPr>
        <p:spPr>
          <a:xfrm>
            <a:off x="5643720" y="3643200"/>
            <a:ext cx="428400" cy="71640"/>
          </a:xfrm>
          <a:prstGeom prst="rightArrow">
            <a:avLst>
              <a:gd name="adj1" fmla="val 50000"/>
              <a:gd name="adj2" fmla="val 49832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سهم إلى اليمين 11"/>
          <p:cNvSpPr/>
          <p:nvPr/>
        </p:nvSpPr>
        <p:spPr>
          <a:xfrm>
            <a:off x="5643720" y="4500720"/>
            <a:ext cx="857160" cy="71280"/>
          </a:xfrm>
          <a:prstGeom prst="rightArrow">
            <a:avLst>
              <a:gd name="adj1" fmla="val 50000"/>
              <a:gd name="adj2" fmla="val 50105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سهم للأسفل 12"/>
          <p:cNvSpPr/>
          <p:nvPr/>
        </p:nvSpPr>
        <p:spPr>
          <a:xfrm>
            <a:off x="5857920" y="4572000"/>
            <a:ext cx="46080" cy="428760"/>
          </a:xfrm>
          <a:prstGeom prst="downArrow">
            <a:avLst>
              <a:gd name="adj1" fmla="val 50000"/>
              <a:gd name="adj2" fmla="val 49625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سهم إلى اليمين 13"/>
          <p:cNvSpPr/>
          <p:nvPr/>
        </p:nvSpPr>
        <p:spPr>
          <a:xfrm>
            <a:off x="5857920" y="500076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eral vestibulospinal tract          (- Flex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eral vestibular nucle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       ( +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ctospinal           (Control of neck muscles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perior collicul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سهم إلى اليمين 3"/>
          <p:cNvSpPr/>
          <p:nvPr/>
        </p:nvSpPr>
        <p:spPr>
          <a:xfrm>
            <a:off x="6000840" y="1928880"/>
            <a:ext cx="92844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سهم للأسفل 4"/>
          <p:cNvSpPr/>
          <p:nvPr/>
        </p:nvSpPr>
        <p:spPr>
          <a:xfrm>
            <a:off x="6143760" y="200016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سهم إلى اليمين 5"/>
          <p:cNvSpPr/>
          <p:nvPr/>
        </p:nvSpPr>
        <p:spPr>
          <a:xfrm>
            <a:off x="6143760" y="250020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سهم إلى اليمين 6"/>
          <p:cNvSpPr/>
          <p:nvPr/>
        </p:nvSpPr>
        <p:spPr>
          <a:xfrm>
            <a:off x="3429000" y="3643200"/>
            <a:ext cx="1000080" cy="71640"/>
          </a:xfrm>
          <a:prstGeom prst="rightArrow">
            <a:avLst>
              <a:gd name="adj1" fmla="val 50000"/>
              <a:gd name="adj2" fmla="val 49829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Decerebrate Rigid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sion of brain stem abo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ontine reticula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teral vestibular nucleu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 bel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dbrain ca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ecerebrate Rigid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*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sion above midbrain do not cause Decerebrate Rigidti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2" name="عنصر نائب للمحتوى 3" descr="c0032335_17121769.jpg"/>
          <p:cNvPicPr/>
          <p:nvPr/>
        </p:nvPicPr>
        <p:blipFill>
          <a:blip r:embed="rId1"/>
          <a:stretch/>
        </p:blipFill>
        <p:spPr>
          <a:xfrm>
            <a:off x="4500720" y="1600200"/>
            <a:ext cx="4643280" cy="4329000"/>
          </a:xfrm>
          <a:prstGeom prst="rect">
            <a:avLst/>
          </a:prstGeom>
          <a:ln w="0">
            <a:noFill/>
          </a:ln>
        </p:spPr>
      </p:pic>
      <p:pic>
        <p:nvPicPr>
          <p:cNvPr id="343" name="صورة 4" descr="Decerbrate_posturing_1.jpg"/>
          <p:cNvPicPr/>
          <p:nvPr/>
        </p:nvPicPr>
        <p:blipFill>
          <a:blip r:embed="rId2"/>
          <a:stretch/>
        </p:blipFill>
        <p:spPr>
          <a:xfrm>
            <a:off x="285840" y="2000160"/>
            <a:ext cx="418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rebellum or ( little brain 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es movement and pos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ay role in certain kind of motor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Rate, range, force and direction of movement (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ynerg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“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amag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f cerebellum cause coordination of mov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"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visions of cerebellu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estibulocerebellum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balance and eye mo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nocerebellum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synergy of mo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ontocerebellum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s the planning and initiations of mov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sal gangl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a function of basal ganglia the role of basal ganglia is to aid or support in planning and execution of smooth mov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Parkinson dise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ow and delay of mov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0:16:51Z</dcterms:created>
  <dc:creator>user</dc:creator>
  <dc:description/>
  <dc:language>en-US</dc:language>
  <cp:lastModifiedBy>User</cp:lastModifiedBy>
  <dcterms:modified xsi:type="dcterms:W3CDTF">2012-02-20T07:07:01Z</dcterms:modified>
  <cp:revision>19</cp:revision>
  <dc:subject/>
  <dc:title>Control of posture and movement</dc:title>
</cp:coreProperties>
</file>