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7AB-D079-4D1F-90BA-73EDDBCF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23CD-06A8-4865-A119-42C5309D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23A-2A4B-4CC1-A239-FD12C443A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B7D-D83F-44DE-80DC-03B691F8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0C1C-5C45-4DB7-B2F5-100D1B9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3198-8225-48ED-9E3D-C44CB8F5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0EF7-E4EE-4F40-87DA-0D5A397B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DCB2-3945-4B48-9D43-E9D420C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C5D3-11D1-470F-8F7B-539B5A6F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455F-EDCF-4CC2-8986-23403E50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A63-EC23-497B-B60D-F50E66C4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1E7-7D38-4E3E-8BD6-CD59C6D5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DCAF-823B-43C2-9B95-7DFCDB2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AFD1-0BEF-46F0-8930-74C6502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D060-7D67-4112-BFEE-EFFAA90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D94F-5373-43A6-ADE4-1C3BAD55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F60-750F-423B-90C4-837CD4A4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4882-3AAA-4DD5-BEF1-ED75F635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F955D-A2BA-4B3F-8CCE-1177DF4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365DF-4B0A-41F6-B81B-F77EF06A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703E-E4CD-4F5F-83E6-F1D3C87D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2CD7D-F83F-4BC5-BD8E-9A71A28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8429-7EDC-4A1F-AE7A-69E3AFFE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6051-8F54-4C3D-B213-B8BF204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1076-B995-4EB8-857D-AC1DAC55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A976-2021-412F-85AE-3E31782A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5BFB-AEEC-4DE0-B66B-80E3F16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E042-59FC-4B17-A98D-E2E22309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46D4-8818-4A8D-99B6-B019C7C8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A3F41-82F2-445C-B316-9B7EEEC1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FFBCE-D497-4CDE-8C0E-8F9F0C14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A6908-068E-4B42-8678-4E268F74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CC17-C533-40A1-A93C-BE5B861D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DB2-1555-4175-BA19-6F94F38F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990C-8AB6-447B-BE26-E9222A56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A8F8-B8D0-465B-B641-E8E4CBB1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89E2-1C65-44AC-9BC4-044F0E3C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D224C-8233-48CE-A5EB-BF9E2056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01D01-BF43-41D2-B780-CF437F8E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82FD5-76EE-4793-BC28-4A5A48C6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E4E5-7625-4F88-8B4A-8F8F5149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12D2-EBBF-475F-833A-0CF6C99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17250-F169-462D-AFEF-673BF284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61BC-B305-4E6D-9BD1-E5121B055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9BEB-FD1F-42D0-B23C-FE237673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4A805-4C82-44D0-995E-7556634E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0FB9A-DD70-42A7-B24B-342F699C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466C-2040-4A78-9AFD-A52B6F75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89662-F3FA-492C-A1D3-F750751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A3D8-E06B-469A-90DB-CD61F696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113A-3B7F-46CF-80C8-B0BB72DF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E9E0C-CEF5-41F3-A9BE-AEE971D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97F0A-2277-4967-9891-B9770023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5E8D9-C5F0-4282-A547-5CAA7DF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EAE2-B1C4-4545-8CEE-36E89497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BB1-B920-438A-9499-4E65757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D1F6A-830A-4E9F-972C-E88BD389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0F625-EB44-4FE2-94D1-CBA0EB56E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EE50A-AC26-4A85-B419-2404C49D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06FEF-5B10-46CA-8766-7B643AE4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2E73-AAAF-45DF-BBF9-78844BC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AD7C-2C51-4DE4-BD20-E715CBF4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0C10-FAB4-4EEC-ABA1-65CDF94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F4BC1-BBC6-4E4B-975E-1316705A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BDAF3-7C2A-4CD5-B6F6-0CE17B4A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FE483-1530-4A16-A0D4-6D4E404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8FA-5C60-4953-AE28-D9D38915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65BD-4837-4187-B583-E8B0BE1E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7F7F-8B15-480E-9800-B457E834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DE7AE-D0C0-4A9E-A1F4-7FCE1AD2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8FB2-F24E-4946-8DEB-595E3580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0FE8D-8EFA-45B2-A7F9-E568CE7C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FB082-B0CE-4B92-B9E6-3247E63D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9E3E-9D03-4F67-8990-CD8E4BC5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24A28-6CED-49C6-ABA5-EB65C5CE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47D50-DCD9-4879-B3AC-3A915EF5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B5E26-446C-4B33-AB3F-312D6CD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D27-0EBB-44B2-B7FB-EACFCA93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E273F-DA9A-4846-BE24-71104AFA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885A-848C-476F-B60D-30CFA17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5F399-18F7-4F47-931F-E6F48AE0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21113-8051-4009-A023-C16B8C22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AF3C-D203-4F55-A261-1A777E5C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942-1B03-4DBD-B498-3BD52708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09B3-EFB1-4367-A33C-F9BDE287E091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6DD-5CEC-4B3E-9BAB-D2EAE39B974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69D6-C72E-4283-AC14-57F672A4AF5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1D8A-79CF-488A-9D80-86296B883E37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97E1-32F5-468A-89E3-112AA3E04E8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7674-85ED-48D8-BEDD-7B913481973C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858-B6D4-400F-BCE9-70EE17DC6823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428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Control of posture and move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57200" y="40719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one by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Mohamed Faleh Al-Jathlani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43010668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or corte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71360" y="1600200"/>
            <a:ext cx="76150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oluntary movement are directed by the motor cortex , and its consist of three area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nd 2 - ( area 6 ) premotor cortex and supplementary motor cort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Generating a plan of movemen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- (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a 4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)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rimary motor cortex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Execution of movemen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 for listening </a:t>
            </a:r>
            <a:r>
              <a:rPr b="0" lang="en-US" sz="4300" spc="-1" strike="noStrike">
                <a:solidFill>
                  <a:srgbClr val="572314"/>
                </a:solidFill>
                <a:latin typeface="Wingdings"/>
                <a:ea typeface="Wingdings"/>
              </a:rPr>
              <a:t>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عنصر نائب للمحتوى 3" descr="traditionalthankyou.jpg"/>
          <p:cNvPicPr/>
          <p:nvPr/>
        </p:nvPicPr>
        <p:blipFill>
          <a:blip r:embed="rId1"/>
          <a:stretch/>
        </p:blipFill>
        <p:spPr>
          <a:xfrm>
            <a:off x="1643040" y="2286000"/>
            <a:ext cx="70009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scending motor pathway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yramidal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dullary pyramid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pyramidal tra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ther central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xtrapyramidal t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928800" y="1600200"/>
            <a:ext cx="82152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ubrospinal tract             (+ Flexor )   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Stimulation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d nucleu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( 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Inhibition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Pontine reticulospinal tract                  (+ Flexor 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Pon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                             ( ++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edullary reticulosoinal tract               (- Flexor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(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edullary reticula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                      (- -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) 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سهم إلى اليمين 5"/>
          <p:cNvSpPr/>
          <p:nvPr/>
        </p:nvSpPr>
        <p:spPr>
          <a:xfrm>
            <a:off x="4000680" y="1785960"/>
            <a:ext cx="785520" cy="46080"/>
          </a:xfrm>
          <a:prstGeom prst="rightArrow">
            <a:avLst>
              <a:gd name="adj1" fmla="val 50000"/>
              <a:gd name="adj2" fmla="val 4956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سهم للأسفل 6"/>
          <p:cNvSpPr/>
          <p:nvPr/>
        </p:nvSpPr>
        <p:spPr>
          <a:xfrm>
            <a:off x="4143240" y="17859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سهم إلى اليمين 7"/>
          <p:cNvSpPr/>
          <p:nvPr/>
        </p:nvSpPr>
        <p:spPr>
          <a:xfrm>
            <a:off x="4143240" y="228600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سهم إلى اليمين 8"/>
          <p:cNvSpPr/>
          <p:nvPr/>
        </p:nvSpPr>
        <p:spPr>
          <a:xfrm>
            <a:off x="5429160" y="3143160"/>
            <a:ext cx="714600" cy="7164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سهم للأسفل 9"/>
          <p:cNvSpPr/>
          <p:nvPr/>
        </p:nvSpPr>
        <p:spPr>
          <a:xfrm>
            <a:off x="5572080" y="3214800"/>
            <a:ext cx="71640" cy="500040"/>
          </a:xfrm>
          <a:prstGeom prst="downArrow">
            <a:avLst>
              <a:gd name="adj1" fmla="val 50000"/>
              <a:gd name="adj2" fmla="val 4986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سهم إلى اليمين 10"/>
          <p:cNvSpPr/>
          <p:nvPr/>
        </p:nvSpPr>
        <p:spPr>
          <a:xfrm>
            <a:off x="5643720" y="3643200"/>
            <a:ext cx="428400" cy="71640"/>
          </a:xfrm>
          <a:prstGeom prst="rightArrow">
            <a:avLst>
              <a:gd name="adj1" fmla="val 50000"/>
              <a:gd name="adj2" fmla="val 4983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سهم إلى اليمين 11"/>
          <p:cNvSpPr/>
          <p:nvPr/>
        </p:nvSpPr>
        <p:spPr>
          <a:xfrm>
            <a:off x="5643720" y="4500720"/>
            <a:ext cx="857160" cy="71280"/>
          </a:xfrm>
          <a:prstGeom prst="rightArrow">
            <a:avLst>
              <a:gd name="adj1" fmla="val 50000"/>
              <a:gd name="adj2" fmla="val 50105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سهم للأسفل 12"/>
          <p:cNvSpPr/>
          <p:nvPr/>
        </p:nvSpPr>
        <p:spPr>
          <a:xfrm>
            <a:off x="5857920" y="4572000"/>
            <a:ext cx="46080" cy="428760"/>
          </a:xfrm>
          <a:prstGeom prst="downArrow">
            <a:avLst>
              <a:gd name="adj1" fmla="val 50000"/>
              <a:gd name="adj2" fmla="val 49625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سهم إلى اليمين 13"/>
          <p:cNvSpPr/>
          <p:nvPr/>
        </p:nvSpPr>
        <p:spPr>
          <a:xfrm>
            <a:off x="5857920" y="500076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00080" y="16002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eral vestibulospinal tract          (- Flexo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teral vestibular nucle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       ( +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enso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ctospinal           (Control of neck muscles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perior collicul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سهم إلى اليمين 3"/>
          <p:cNvSpPr/>
          <p:nvPr/>
        </p:nvSpPr>
        <p:spPr>
          <a:xfrm>
            <a:off x="6000840" y="1928880"/>
            <a:ext cx="928440" cy="71280"/>
          </a:xfrm>
          <a:prstGeom prst="rightArrow">
            <a:avLst>
              <a:gd name="adj1" fmla="val 50000"/>
              <a:gd name="adj2" fmla="val 5011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سهم للأسفل 4"/>
          <p:cNvSpPr/>
          <p:nvPr/>
        </p:nvSpPr>
        <p:spPr>
          <a:xfrm>
            <a:off x="6143760" y="2000160"/>
            <a:ext cx="46080" cy="500040"/>
          </a:xfrm>
          <a:prstGeom prst="downArrow">
            <a:avLst>
              <a:gd name="adj1" fmla="val 50000"/>
              <a:gd name="adj2" fmla="val 49586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سهم إلى اليمين 5"/>
          <p:cNvSpPr/>
          <p:nvPr/>
        </p:nvSpPr>
        <p:spPr>
          <a:xfrm>
            <a:off x="6143760" y="2500200"/>
            <a:ext cx="500040" cy="71640"/>
          </a:xfrm>
          <a:prstGeom prst="rightArrow">
            <a:avLst>
              <a:gd name="adj1" fmla="val 50000"/>
              <a:gd name="adj2" fmla="val 49861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سهم إلى اليمين 6"/>
          <p:cNvSpPr/>
          <p:nvPr/>
        </p:nvSpPr>
        <p:spPr>
          <a:xfrm>
            <a:off x="3429000" y="3643200"/>
            <a:ext cx="1000080" cy="71640"/>
          </a:xfrm>
          <a:prstGeom prst="rightArrow">
            <a:avLst>
              <a:gd name="adj1" fmla="val 50000"/>
              <a:gd name="adj2" fmla="val 49829"/>
            </a:avLst>
          </a:prstGeom>
          <a:solidFill>
            <a:srgbClr val="964305"/>
          </a:solidFill>
          <a:ln w="25560">
            <a:solidFill>
              <a:srgbClr val="6d2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Decerebrate Rigid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sion of brain stem abo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ontine reticular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teral vestibular nucleus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t below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dbrain cause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ecerebrate Rigid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*(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sion above midbrain do not cause Decerebrate Rigidti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2" name="عنصر نائب للمحتوى 3" descr="c0032335_17121769.jpg"/>
          <p:cNvPicPr/>
          <p:nvPr/>
        </p:nvPicPr>
        <p:blipFill>
          <a:blip r:embed="rId1"/>
          <a:stretch/>
        </p:blipFill>
        <p:spPr>
          <a:xfrm>
            <a:off x="4500720" y="1600200"/>
            <a:ext cx="4643280" cy="4329000"/>
          </a:xfrm>
          <a:prstGeom prst="rect">
            <a:avLst/>
          </a:prstGeom>
          <a:ln w="0">
            <a:noFill/>
          </a:ln>
        </p:spPr>
      </p:pic>
      <p:pic>
        <p:nvPicPr>
          <p:cNvPr id="343" name="صورة 4" descr="Decerbrate_posturing_1.jpg"/>
          <p:cNvPicPr/>
          <p:nvPr/>
        </p:nvPicPr>
        <p:blipFill>
          <a:blip r:embed="rId2"/>
          <a:stretch/>
        </p:blipFill>
        <p:spPr>
          <a:xfrm>
            <a:off x="285840" y="2000160"/>
            <a:ext cx="4186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rebellum or ( little brain 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es movement and pos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ay role in certain kind of motor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Rate, range, force and direction of movement (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ynerg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“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Damag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of cerebellum cause coordination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"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ivisions of cerebellu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estibul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balance and eye mo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pin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 synergy of move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ontocerebellum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trols the planning and initiations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sal gangli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a function of basal ganglia the role of basal ganglia is to aid or support in planning and execution of smooth mov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*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Parkinson dise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low and delay of move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)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20:16:51Z</dcterms:created>
  <dc:creator>user</dc:creator>
  <dc:description/>
  <dc:language>en-US</dc:language>
  <cp:lastModifiedBy>User</cp:lastModifiedBy>
  <dcterms:modified xsi:type="dcterms:W3CDTF">2012-02-20T07:07:01Z</dcterms:modified>
  <cp:revision>19</cp:revision>
  <dc:subject/>
  <dc:title>Control of posture and movement</dc:title>
</cp:coreProperties>
</file>