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411C6-5E17-4451-B442-238BCA126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8CDD3-FC1C-473C-A1A6-6CF5CA275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6B2E6-A1FE-48FE-8B72-F80751916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BF0E6-21E0-49E6-AEF3-8B9ADCEEC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A9E23-FF77-4928-9F76-22EEAD534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1B688-175F-4478-B26D-975FBDA3E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98DEC-611C-41E5-9605-F110135B4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A887B-49AE-47E0-BE8C-F83D10168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F11F8-2686-4E76-8096-A266DD1CF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27B11-64C8-442B-97E3-6E4BA74EB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A1BC6-1904-4836-8F59-ABC9359CE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81496-02CE-4391-8648-75231FADF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A235A-65B7-4E32-B17A-D3BEEC31A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876F7-3719-4E13-9AB6-F0AF3D49E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752E6-62C3-4AC2-AAD0-9055CDA70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BEA89-7344-40B9-A81C-60620D64D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3FF8F-F88D-46C6-A592-08E3D2BA7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E72C2D-7D72-4735-8805-FA7249AC0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CAD893-5E22-41E5-8AE8-96D5A188C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40774A-86D1-478A-BDF3-EE2E3B0B3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A4444B-9C59-4D48-8889-217CB4C10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15315A-2187-4B17-BC41-6E41647F6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0E13B-2C2C-45B8-B44E-4045AE730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CDB993-FE9A-4AD4-812A-CC93E9A1C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80AEB6-9471-49C2-AE05-05605FC20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0349E8-4229-4020-AEBD-CCD844EDC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0A3473-E0A7-4120-B935-F7E81EAFC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8EE6D5-7AE5-4186-9076-9ABA9F05E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746CF4-9D4F-4B37-A360-F82B00695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214D24-06A8-4748-97C5-990E99EEC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B1ECF4-2C9B-4B06-A733-427AFC89A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32CB29-3DEF-4AA4-8482-5A30DDC7D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3885BC-30F0-435E-9B5A-96A085957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4C49C-D83B-476A-BED9-C26D5778A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034AF7-D296-49CC-8D94-6E4594C09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5147AB-66C9-4923-B9BF-7F2E83985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DEA6E7-BA21-4335-BB26-735BA4409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7096AC-D8A1-4AA5-B797-E6DE641AE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AA5EAA-9975-4A1A-832E-5FB8A3F9A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611C4C-3564-46E9-A5EF-A1DFD218A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E216A2-ABC3-43EA-9EC9-ADFD16C3C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3D55EB-95E3-4AFD-8BD1-5224B4234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DA3A78-3EF0-44BC-8C6E-41359EB74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CAE823-D548-4F00-A5F9-C74D90084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0B4F9-165C-43E1-B6A5-2BDF6A297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75C64B-4BD1-4BE0-9965-E718A03F9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101AF1-12BF-4D8C-B3EC-B835EEAC9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A47907-EED1-46C9-B17C-F80EDEB35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11BFF0-2445-4025-97FE-CA5A9C804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0241B8-8353-4145-86F9-093768935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D10DAA-5119-451A-8FA9-B8CD8899E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92328D-C55B-4C94-94AA-8A8BFB47F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5F9B8E-85E0-4D9B-8F20-296D82E94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EBE1DA-C101-4075-895B-6F9572D8B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B50E55-3AA3-43BB-956D-6621B6C38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D8B14-DFAC-471E-99E6-FFC9F792F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AAB96E-B8E9-4C6F-9711-7743BAACE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33C504-81FD-4916-A081-C7A42D248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BD91D0-A4C2-4CC2-AC88-0271DFE87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BFE50A-E145-45AC-89D7-D4B256B93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ED36D2-FB3A-4877-873E-8703A5DCC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BA4FFD-E421-4F34-AFA9-BB93F9488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423336-E945-4E5F-B31B-494CCFDB5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D59647-4088-4709-95C8-733D6FA9A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790CFD-BF9C-469F-8825-407166767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D4892D-D1C8-4749-A572-B13AA9346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26B20-6C2E-4A5A-96E8-B6BCFC4AB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3A0D5F-E82A-48E0-BA1A-9954C153E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66711D-F29E-4DD5-94C0-B77422140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258A9B-83B2-48F9-98D2-F85A7DEC2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DF6EF9-0206-494D-BDCB-63F688E11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39A232-9CA1-40B9-BD35-7160795B2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C4984A-DCAE-4257-88FE-02FE72B31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5900E4-1DA2-4637-A806-A4DAE71E7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56ECDE-88BC-4FAE-A574-5FF894126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B052CD-0505-4FC6-B036-1247EAD79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198E29-2F45-4C1E-AD7F-E76129FF8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FFFAA-E027-411F-96D7-4987F124A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86AB14-C055-4507-9D9F-476AF9679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1A6D7A-4F0E-4D36-8E13-B93EA65C5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CB1DBD-6B3A-4FF1-96B4-3C95EBB60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5AC54F-597F-4AC1-AFF4-091C2E0E7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9AAF4A-9A8F-47A2-BA5A-660814E8A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9AD15F-61CD-494E-A544-AC76E2AC6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C3EC7C-CF71-4EA6-B14F-68A241427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5665C2-F7E1-4B54-8DC7-3ED97C578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B76278-E0DA-4E0A-A0E0-F061289F3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E4AB4E-0DDC-4B57-8401-374C8BA07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B5582-BDF5-4907-BA97-73CF544F3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50831E-4B9A-435D-A632-C3F0B916F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97DEFE-6504-4436-92B2-DFC046F14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D9FA72-4501-4D34-B6C8-DA3458F78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AC9DC4-AAD8-42EF-B1CD-D69815CDE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17C48C-2158-4DF5-A621-0E15E0B88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432849-8FF2-455F-AF40-02092FF10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AF7F3F-03CD-4D50-A4EC-5EF18FB24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 algn="r" rtl="1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 algn="r" rtl="1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 algn="r" rtl="1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 algn="r" rtl="1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DE15F-A807-4C77-B4FF-2D22B078BD7B}" type="slidenum">
              <a:rPr b="0" lang="ar-SA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رابط مستقيم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رابط مستقيم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مثلث متساوي الساقين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مستطيل 20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مستطيل 32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مستطيل 21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مستطيل 31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 algn="r" rtl="1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 algn="r" rtl="1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 algn="r" rtl="1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 algn="r" rtl="1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4C4C5-E669-4F0E-95D2-D8AEC5AC9004}" type="slidenum">
              <a:rPr b="0" lang="ar-SA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مستطيل 6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مستطيل 7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 algn="r" rtl="1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 algn="r" rtl="1">
              <a:spcBef>
                <a:spcPts val="601"/>
              </a:spcBef>
              <a:buClr>
                <a:srgbClr val="00000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 algn="r" rtl="1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 algn="r" rtl="1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 algn="r" rtl="1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 algn="r" rtl="1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dde9e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3158D-F9FF-4C65-AB5A-9CF2F0BCD139}" type="slidenum">
              <a:rPr b="0" lang="ar-SA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رابط مستقيم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3" name="رابط مستقيم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مثلث متساوي الساقين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5" name="مثلث متساوي الساقين 5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 algn="r" rtl="1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 algn="r" rtl="1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 algn="r" rtl="1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 algn="r" rtl="1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57C1D-BBCA-4AD9-8C72-3EC3328F4684}" type="slidenum">
              <a:rPr b="0" lang="ar-SA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رابط مستقيم 4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مثلث متساوي الساقين 5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 algn="r" rtl="1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 algn="r" rtl="1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 algn="r" rtl="1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 algn="r" rtl="1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E4C9A-C576-4A63-BD99-EA6A3C558122}" type="slidenum">
              <a:rPr b="0" lang="ar-SA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رابط مستقيم 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رابط مستقيم 9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مثلث متساوي الساقين 8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 algn="r" rtl="1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 algn="r" rtl="1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 algn="r" rtl="1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 algn="r" rtl="1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99604-35FA-4DF9-8283-C1ACE6AD8D64}" type="slidenum">
              <a:rPr b="0" lang="ar-SA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رابط مستقيم 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5" name="مثلث متساوي الساقين 8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6" name="مستطيل 9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 algn="r" rtl="1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 algn="r" rtl="1">
              <a:spcBef>
                <a:spcPts val="601"/>
              </a:spcBef>
              <a:buClr>
                <a:srgbClr val="00000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 algn="r" rtl="1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 algn="r" rtl="1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 algn="r" rtl="1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 algn="r" rtl="1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dde9e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9C616-77F6-447E-A86E-1BE27AE1687C}" type="slidenum">
              <a:rPr b="0" lang="ar-SA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رابط مستقيم 6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مثلث متساوي الساقين 7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رابط مستقيم 8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 algn="r" rtl="1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 algn="r" rtl="1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 algn="r" rtl="1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 algn="r" rtl="1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0D7D3-64B3-49DE-9180-D7F22E3FBA99}" type="slidenum">
              <a:rPr b="0" lang="ar-SA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Bookman Old Style"/>
              </a:rPr>
              <a:t>Count and Noncount Nouns</a:t>
            </a:r>
            <a:r>
              <a:rPr b="0" lang="en-US" sz="3200" spc="-1" strike="noStrike">
                <a:solidFill>
                  <a:srgbClr val="00b050"/>
                </a:solidFill>
                <a:latin typeface="Bookman Old Style"/>
              </a:rPr>
              <a:t> 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subTitle"/>
          </p:nvPr>
        </p:nvSpPr>
        <p:spPr>
          <a:xfrm>
            <a:off x="1219320" y="512424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2000" spc="-1" strike="noStrike">
              <a:solidFill>
                <a:srgbClr val="464653"/>
              </a:solidFill>
              <a:latin typeface="Bookman Old Style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rtl="1">
              <a:spcBef>
                <a:spcPts val="601"/>
              </a:spcBef>
              <a:buClr>
                <a:srgbClr val="727ca3"/>
              </a:buClr>
              <a:buSzPct val="76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c120"/>
                </a:solidFill>
                <a:latin typeface="Gill Sans MT"/>
              </a:rPr>
              <a:t>Not any </a:t>
            </a: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before noncount and plural count nouns means </a:t>
            </a:r>
            <a:r>
              <a:rPr b="0" lang="en-US" sz="3600" spc="-1" strike="noStrike">
                <a:solidFill>
                  <a:srgbClr val="528693"/>
                </a:solidFill>
                <a:latin typeface="Gill Sans MT"/>
              </a:rPr>
              <a:t>no</a:t>
            </a:r>
            <a:r>
              <a:rPr b="0" lang="en-US" sz="3600" spc="-1" strike="noStrike">
                <a:solidFill>
                  <a:srgbClr val="528693"/>
                </a:solidFill>
                <a:latin typeface="Gill Sans MT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rtl="1">
              <a:spcBef>
                <a:spcPts val="601"/>
              </a:spcBef>
              <a:buClr>
                <a:srgbClr val="727ca3"/>
              </a:buClr>
              <a:buSzPct val="76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rtl="1">
              <a:spcBef>
                <a:spcPts val="601"/>
              </a:spcBef>
              <a:buClr>
                <a:srgbClr val="727ca3"/>
              </a:buClr>
              <a:buSzPct val="76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For example</a:t>
            </a: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: 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rtl="1">
              <a:spcBef>
                <a:spcPts val="601"/>
              </a:spcBef>
              <a:buClr>
                <a:srgbClr val="727ca3"/>
              </a:buClr>
              <a:buSzPct val="76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There are</a:t>
            </a:r>
            <a:r>
              <a:rPr b="0" lang="en-US" sz="3600" spc="-1" strike="noStrike">
                <a:solidFill>
                  <a:srgbClr val="f7c120"/>
                </a:solidFill>
                <a:latin typeface="Gill Sans MT"/>
              </a:rPr>
              <a:t>n’t</a:t>
            </a: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3600" spc="-1" strike="noStrike">
                <a:solidFill>
                  <a:srgbClr val="f7c120"/>
                </a:solidFill>
                <a:latin typeface="Gill Sans MT"/>
              </a:rPr>
              <a:t>any</a:t>
            </a: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 potatoes= There are </a:t>
            </a:r>
            <a:r>
              <a:rPr b="0" lang="en-US" sz="3600" spc="-1" strike="noStrike">
                <a:solidFill>
                  <a:srgbClr val="528693"/>
                </a:solidFill>
                <a:latin typeface="Gill Sans MT"/>
              </a:rPr>
              <a:t>no</a:t>
            </a: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 potatoes</a:t>
            </a: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. 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2000"/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2000"/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2000"/>
                                        <p:tgtEl>
                                          <p:spTgt spid="3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4e9af"/>
                </a:solidFill>
                <a:latin typeface="Bookman Old Style"/>
              </a:rPr>
              <a:t>Nouns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61720" indent="-2617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c120"/>
                </a:solidFill>
                <a:latin typeface="Gill Sans MT"/>
              </a:rPr>
              <a:t>Count nouns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: English speakers use them for things with numbers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r example, one egg, five cups or three meals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Gill Sans MT"/>
              </a:rPr>
              <a:t>Noncount nouns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: Speakers may talk about amounts of these items but not numbers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r example, a lot of food, a little water and some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advice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pic>
        <p:nvPicPr>
          <p:cNvPr id="357" name="Picture 2" descr="C:\Users\Sara aldawood\Desktop\z.jpg"/>
          <p:cNvPicPr/>
          <p:nvPr/>
        </p:nvPicPr>
        <p:blipFill>
          <a:blip r:embed="rId1"/>
          <a:stretch/>
        </p:blipFill>
        <p:spPr>
          <a:xfrm>
            <a:off x="5429160" y="2428920"/>
            <a:ext cx="2390760" cy="191448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3" descr="C:\Users\Sara aldawood\Desktop\thomasville-chair-1109-de.jpg"/>
          <p:cNvPicPr/>
          <p:nvPr/>
        </p:nvPicPr>
        <p:blipFill>
          <a:blip r:embed="rId2"/>
          <a:stretch/>
        </p:blipFill>
        <p:spPr>
          <a:xfrm>
            <a:off x="2000160" y="1857240"/>
            <a:ext cx="229248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c120"/>
                </a:solidFill>
                <a:latin typeface="Bookman Old Style"/>
              </a:rPr>
              <a:t>Count Nouns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462960" indent="-462960">
              <a:spcBef>
                <a:spcPts val="601"/>
              </a:spcBef>
              <a:buClr>
                <a:srgbClr val="727ca3"/>
              </a:buClr>
              <a:buSzPct val="76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ount nouns have </a:t>
            </a:r>
            <a:r>
              <a:rPr b="0" lang="en-US" sz="3200" spc="-1" strike="noStrike">
                <a:solidFill>
                  <a:srgbClr val="c00000"/>
                </a:solidFill>
                <a:latin typeface="Gill Sans MT"/>
              </a:rPr>
              <a:t>both singular and plural forms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462960" indent="-462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1 meal    3 meals  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462960" indent="-462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2. They can have </a:t>
            </a:r>
            <a:r>
              <a:rPr b="0" lang="en-US" sz="3200" spc="-1" strike="noStrike">
                <a:solidFill>
                  <a:srgbClr val="c00000"/>
                </a:solidFill>
                <a:latin typeface="Gill Sans MT"/>
              </a:rPr>
              <a:t>a/an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before them </a:t>
            </a:r>
            <a:r>
              <a:rPr b="0" lang="en-US" sz="3200" spc="-1" strike="noStrike">
                <a:solidFill>
                  <a:srgbClr val="c00000"/>
                </a:solidFill>
                <a:latin typeface="Gill Sans MT"/>
              </a:rPr>
              <a:t>(singular nouns only)  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462960" indent="-462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Gill Sans MT"/>
              </a:rPr>
              <a:t>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a chair     an egg   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462960" indent="-462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3. Most plural count noun </a:t>
            </a:r>
            <a:r>
              <a:rPr b="0" lang="en-US" sz="3200" spc="-1" strike="noStrike">
                <a:solidFill>
                  <a:srgbClr val="c00000"/>
                </a:solidFill>
                <a:latin typeface="Gill Sans MT"/>
              </a:rPr>
              <a:t>have an s/es endings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462960" indent="-462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restaurants     eggs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462960" indent="-462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             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3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3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3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pic>
        <p:nvPicPr>
          <p:cNvPr id="362" name="Picture 2" descr="C:\Users\Sara aldawood\Desktop\sugar.jpg"/>
          <p:cNvPicPr/>
          <p:nvPr/>
        </p:nvPicPr>
        <p:blipFill>
          <a:blip r:embed="rId1"/>
          <a:stretch/>
        </p:blipFill>
        <p:spPr>
          <a:xfrm>
            <a:off x="5643720" y="2428920"/>
            <a:ext cx="2152440" cy="212400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3" descr="C:\Users\Sara aldawood\Desktop\Healthy-Oils.jpg"/>
          <p:cNvPicPr/>
          <p:nvPr/>
        </p:nvPicPr>
        <p:blipFill>
          <a:blip r:embed="rId2"/>
          <a:stretch/>
        </p:blipFill>
        <p:spPr>
          <a:xfrm>
            <a:off x="1144440" y="2286000"/>
            <a:ext cx="353088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c120"/>
                </a:solidFill>
                <a:latin typeface="Bookman Old Style"/>
              </a:rPr>
              <a:t>Noncount Nouns</a:t>
            </a:r>
            <a:r>
              <a:rPr b="0" lang="en-US" sz="3200" spc="-1" strike="noStrike">
                <a:solidFill>
                  <a:srgbClr val="f7c120"/>
                </a:solidFill>
                <a:latin typeface="Bookman Old Style"/>
              </a:rPr>
              <a:t> 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spcBef>
                <a:spcPts val="601"/>
              </a:spcBef>
              <a:buClr>
                <a:srgbClr val="727ca3"/>
              </a:buClr>
              <a:buSzPct val="76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Noncount nouns </a:t>
            </a:r>
            <a:r>
              <a:rPr b="0" lang="en-US" sz="2600" spc="-1" strike="noStrike">
                <a:solidFill>
                  <a:srgbClr val="c00000"/>
                </a:solidFill>
                <a:latin typeface="Gill Sans MT"/>
              </a:rPr>
              <a:t>are always singular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,</a:t>
            </a:r>
            <a:r>
              <a:rPr b="0" lang="en-US" sz="2600" spc="-1" strike="noStrike">
                <a:solidFill>
                  <a:srgbClr val="c00000"/>
                </a:solidFill>
                <a:latin typeface="Gill Sans MT"/>
              </a:rPr>
              <a:t> they have no plural form (no –s/-es) endings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       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butter     juice     salt    water    sugar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2. Most noncount nouns name an item made up of smaller or different parts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                     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jewellery   traffic 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3. Some noncount nouns name </a:t>
            </a:r>
            <a:r>
              <a:rPr b="0" lang="en-US" sz="2600" spc="-1" strike="noStrike">
                <a:solidFill>
                  <a:srgbClr val="c00000"/>
                </a:solidFill>
                <a:latin typeface="Gill Sans MT"/>
              </a:rPr>
              <a:t>abstract things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uch as ideas, feelings and concepts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                         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reedom   anger   advice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3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3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3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Bookman Old Style"/>
              </a:rPr>
              <a:t>Some  &amp; Any</a:t>
            </a:r>
            <a:r>
              <a:rPr b="0" lang="en-US" sz="3200" spc="-1" strike="noStrike">
                <a:solidFill>
                  <a:srgbClr val="7030a0"/>
                </a:solidFill>
                <a:latin typeface="Bookman Old Style"/>
              </a:rPr>
              <a:t> 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spcBef>
                <a:spcPts val="601"/>
              </a:spcBef>
              <a:buClr>
                <a:srgbClr val="727ca3"/>
              </a:buClr>
              <a:buSzPct val="76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ome and any are used to </a:t>
            </a:r>
            <a:r>
              <a:rPr b="0" lang="en-US" sz="3200" spc="-1" strike="noStrike">
                <a:solidFill>
                  <a:srgbClr val="c00000"/>
                </a:solidFill>
                <a:latin typeface="Gill Sans MT"/>
              </a:rPr>
              <a:t>describe “an unspecified amount or number.”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ome advice   any plate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2. They can appear </a:t>
            </a:r>
            <a:r>
              <a:rPr b="0" lang="en-US" sz="3200" spc="-1" strike="noStrike">
                <a:solidFill>
                  <a:srgbClr val="c00000"/>
                </a:solidFill>
                <a:latin typeface="Gill Sans MT"/>
              </a:rPr>
              <a:t>before both count and noncount nouns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ome milk    some chairs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3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Bookman Old Style"/>
              </a:rPr>
              <a:t>Some</a:t>
            </a:r>
            <a:r>
              <a:rPr b="0" lang="en-US" sz="3200" spc="-1" strike="noStrike">
                <a:solidFill>
                  <a:srgbClr val="7030a0"/>
                </a:solidFill>
                <a:latin typeface="Bookman Old Style"/>
              </a:rPr>
              <a:t> 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Use some 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</a:rPr>
              <a:t>in affirmative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tatements and questions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Please buy some napkins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Do you have some shopping bags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3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Bookman Old Style"/>
              </a:rPr>
              <a:t>Any</a:t>
            </a:r>
            <a:r>
              <a:rPr b="0" lang="en-US" sz="3200" spc="-1" strike="noStrike">
                <a:solidFill>
                  <a:srgbClr val="7030a0"/>
                </a:solidFill>
                <a:latin typeface="Bookman Old Style"/>
              </a:rPr>
              <a:t> 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Use any in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</a:rPr>
              <a:t> negative statements: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         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ere aren’t any plates on the table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Use any in 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</a:rPr>
              <a:t>affirmative and negative questions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Do you have any pots in your kitchen?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isn’t there any fish?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2000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2000"/>
                                        <p:tgtEl>
                                          <p:spTgt spid="3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2000"/>
                                        <p:tgtEl>
                                          <p:spTgt spid="3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2000"/>
                                        <p:tgtEl>
                                          <p:spTgt spid="3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3T08:23:19Z</dcterms:created>
  <dc:creator>Sara aldawood</dc:creator>
  <dc:description/>
  <dc:language>en-US</dc:language>
  <cp:lastModifiedBy>sony</cp:lastModifiedBy>
  <dcterms:modified xsi:type="dcterms:W3CDTF">2012-04-11T17:25:33Z</dcterms:modified>
  <cp:revision>6</cp:revision>
  <dc:subject/>
  <dc:title>Count and Noncount Nouns</dc:title>
</cp:coreProperties>
</file>