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C63-2B22-4DED-A3B2-F42B8936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17C-25D3-4FC0-8617-B950B894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1A5-BAE4-4443-8D73-EE5715A3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2CF-FA3D-41C0-AF16-57643DC7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E557-B24F-41F7-B2E6-A13B6A80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CA47-FA64-470F-A0A1-6EB85E49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A650-E01F-4ECD-B7A1-CA4B03F4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F446-89D8-41E8-A1F4-284CACEA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FBFA-EAD9-4EFF-B092-6CDCDC41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D847-3085-411E-8328-D84A2389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BC6C-C7C8-4FDA-A903-6748A592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023-E884-41A6-8069-FD3E3E80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D667-0D8F-4E6E-9107-3142EED5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16C7-B371-483E-8248-A3AE653D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272D-3FF9-463E-BC38-0C49FD23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D776-C6EC-48DB-8CA6-D5C78898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4592-EEF0-47F2-B340-33C9EADC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F310-A263-45BB-A126-0EAB57D1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5BFF6-37FE-42A9-9CA7-549189BD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CD52F-A17F-4794-A575-E21FE6A0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4CF89-19F7-4789-B68C-73E9DE55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B3FC3-94B3-452C-B69C-9C75CDF7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41B1-3B31-4E87-BFBC-13D8B936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BA1D9-F904-426F-BE7F-707B6BE7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B684A-01B0-4675-8C4A-5D32CC2C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FC1B5-381C-449B-9D41-40E3BE92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D72E9-236E-409F-94D7-551DBB95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7932-DDDB-4F01-A3B7-4657CEBC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6EBBB-9837-4448-9EE5-B75FD8A7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B2A69-A214-4CBC-8A67-28192A38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2CAD4-3A65-4921-BB0C-660F454D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657C7-0AC6-44BA-BA69-343ECAEC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AC1F2-4EDB-4BEE-9EA9-98D40C50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BBD2-25AA-4372-86DF-2DDFF3F1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E7774-E19E-4B47-B09F-DA2FD201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F6005-B124-4D05-A78A-CC53B89D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748D0-0140-47FC-AAE2-C4F5A31F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69DBD-0DA3-4D8D-BA64-B61B6CA1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B226E-230E-41FC-A84C-6D2B85DD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07DA2-6305-4B73-AB5A-8C32777E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5A451-9412-4F1E-8115-610F3331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35195-2A25-40C2-A6D9-820F7CF6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0DE4B-FFA1-40FA-B686-032BDF1F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92A31-51EA-4028-8043-D1AE236A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774-61DE-4352-A477-E92C96DA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3A730-6EF1-4F0A-8DA7-EFD586B5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5B55F-B56C-4910-8212-A4A705F1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B9DEA-A080-4B1F-B3F0-BA81D89C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3DC8D-13E3-4406-8DAF-700E4293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EB02C-40FB-4571-AE7F-84061C1D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9B849-782E-419B-8E3E-AEEFF25F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C01C9-9745-43E9-994F-8EE2742E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71AFB-BC68-46E5-A2F5-A77F48E4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08439-6221-424B-A7B7-7C7A1633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D47F9-1B16-4EFA-8A97-C94E087F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E242-67CB-46C9-893D-422DBBBB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AFF4D-E7FA-4DE0-B86A-E651C653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C235F-2516-4D1C-AA82-EA5D04EE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4306E-7083-4A2C-8B93-FAE74ACF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7F067-406A-4BEF-8287-0872C865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B376D-E6E9-4830-922E-F701C6DC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C49CB-C4A4-4FE9-8E6D-8799020F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E953E-E257-452A-80EB-DA7D5B2F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2D18B-5BB7-4133-BBF2-0760D6EC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00DA5-2D0F-468F-BA42-477CAB9F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EA2BB-8F8E-4E6B-AF4A-F8DAC2F1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FAF-EE30-4084-826D-D3022FB5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A1B50-22EB-43D8-BF28-4A3C1688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97E24-24CC-4D51-948C-B9B5477C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BB57F-ECE9-4682-8B99-A13E3410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F7FE8-3389-4956-BD2A-E77F81D5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0139D-2CF1-40F0-A765-1ED82168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62B66-A48D-4E2B-BE20-F5A92990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56F57-4454-482F-B13B-BFAD1D13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E8DDD-A266-4F4F-870A-116C6C95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52538-7A11-4E29-8589-74E14026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EC764-DB56-4DEE-9B08-72005F57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8464-8E98-4FA1-AF23-4079D137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51982-F7F2-4651-86BB-605B617E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16110-5B09-4DB9-A996-DF17C691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92653-FD4F-4FDE-9EA2-F4C5220E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5F85E-4E33-41ED-9C41-29144452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844FC-ABA0-47F1-B0B7-CB9174C0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84C90-6FAD-4FCC-A52B-504D07B3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BE883-0A6D-4308-B4C7-B8777806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0C42B-F526-43F0-ACD1-A3357C1A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4F8E6-5F16-4166-A11B-A05C830E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6A229-3E50-4C32-8050-CA3E31F3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752-B715-4DC1-ADE9-7169949E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E4BC9-492E-4B77-8957-3987E09C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0D5E4-DE2F-40FF-80E4-97D11AD1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2029B-6880-4404-895F-C237D0DE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EC4C4-C6C2-485B-ABED-B58C4710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DE3DB-441F-4DD5-B19E-2A4FB2FB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077BE-44C3-4CD8-8C4E-5C4473E9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4790C-85C6-47E7-95EF-1EA5141E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2A69-9D54-4FCC-B898-4CCF2EAFE810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مستطيل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مستطيل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مستطيل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7B4B-9830-4467-9E4B-EE4DA3343CBE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مستطيل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E746-B7EA-45F7-A28E-FE8D995D4A9C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0810-03DF-4285-9621-B6DFDCDC965B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2D00-C283-4CCE-8392-CE126DE93A41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رابط مستقيم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ED0A-82F3-4A97-894B-B43C56CDB893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مستطيل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7730-84CB-474D-92E3-A2D213C6B04A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مثلث متساوي الساقين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رابط مستقيم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EF98-B592-4B57-9537-FF56A6CC7240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Count and Noncount Nouns</a:t>
            </a: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Not any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efore noncount and plural count nouns means 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no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example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re are</a:t>
            </a: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n’t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potatoes= There are 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potatoe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9af"/>
                </a:solidFill>
                <a:latin typeface="Bookman Old Style"/>
              </a:rPr>
              <a:t>Nou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Gill Sans MT"/>
              </a:rPr>
              <a:t>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English speakers use them for things with numb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example, one egg, five cups or three meal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Gill Sans MT"/>
              </a:rPr>
              <a:t>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Speakers may talk about amounts of these items but not numb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example, a lot of food, a little water and som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vic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57" name="Picture 2" descr="C:\Users\Sara aldawood\Desktop\z.jpg"/>
          <p:cNvPicPr/>
          <p:nvPr/>
        </p:nvPicPr>
        <p:blipFill>
          <a:blip r:embed="rId1"/>
          <a:stretch/>
        </p:blipFill>
        <p:spPr>
          <a:xfrm>
            <a:off x="5429160" y="24289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C:\Users\Sara aldawood\Desktop\thomasville-chair-1109-de.jpg"/>
          <p:cNvPicPr/>
          <p:nvPr/>
        </p:nvPicPr>
        <p:blipFill>
          <a:blip r:embed="rId2"/>
          <a:stretch/>
        </p:blipFill>
        <p:spPr>
          <a:xfrm>
            <a:off x="2000160" y="1857240"/>
            <a:ext cx="22924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Count Nou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unt nouns have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both singular and plural form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 meal    3 meals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They can have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a/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efore them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(singular nouns only)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chair     an egg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Most plural count noun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have an s/es ending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taurants     egg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2" name="Picture 2" descr="C:\Users\Sara aldawood\Desktop\sugar.jpg"/>
          <p:cNvPicPr/>
          <p:nvPr/>
        </p:nvPicPr>
        <p:blipFill>
          <a:blip r:embed="rId1"/>
          <a:stretch/>
        </p:blipFill>
        <p:spPr>
          <a:xfrm>
            <a:off x="5643720" y="2428920"/>
            <a:ext cx="2152440" cy="2124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C:\Users\Sara aldawood\Desktop\Healthy-Oils.jpg"/>
          <p:cNvPicPr/>
          <p:nvPr/>
        </p:nvPicPr>
        <p:blipFill>
          <a:blip r:embed="rId2"/>
          <a:stretch/>
        </p:blipFill>
        <p:spPr>
          <a:xfrm>
            <a:off x="1144440" y="2286000"/>
            <a:ext cx="3530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Noncount Nouns</a:t>
            </a: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ncount nouns 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are always singula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 they have no plural form (no –s/-es) ending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ter     juice     salt    water    suga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. Most noncount nouns name an item made up of smaller or different par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ewellery   traffic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. Some noncount nouns name 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abstract thing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ch as ideas, feelings and concep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reedom   anger   advi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Some  &amp; Any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and any are used to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describe “an unspecified amount or number.”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advice   any pla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They can appear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before both count and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milk    some chai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Some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som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n affirmativ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tements and questio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ease buy some napki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you have some shopping bag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Any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ny in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negative statement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n’t any plates on the tab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ny in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ffirmative and negative questio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you have any pots in your kitchen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n’t there any fish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8:23:19Z</dcterms:created>
  <dc:creator>Sara aldawood</dc:creator>
  <dc:description/>
  <dc:language>en-US</dc:language>
  <cp:lastModifiedBy>sony</cp:lastModifiedBy>
  <dcterms:modified xsi:type="dcterms:W3CDTF">2012-04-11T17:25:33Z</dcterms:modified>
  <cp:revision>6</cp:revision>
  <dc:subject/>
  <dc:title>Count and Noncount Nouns</dc:title>
</cp:coreProperties>
</file>