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B69A-5597-49BB-AF20-D1AEBFC1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DA3-1947-497F-84C8-C438376D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6942-23F9-4B7C-8709-9CC0B804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7A71-C4D4-41FE-81EF-C64C05EF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F638-2960-472F-A51B-6BB7C727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C287-D421-433B-A153-A4561BFF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440B-8FC6-44E9-9776-307DD33C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26B7-B0A5-4382-86D7-92A1F817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A1A4-D959-4E57-B8A4-06F57CBB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3551-5CCA-40A8-B063-95620EDC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830B-4487-4097-9881-1E2B7AD7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FF1-30D3-4F68-B187-EDD4981D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9E97-7F53-4EAF-B768-42A5AA8C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2B05-469F-4AB0-9BDF-880D4076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70D7-2B34-4460-A5B6-C4232D39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68BF-E798-41E8-810D-0110722C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FEE0-6028-4D37-A58B-4421F69C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42633-A272-4B7E-94F5-B70570C3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7B123-52DF-4662-A7AE-D08543B3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5AEDF-CCBA-4146-A9B7-84CBE737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B5A02-B7F9-4AC7-9688-53E94533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EA137-4BFA-4D11-8998-46885049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BB52-3707-4D02-B1E4-E0F2BF09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D70C0-E135-41B2-A0B1-57212C51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D0BDB-EDFC-4232-B8BD-9C458E4F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6E126-CB9A-43BC-832E-1C208089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88003-5050-4479-986C-F22CB671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0E284-673E-480D-80D7-9C0D8249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209FC-5F7B-4313-A279-596E29AA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EB757-4851-4AF8-A88E-45A34347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FC7D9-D9C0-4D14-932C-04415489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08E19-EBE0-4A58-9EBC-0448A095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A93E8-0CC8-4356-8A31-51E94AFE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F45C-EB88-49F3-8DE2-B062A9B4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20A15-947C-4AC0-932A-69B342FF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F2549-CD33-4643-AB61-6F2D7C99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445CF-7DCA-4ED6-BAB3-C71B5CA4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B45AC-545A-4404-8264-D4C958CA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862F7-9161-4117-AF15-4B4D3BCE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56E29-C48A-426E-A3AD-B99E2DB5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AFF05-BC4D-4A3F-9A8C-01E4D274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CCDC7-4844-4052-BE81-3F9D8924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46099-57F8-4853-BB77-C677EE88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A6594-8D99-4C6A-9AD0-431E43C8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C83-C765-457C-BBCC-4D42374C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04AB8-B4AF-4AA7-BBCB-87E27126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A3855-8166-4BD2-812D-66162E39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E20E4-8778-4542-8072-0B8F7093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01AD8-2876-4B83-8E5C-F3CDE8B2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3C797-5A8C-4A5A-8D61-14F5029C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BF83C-FA39-457C-A845-8320BD98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F9AB6-5E86-47FD-8F9E-0526B855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6ACD7-96AD-4B74-A09D-1AE11E7C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0A7E4-A5E5-432B-91E1-25A90017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ABAF2-D01C-473A-931D-3198FE27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BDF-FCBB-45E0-9440-6582F9BB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53631-77CD-4A42-A3D2-224C3CBA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C09CA-4A92-4F63-B31E-C350AACB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845EC-56DE-4462-8D57-4DC4BE36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6A515-14CC-41B4-964E-DCE6465E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FB96E-52FA-4A52-B483-C0C37913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7AA3B-9E11-4775-99E3-A3E988D0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076A9-633D-4625-B14E-DABAA215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A9C92-5C68-427E-98B0-3B38BDD9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6F252-5967-456F-BC70-6241FB46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147D3-2ABB-4BBD-9036-8B8F78C7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5E6-BDE4-4100-AA83-BB5D27AE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B45A0-C5A7-456B-A713-4B14E40C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0E5F1-D4D0-4637-AB04-BED59703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6159F-26DD-4163-8DE9-F71B5880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C347A-7FE9-4DE0-9FB1-AB719EB6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B4C31-EC40-4651-9A70-C22806D4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3AB60-0201-4E8D-ACA4-88E6492A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46BE6-6689-4E16-B17B-238C870E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FA7CB-8876-48AD-803E-4495479F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FC38A-1B2B-43A6-9D82-B8D98DEC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7FBFC-540C-4381-9ADE-75872187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F656-C294-475B-ACD8-64EC0A32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54D64-543C-4902-BA2F-057C6053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841D1-A18C-4601-9FCD-8AD06E56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D123A-179A-48E2-89A3-A11CB7C4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FAA85-ED1B-467C-AAE7-651B0D7A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72C9C-EB7B-4085-83EF-EE5278DC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9766D-2EB9-4F41-B210-C27B01F8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947D5-5A8E-4154-9711-1F74CA2C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64B4E-F05F-44DE-9C44-1ED95C4A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FEECD-3A7D-4FA7-84E0-F9415D65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E10DF-9AA2-45A3-B2D6-B34541AD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8D02-456A-4D3E-B6F1-690B4984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EE5FF-0821-4155-B792-F8638A33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51ED3-CA7D-4F40-9FBF-96AF11D3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F252A-89D1-45C7-91DC-A58BF548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43209-BA36-4FA5-9CB2-44BE0067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813A9-470E-43F8-8981-D7A906C7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4E3B6-16E4-440B-9C18-C6E640E8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721E7-5471-45AC-A3E7-CBB02AF0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8F78-C4B0-49DD-8A89-EFCD412EF5B0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مستطيل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مستطيل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مستطيل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183C-7518-4804-AB46-513607B92BD7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مستطيل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C51C-80AB-44DE-BBB3-6482B0B2AB1B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مثلث متساوي الساقين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4037-2715-403C-85F7-14B59ECAC7A1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مثلث متساوي الساقين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EC74-E3BA-470C-AA8B-4F2D6E17A61F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رابط مستقيم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مثلث متساوي الساقين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BCE5-CD1E-41E6-B862-A2D6416A5317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مثلث متساوي الساقين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مستطيل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200E-1AC9-4A78-B8A0-7D782CEA3789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مثلث متساوي الساقين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رابط مستقيم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ECED-4EA6-47DD-8C20-26919863F792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Count and Noncount Nouns</a:t>
            </a: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Not any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before noncount and plural count nouns means 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no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example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re are</a:t>
            </a: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n’t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any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potatoes= There are 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no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potatoe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9af"/>
                </a:solidFill>
                <a:latin typeface="Bookman Old Style"/>
              </a:rPr>
              <a:t>Nou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Gill Sans MT"/>
              </a:rPr>
              <a:t>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English speakers use them for things with numb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example, one egg, five cups or three meal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Gill Sans MT"/>
              </a:rPr>
              <a:t>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Speakers may talk about amounts of these items but not numb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example, a lot of food, a little water and som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vic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57" name="Picture 2" descr="C:\Users\Sara aldawood\Desktop\z.jpg"/>
          <p:cNvPicPr/>
          <p:nvPr/>
        </p:nvPicPr>
        <p:blipFill>
          <a:blip r:embed="rId1"/>
          <a:stretch/>
        </p:blipFill>
        <p:spPr>
          <a:xfrm>
            <a:off x="5429160" y="24289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C:\Users\Sara aldawood\Desktop\thomasville-chair-1109-de.jpg"/>
          <p:cNvPicPr/>
          <p:nvPr/>
        </p:nvPicPr>
        <p:blipFill>
          <a:blip r:embed="rId2"/>
          <a:stretch/>
        </p:blipFill>
        <p:spPr>
          <a:xfrm>
            <a:off x="2000160" y="1857240"/>
            <a:ext cx="22924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Count Nou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62960" indent="-462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unt nouns have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both singular and plural form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 meal    3 meals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They can have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a/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before them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(singular nouns only)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chair     an egg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Most plural count noun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have an s/es ending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staurants     egg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2" name="Picture 2" descr="C:\Users\Sara aldawood\Desktop\sugar.jpg"/>
          <p:cNvPicPr/>
          <p:nvPr/>
        </p:nvPicPr>
        <p:blipFill>
          <a:blip r:embed="rId1"/>
          <a:stretch/>
        </p:blipFill>
        <p:spPr>
          <a:xfrm>
            <a:off x="5643720" y="2428920"/>
            <a:ext cx="2152440" cy="2124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C:\Users\Sara aldawood\Desktop\Healthy-Oils.jpg"/>
          <p:cNvPicPr/>
          <p:nvPr/>
        </p:nvPicPr>
        <p:blipFill>
          <a:blip r:embed="rId2"/>
          <a:stretch/>
        </p:blipFill>
        <p:spPr>
          <a:xfrm>
            <a:off x="1144440" y="2286000"/>
            <a:ext cx="35308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Noncount Nouns</a:t>
            </a: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ncount nouns 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are always singula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 they have no plural form (no –s/-es) ending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tter     juice     salt    water    suga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. Most noncount nouns name an item made up of smaller or different part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ewellery   traffic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3. Some noncount nouns name 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abstract thing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ch as ideas, feelings and concept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reedom   anger   advic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Some  &amp; Any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and any are used to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describe “an unspecified amount or number.”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advice   any pla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They can appear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before both count and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milk    some chai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Some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som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n affirmativ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tements and questio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lease buy some napki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you have some shopping bag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Any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ny in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negative statement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aren’t any plates on the tab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ny in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ffirmative and negative questio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you have any pots in your kitchen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n’t there any fish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08:23:19Z</dcterms:created>
  <dc:creator>Sara aldawood</dc:creator>
  <dc:description/>
  <dc:language>en-US</dc:language>
  <cp:lastModifiedBy>sony</cp:lastModifiedBy>
  <dcterms:modified xsi:type="dcterms:W3CDTF">2012-04-11T17:25:33Z</dcterms:modified>
  <cp:revision>6</cp:revision>
  <dc:subject/>
  <dc:title>Count and Noncount Nouns</dc:title>
</cp:coreProperties>
</file>