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869-E52D-4ED5-B4AD-AA856538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184-20EA-47C3-A31D-9A3451C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18B-E668-4446-94A8-C45AD1AC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FD0-92D3-4074-A7A6-9EEB5C39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7FBE-F739-4192-BDBE-E37B64C1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B684-FE00-43EC-A055-5CC9B77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CA3-906D-406D-B63D-0390CCD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5AE-ACD3-4842-AF07-BD89A49F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7DA1-5E8E-4AB0-AF89-E6AFA7EB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1C72-B90A-487D-B956-D56D0EE5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217-6387-427F-A4E9-E07077D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2A8-EB41-4BFA-A7A5-A14FFB4D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F03-2868-4594-97C2-653721A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995-DD0E-4492-A21C-7E9F236C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B3B-BA40-4EA8-A378-44333691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17F-DCF2-40D9-B620-32BF0C34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A8B6-52F4-4BCF-9123-9BD99500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5B3C-9DDD-427F-BCCC-C7176D84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46DF-6793-4CC8-9C89-6E7C2006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031C-C31B-4CD3-9D95-35767A2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08F1-B577-4273-8BE2-1A014F6F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0D126-5029-406C-B680-A490A503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636-A3A1-4889-9B20-8AA677B1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1C05-CA42-432D-9F39-73F7D9FB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28BB-4D9C-43DB-A855-80892FB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66C2-7DB9-4E23-B950-DB73FD3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EBBB-61A2-4CCD-8F77-508D968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1547-21F1-4C68-909E-64613D4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0753-FC1B-4657-ACD0-09FFF4C1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94A2-FEEA-4724-A893-5F2737B6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2218-DD72-4D2A-9315-D33086A5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AA00-5C9D-4728-B174-8EC601D9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0877-5236-4E3D-A039-12321547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3A6-84DC-4827-8EA7-A68C8526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EAF5-F2DF-4FF1-9AD5-F2B1CB86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DB69-B76C-4F60-813E-301B977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BE87-250F-479D-93D3-E925726F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228D-43F0-4EE7-8803-2AC4BC1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E976-5100-4B55-81FE-7FC401B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2363-3A85-4A66-985A-8DCC0F94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78EF-1A42-4472-BFB0-83B0F82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5A8F-653C-4159-B80D-AF4937F9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2C7E-1B9A-43CA-B98B-0F777B1E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A1D7D-B045-4C92-BCD5-AA86EFA4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6CB-6DD3-45E5-A4C6-3E11ECA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A545-4165-490D-930A-4DD0756E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4BAF-1445-447A-B0C1-EEB0D12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2C7A-9157-4563-BC82-542EDB62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2D96-3EC9-4B32-B21E-2548305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F2C5-7F09-4C8C-A2F1-E12CFBB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6F72-A0FB-4B07-938C-79ADE9C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94C21-123C-4144-981E-D89B667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EAFB6-608D-46E4-8E30-F726F556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358D-96EA-4BEE-BF01-DAB224B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078C-76E5-485D-A577-91147C8B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FC8-CD80-4ADE-B9D8-27401FC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59B7-D990-4B06-8496-EA691A4E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4760-08E2-44C7-A970-1167365F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CD64B-47C5-407B-BEBE-F1D6C9F2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AAFEA-0814-4C57-AD36-000244FA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916C-DA62-4084-B1C1-A570DE7E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C459-0CBE-4C0F-B151-C2AFE58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0D3F-DF5E-4C3D-B9BC-EB4F427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C988-AC5F-4E88-A031-7275B2D6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DD129-45FA-4765-A768-486E186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8F7FD-41FF-4299-A15F-9A63068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6A3-E3F1-4EA8-B2A0-3B32F47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F1FC-6437-4FD4-9A0D-585975E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62D8-55C8-4588-AAFC-572D48B7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5605D-832A-4A39-A5E0-F05FD03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4167-2005-4D8F-82FC-DF58DD1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3BBE5-93CD-412E-B80C-17F759B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FDB5-A848-4C59-BB3F-561A199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278D-E4EF-4A99-8B1D-0E81776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3E0B6-15E1-442B-8B94-85C99AC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2CDF-977A-42D0-88A1-B9F145A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ECF37-D647-401A-9C2C-EDD3DE0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133-EDB4-40A9-BBDB-3C6F312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7A5E-BF13-4E91-BDCE-8670224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E575-9747-46A0-85AC-863F2C6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6A5C-E50D-4457-B4F1-555D4BF7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5652-218C-4337-90A7-186E5DCD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F5DD-9578-492A-9F8B-D53F6063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A2E8-7828-4963-8991-3B4BDF0C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DBB9-05F2-4672-B5B3-88A27681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AF91-1DFA-4DAF-908B-04FDD27B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3ACA7-514B-45E9-BB3E-F979CC8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C9AF1-C961-401B-955B-A58D320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E91-3E39-4CB7-BCD7-AFD3A1DC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77A5-C182-487E-A08F-8E5E4062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02AF-E70F-481A-8468-231F2446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A16B7-E474-4517-A522-D9B186B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2E810-3477-42F5-80F4-1CFFA27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8B7C-0068-4204-827E-DA5723A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046E-56EB-4DB1-9F05-2868E900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429C6-56FE-4B0C-9550-71F18C52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68A2-88CC-4B64-B282-C2E2DCB2392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5B0F-A942-42A1-9F4A-93C519F20DF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0D25-2809-4D01-97C9-371171AC61FC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165-CE13-4880-AF0C-EDD13BCD1591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186F-1396-43B5-9E10-48652978D468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C43B-3CD5-469B-B2B3-827325AC629E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FF0-1F5A-4476-B190-5750A0ECBC70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D77-38DD-439E-BD13-CF13CBB44A0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Count and Noncount Nouns</a:t>
            </a:r>
            <a:r>
              <a:rPr b="0" lang="en-US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464653"/>
              </a:solidFill>
              <a:latin typeface="Bookman Old Style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ot any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fore noncount and plural count nouns means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For example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re are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n’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600" spc="-1" strike="noStrike">
                <a:solidFill>
                  <a:srgbClr val="f7c120"/>
                </a:solidFill>
                <a:latin typeface="Gill Sans MT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= There are </a:t>
            </a:r>
            <a:r>
              <a:rPr b="0" lang="en-US" sz="3600" spc="-1" strike="noStrike">
                <a:solidFill>
                  <a:srgbClr val="528693"/>
                </a:solidFill>
                <a:latin typeface="Gill Sans MT"/>
              </a:rPr>
              <a:t>no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potatoe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9af"/>
                </a:solidFill>
                <a:latin typeface="Bookman Old Style"/>
              </a:rPr>
              <a:t>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Gill Sans MT"/>
              </a:rPr>
              <a:t>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English speakers use them for things with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one egg, five cups or three meal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Gill Sans MT"/>
              </a:rPr>
              <a:t>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Speakers may talk about amounts of these items but not number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xample, a lot of food, a little water and som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dvic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7" name="Picture 2" descr="C:\Users\Sara aldawood\Desktop\z.jpg"/>
          <p:cNvPicPr/>
          <p:nvPr/>
        </p:nvPicPr>
        <p:blipFill>
          <a:blip r:embed="rId1"/>
          <a:stretch/>
        </p:blipFill>
        <p:spPr>
          <a:xfrm>
            <a:off x="5429160" y="24289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Sara aldawood\Desktop\thomasville-chair-1109-de.jpg"/>
          <p:cNvPicPr/>
          <p:nvPr/>
        </p:nvPicPr>
        <p:blipFill>
          <a:blip r:embed="rId2"/>
          <a:stretch/>
        </p:blipFill>
        <p:spPr>
          <a:xfrm>
            <a:off x="2000160" y="1857240"/>
            <a:ext cx="2292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Count Nou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62960" indent="-4629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unt nouns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oth singular and plural form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 meal    3 meals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have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a/a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efore them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singular nouns only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chair     an egg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Most plural count noun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have an s/es ending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taurants     egg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6296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C:\Users\Sara aldawood\Desktop\sugar.jpg"/>
          <p:cNvPicPr/>
          <p:nvPr/>
        </p:nvPicPr>
        <p:blipFill>
          <a:blip r:embed="rId1"/>
          <a:stretch/>
        </p:blipFill>
        <p:spPr>
          <a:xfrm>
            <a:off x="5643720" y="2428920"/>
            <a:ext cx="2152440" cy="2124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Users\Sara aldawood\Desktop\Healthy-Oils.jpg"/>
          <p:cNvPicPr/>
          <p:nvPr/>
        </p:nvPicPr>
        <p:blipFill>
          <a:blip r:embed="rId2"/>
          <a:stretch/>
        </p:blipFill>
        <p:spPr>
          <a:xfrm>
            <a:off x="1144440" y="2286000"/>
            <a:ext cx="3530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Noncount Nouns</a:t>
            </a:r>
            <a:r>
              <a:rPr b="0" lang="en-US" sz="3200" spc="-1" strike="noStrike">
                <a:solidFill>
                  <a:srgbClr val="f7c12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ncount nouns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re always singular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 they have no plural form (no –s/-es) ending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ter     juice     salt    water    sugar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. Most noncount nouns name an item made up of smaller or different par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wellery   traffic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. Some noncount nouns name </a:t>
            </a:r>
            <a:r>
              <a:rPr b="0" lang="en-US" sz="2600" spc="-1" strike="noStrike">
                <a:solidFill>
                  <a:srgbClr val="c00000"/>
                </a:solidFill>
                <a:latin typeface="Gill Sans MT"/>
              </a:rPr>
              <a:t>abstract thing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h as ideas, feelings and concept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reedom   anger   advic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  &amp; 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nd any are used to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describe “an unspecified amount or number.”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advice   any p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They can appear 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before both count and noncount nou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milk    some chair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Some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som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 affirmativ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ements and question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buy some napki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some shopping bag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Any</a:t>
            </a:r>
            <a:r>
              <a:rPr b="0" lang="en-US" sz="32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 negative statement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n’t any plates on the tab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y in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ffirmative and negative ques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you have any pots in your kitchen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n’t there any fish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8:23:19Z</dcterms:created>
  <dc:creator>Sara aldawood</dc:creator>
  <dc:description/>
  <dc:language>en-US</dc:language>
  <cp:lastModifiedBy>sony</cp:lastModifiedBy>
  <dcterms:modified xsi:type="dcterms:W3CDTF">2012-04-11T17:25:33Z</dcterms:modified>
  <cp:revision>6</cp:revision>
  <dc:subject/>
  <dc:title>Count and Noncount Nouns</dc:title>
</cp:coreProperties>
</file>