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BA8F-34A5-4732-B3D8-01652B1F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BEB-8A81-43DA-8A40-C2267FFB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959B-9D7A-4DFD-B0CB-099EF0DE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AE7D-2A1B-4B38-8567-C698CFC0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D12C-DEE3-44DC-ACD6-95F114D7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3394-8295-4622-B2B0-BB8B2EE3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36A2-C865-41BD-B82D-2B78CA13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EA4D-B8A3-440E-929F-AEC4BDD9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D84B-2751-4E6D-A9C7-1D78725D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DC40-4904-45C9-9AE0-39272EAE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7A76-BC1A-4EDE-8EBE-FF2A9A09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80F-90A8-459A-81AD-7E4F9B91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10A4-BBB4-4359-A975-E48A4BFE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4CA6-4804-43DE-B551-B693B28A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7F45-1951-4775-9E07-370C6693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82A4-75A0-4F19-BCC4-AA38735D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1EE0-508F-4F0F-AB5F-975999C9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049F7-E725-4555-BC89-ACFC03A0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B76B5-B92A-4BD3-A74B-AF28BC63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2E4D9-2438-4E75-A835-3887D692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37CF3-CE8A-4884-93BC-44377617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6BECB-0229-42B7-A2F6-36B5B60D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2888-CEA5-43C1-B50A-0B168163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70BB1-CFF2-49D4-8509-EFA9F440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1D588-64DB-4A76-ACD3-04DC35BC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5F041-5818-4C1D-AF4B-231B9333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B0FCB-AA82-41A5-AA19-C394D28A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EE862-71E5-4FBB-A4EF-8DC95F6D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0BC88-6D2F-45B6-BF6E-B59DB377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1AE00-9FDD-4047-816C-38BDEF51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FD3CD-5BD5-4544-9957-5547086B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23C45-C0F1-470B-BF84-DE0D8C74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3524F-B1EA-4939-AF29-B3499AC7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634-179D-491E-98B7-16B2FF96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0D3C4-33AF-48AD-9764-0745C404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CB1A1-F421-491E-88BB-8E84E751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530EC-4CE6-4089-8093-F1D45CE2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1AC56-C42E-41CC-8CE5-DF137053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A6CAF-C135-4FD1-8C16-03C3D95A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FB5F6-E60E-4D65-9F51-1F0C9410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9B5A1-846F-4BEF-B738-DFF7DB51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CC37F-1930-49CB-B207-ED894DFE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F1373-EAE2-4693-B82F-C75B7487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FEC62-5944-4195-B905-CF050AAC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91B3-EA43-4F0B-B34A-40299401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E06E4-B7DF-4249-B562-33DF235B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B3609-EA99-4202-8209-69FCEB71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7EA90-8072-4D3C-AA59-96FE2628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121DF-0853-40D2-9B23-27B942F9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4F55E-A72B-4998-A208-DC3D4AD5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631F5-AB84-4FDF-92C6-2E97E835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D3158-B495-4D42-9EF3-619FC656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16F73-8969-4B10-A7E0-870E7993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7B95D-D419-4A4D-978F-C4F9ABA1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10261-2155-4DE6-AC63-9E897997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7CC-29F5-4C8F-97EA-939F6CB9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DAD28-885B-4048-B8C2-7ABE4068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452C7-C258-45A5-B27B-A7E6C849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E1859-2AA2-4E5F-A237-BF99DAB6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3785C-1DFC-4DEB-B16F-6FFF0B56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540E5-ADE4-48EE-88CF-E340E5AD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9E14B-5FA1-420D-9568-631BB5D6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30D15-B940-4BB5-A101-3BC5D663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4F215-0935-4F73-A690-F534C78E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CEF0C-3CF9-46B9-875E-37147925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66734-7859-498F-9CA0-B9989145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63D-4040-4DA5-B3DC-80FA4AA4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F6A6E-FFF3-4073-895B-AC233117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2D6C2-53F5-4849-80EF-D9B859E1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69539-4DF6-480E-AC5A-F45B8D6E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71EB1-F72C-4FBE-9ED4-B35151B9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42BBF-8E78-42DC-8A38-C9167737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D224A-CA60-4520-9D2F-FC90E03C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F6518-4480-481F-B627-B3C08605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A34CF-B17B-43A9-A20D-4B02285C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F9AA6-0DE4-494E-9C5B-629081F6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45B0A-F647-4B00-922C-E27B7269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6CE-B26D-4800-B33A-D01B8A60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88590-5A98-44FE-B7BD-01BBB61D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EEBE2-3A89-424D-9F14-D96A7223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70F08-4E52-4D59-9891-8BB58695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E5B6F-6BBB-487C-9860-201F319F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81F2B-25F6-4EDF-A5F5-8698A1EB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0BA4C-F272-470F-AE05-8EC753A1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E6BBE-DCEB-46B0-BC66-8777A81C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56E0D-C16C-482A-9258-72011CFC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83E9A-4844-4182-A9F8-077199D5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7CD6D-D4C1-48EF-B6F3-5CCBC870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30E8-FD90-4BF8-BA21-8919F881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158BE-CAB6-4FAC-9CCE-8C1CC081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77453-7463-4D69-A257-AEF55B68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C0E1C-8234-421B-AFD7-69B6195F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EA871-AC9E-4396-9C5F-83C168A6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EB0D5-D4A5-461B-9B5A-BD1826AE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75F0C-D1AB-426B-8462-5D986301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75417-0221-4DFB-9600-D69E2F45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9610-A768-4A79-A5A5-E154D21906D3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مستطيل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مستطيل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مستطيل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9303-7705-4092-8019-AFF22BD3D31B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مستطيل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4B8B-AF54-4889-A07D-20007C7C5551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مثلث متساوي الساقين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5BED-9DA7-4006-88EA-109326A34518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مثلث متساوي الساقين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F39B-DA73-474A-B42A-503FC330519F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رابط مستقيم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مثلث متساوي الساقين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E675-6465-4F13-B8B9-0FB068A91408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مثلث متساوي الساقين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مستطيل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BEAF-055F-4AF6-A4D7-C498BD56B73D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مثلث متساوي الساقين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رابط مستقيم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1EEE-B311-45D8-98CE-A44AA4CB6561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Count and Noncount Nouns</a:t>
            </a: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c120"/>
                </a:solidFill>
                <a:latin typeface="Gill Sans MT"/>
              </a:rPr>
              <a:t>Not any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before noncount and plural count nouns means </a:t>
            </a:r>
            <a:r>
              <a:rPr b="0" lang="en-US" sz="3600" spc="-1" strike="noStrike">
                <a:solidFill>
                  <a:srgbClr val="528693"/>
                </a:solidFill>
                <a:latin typeface="Gill Sans MT"/>
              </a:rPr>
              <a:t>no</a:t>
            </a:r>
            <a:r>
              <a:rPr b="0" lang="en-US" sz="3600" spc="-1" strike="noStrike">
                <a:solidFill>
                  <a:srgbClr val="528693"/>
                </a:solidFill>
                <a:latin typeface="Gill Sans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example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re are</a:t>
            </a:r>
            <a:r>
              <a:rPr b="0" lang="en-US" sz="3600" spc="-1" strike="noStrike">
                <a:solidFill>
                  <a:srgbClr val="f7c120"/>
                </a:solidFill>
                <a:latin typeface="Gill Sans MT"/>
              </a:rPr>
              <a:t>n’t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f7c120"/>
                </a:solidFill>
                <a:latin typeface="Gill Sans MT"/>
              </a:rPr>
              <a:t>any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potatoes= There are </a:t>
            </a:r>
            <a:r>
              <a:rPr b="0" lang="en-US" sz="3600" spc="-1" strike="noStrike">
                <a:solidFill>
                  <a:srgbClr val="528693"/>
                </a:solidFill>
                <a:latin typeface="Gill Sans MT"/>
              </a:rPr>
              <a:t>no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potatoe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9af"/>
                </a:solidFill>
                <a:latin typeface="Bookman Old Style"/>
              </a:rPr>
              <a:t>Nou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c120"/>
                </a:solidFill>
                <a:latin typeface="Gill Sans MT"/>
              </a:rPr>
              <a:t>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English speakers use them for things with numb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example, one egg, five cups or three meal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Gill Sans MT"/>
              </a:rPr>
              <a:t>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Speakers may talk about amounts of these items but not numb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example, a lot of food, a little water and som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vic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57" name="Picture 2" descr="C:\Users\Sara aldawood\Desktop\z.jpg"/>
          <p:cNvPicPr/>
          <p:nvPr/>
        </p:nvPicPr>
        <p:blipFill>
          <a:blip r:embed="rId1"/>
          <a:stretch/>
        </p:blipFill>
        <p:spPr>
          <a:xfrm>
            <a:off x="5429160" y="24289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C:\Users\Sara aldawood\Desktop\thomasville-chair-1109-de.jpg"/>
          <p:cNvPicPr/>
          <p:nvPr/>
        </p:nvPicPr>
        <p:blipFill>
          <a:blip r:embed="rId2"/>
          <a:stretch/>
        </p:blipFill>
        <p:spPr>
          <a:xfrm>
            <a:off x="2000160" y="1857240"/>
            <a:ext cx="22924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c120"/>
                </a:solidFill>
                <a:latin typeface="Bookman Old Style"/>
              </a:rPr>
              <a:t>Count Nou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62960" indent="-462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unt nouns have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both singular and plural form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 meal    3 meals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They can have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a/a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before them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(singular nouns only)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chair     an egg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Most plural count noun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have an s/es ending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staurants     egg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2" name="Picture 2" descr="C:\Users\Sara aldawood\Desktop\sugar.jpg"/>
          <p:cNvPicPr/>
          <p:nvPr/>
        </p:nvPicPr>
        <p:blipFill>
          <a:blip r:embed="rId1"/>
          <a:stretch/>
        </p:blipFill>
        <p:spPr>
          <a:xfrm>
            <a:off x="5643720" y="2428920"/>
            <a:ext cx="2152440" cy="2124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C:\Users\Sara aldawood\Desktop\Healthy-Oils.jpg"/>
          <p:cNvPicPr/>
          <p:nvPr/>
        </p:nvPicPr>
        <p:blipFill>
          <a:blip r:embed="rId2"/>
          <a:stretch/>
        </p:blipFill>
        <p:spPr>
          <a:xfrm>
            <a:off x="1144440" y="2286000"/>
            <a:ext cx="35308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c120"/>
                </a:solidFill>
                <a:latin typeface="Bookman Old Style"/>
              </a:rPr>
              <a:t>Noncount Nouns</a:t>
            </a:r>
            <a:r>
              <a:rPr b="0" lang="en-US" sz="3200" spc="-1" strike="noStrike">
                <a:solidFill>
                  <a:srgbClr val="f7c12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ncount nouns </a:t>
            </a:r>
            <a:r>
              <a:rPr b="0" lang="en-US" sz="2600" spc="-1" strike="noStrike">
                <a:solidFill>
                  <a:srgbClr val="c00000"/>
                </a:solidFill>
                <a:latin typeface="Gill Sans MT"/>
              </a:rPr>
              <a:t>are always singula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n-US" sz="2600" spc="-1" strike="noStrike">
                <a:solidFill>
                  <a:srgbClr val="c00000"/>
                </a:solidFill>
                <a:latin typeface="Gill Sans MT"/>
              </a:rPr>
              <a:t> they have no plural form (no –s/-es) ending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tter     juice     salt    water    sugar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. Most noncount nouns name an item made up of smaller or different part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ewellery   traffic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3. Some noncount nouns name </a:t>
            </a:r>
            <a:r>
              <a:rPr b="0" lang="en-US" sz="2600" spc="-1" strike="noStrike">
                <a:solidFill>
                  <a:srgbClr val="c00000"/>
                </a:solidFill>
                <a:latin typeface="Gill Sans MT"/>
              </a:rPr>
              <a:t>abstract thing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ch as ideas, feelings and concept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reedom   anger   advic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Some  &amp; Any</a:t>
            </a: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and any are used to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describe “an unspecified amount or number.”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advice   any pla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They can appear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before both count and 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milk    some chai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Some</a:t>
            </a: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som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n affirmativ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tements and questio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lease buy some napki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 you have some shopping bag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Any</a:t>
            </a: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ny in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negative statement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aren’t any plates on the tab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ny in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ffirmative and negative questio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 you have any pots in your kitchen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n’t there any fish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08:23:19Z</dcterms:created>
  <dc:creator>Sara aldawood</dc:creator>
  <dc:description/>
  <dc:language>en-US</dc:language>
  <cp:lastModifiedBy>sony</cp:lastModifiedBy>
  <dcterms:modified xsi:type="dcterms:W3CDTF">2012-04-11T17:25:33Z</dcterms:modified>
  <cp:revision>6</cp:revision>
  <dc:subject/>
  <dc:title>Count and Noncount Nouns</dc:title>
</cp:coreProperties>
</file>