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8DA-95E9-4E4F-8E5D-B35519C6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33C-8D8B-4B62-BCC7-AF61927C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4D427-878E-42F0-9D75-81F1BEA8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4AD209-A4EE-4FB4-8CA4-D7DEA072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C2CAF-54F7-4008-B61D-9E095ABB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BD2AEA-5A10-4EC5-A84A-D6E2EAD2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997AB-9112-4973-A2C2-11E1DFE1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F9FD50-AB87-46F0-A252-6F0D3914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137E6-4F24-4171-BF35-7193CCA2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57E233-877F-4628-8D3B-F4B32B31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47825-9CE0-45DF-BE96-23C5199C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5486A-5B64-4008-B229-9274C2FC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1464-B6EF-4BBC-A78B-379D79FB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0382F-FFD7-4E78-8869-B731C6B3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9493CA-08DE-4370-A0FD-AC3DAA54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15D0C-CBA4-42F9-BD98-911CC7C8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3E735-22E2-440F-B826-83F54B01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403214-A04B-4AE8-BC93-CCDA878B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6601EF-6EF1-464C-AAC1-88DA770A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D26712-42ED-4445-ACE8-35045528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30A0C4-D335-403E-9413-7F77694E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6E0BA7-ADD1-4746-9821-FE728504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CA6FA-F9AA-4BF6-BBD2-77AE9C36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3E4-F2C3-4772-ADEF-813CD2EF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754E96-4F9C-44D0-B6A5-66EB5B3F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80705-6069-477B-85DD-D8945C98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8B86A-67A7-4666-8790-C9AF353E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87724-07A7-452D-84C7-CA5A9DC2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9C145-8677-44D6-8FAC-B981D61D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77580-C44B-454E-91C3-E31FAA70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7028D-4939-4C40-81FF-D5CBDE2B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CBD24-F328-40B4-B208-2496C81D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81012-C2AB-4DBF-A667-CD395046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570DE-36FB-4DB8-BB2A-24EDE039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AD0A-59D5-4B44-BA03-E558FBB5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97026-0B5D-4386-BFAC-B041682F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D983D-E785-40C8-8C19-DB130306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D3C8A-9554-41E0-8827-0D402AEB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30C30-8781-454B-80DF-5727B43A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056F3-8F96-42BB-B78E-60DD6565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41BD4-879D-441E-985E-DB718B2F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5FFC5-AB42-435C-AFAC-ED4E37D4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18DF20-3D32-4253-8FC8-AE6DBBDC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6A0DA8-ED27-48CE-8AC4-D28CB23F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BEF4F2-BA4D-4B85-8CBD-BD5DCB44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EFD7-C580-4C6D-9C53-F273E9E2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FB4697-C50C-440B-9DFA-7E800CBD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2CA8EA-E5D1-4063-BAA6-76F2CE02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3A298B-6C36-4F46-AD08-D1A98AA0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F997D-102A-4B20-B77A-321B670B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8B1066-6857-4FDC-94D1-8F26EFC5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91BF-6DF5-4759-A976-5B1FA274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5E52-42D7-4C23-9199-3AB7908F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521D-8E2B-4446-A604-950A6894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E7DB-4176-45BB-AE76-C693C03C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90D2-2654-4277-A3A3-1DE1CF95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089-C8C0-4B8A-9819-384F44C1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FB04-4BB2-4F17-A266-E9F77881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812A-CA09-42C6-8DF2-E36432E4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5D7D-5AFA-40A5-A14C-8426DFC2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3AFF-0989-47AC-808F-48E1E2F4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19B8-EA97-4DBC-B48A-D54C0FA7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8A759-719C-4698-BC80-6ACF06C6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3766F-515D-4A8D-90CD-2A11E330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07E71-E502-4548-84C0-ECB4764D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C8D1A-F3EB-4E11-86E2-43576CE6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14F71-ED18-4988-8730-B344897D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31C-402E-458F-A6A2-77FF72EB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C13B8-2CEF-4F60-93A4-B3E664ED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7842B-E8BB-424A-B5FA-AB4E30BD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60216-ED93-40B4-ABD1-E040A412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7FE41-0780-4B1E-A159-3F925AB8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D48B8-9431-495A-9469-4110FC5C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A780D-8F23-443D-A056-56F82F19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DCA50-2B0B-4DA1-9985-6FAFA2E9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976B8-9398-4C96-9B93-E60D1D95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C87A5-77A2-455C-BABC-C8A11682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DDAE1-11F8-4840-B978-A7B8D9A1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6B50-1833-4159-A815-AE1734D8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34F1A-3B66-4ED2-AEEC-39D0FEB2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4DDDE-9D14-451E-B399-C08E7651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4D79C-A4E4-43D3-A0D1-B37B7396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C77DB-6E43-4CE7-AE15-A05AE031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1841C-1425-4250-8EC5-A5530910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4C12C-C2F9-4B62-BAB7-D3AD4173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578EF-3D34-4C71-9FDD-8B1490E9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AAA4B-130E-4BA2-A83D-F4293F2D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6D536-E18F-4EF4-970B-8A727B68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C886D-D271-4818-BDB2-B4339D1F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3101-462B-4D99-BC88-AAE2D9AC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435FE-4A10-4E99-9D98-8F170EA3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AB7A5-5251-4439-874C-C6DEFDE3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A762E-125A-48AC-A372-B295950D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84175-FE36-4908-A4DF-0D16B61A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F0F9F-0E7C-4EA2-8937-0E05EAB7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DC991-8AF3-4C74-BDE5-1B14BFBF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14190-BAAC-4653-B4ED-EE3691AF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F30B4-594E-408E-8544-95EEB296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6AD84-DC19-4541-8E11-F5DC7C9F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D4C66-70FC-40A1-8912-AEDC44E1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D1A-517B-40C7-A1A5-71631FD7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E1C2F-F6D9-4B64-928A-DE8C80E3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62EFA-3984-49FB-9A44-870217B0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1E4C5-2BFB-41B7-BBE2-BD8759E9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B8219-BF52-412B-9654-A337BA16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79FB6-E721-4CF2-9705-E948EF68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F5BC0-792A-42B1-8C85-79AE62A6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99F5D-CAB4-4800-9811-4A910479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BF1F3-57E0-44F4-B324-6E7B5849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2AD9C-6863-4C8C-BCB2-6F4B1CD7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950D1-5EF7-4F54-9716-A1FBAAC7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621-087C-4A55-9B1A-84402923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6E2B7-4AF0-4FC7-9708-34B4689D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042B5-D93B-4326-ACEB-7388352D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D00BE-2518-4179-A4FA-5F4A4953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4B15D-6F4B-473C-BE61-DB86DC45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FF001-6E6B-42F5-92AD-D5DCF57F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18055-8B0A-4CBA-9EDD-990439C6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786AD-4E77-49DD-A8C6-B1D529C2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500B7-61E5-4102-9041-A93B5B3E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3B998-CB9B-45BB-8DE0-99A0948C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35FAB-11E6-4544-87DC-BB34F95E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DB1-DB90-4807-A5F7-BBCC0D41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75123-865F-4B83-9C74-3B8ABA8F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EEADA-170C-41AA-A0A0-7AA11651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5BD64-A0D1-4064-B1C0-A381CD79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22B69-883E-4032-9932-BBE172DF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F1132-9773-4EC3-AE8E-A39A391B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F3849-658B-4C1D-A06D-A6FEEA5E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6B629-5AB0-45D8-A6E0-BFD58E1D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B1F03-C6B6-4E1D-8426-6BD3B8BA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4AB35-7FB6-4B46-A06D-B5D21FD5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699F7-EB63-4EB3-9812-E7FCE951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309-FBF8-4C14-A016-6C2D6021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929AE-3B1F-44AF-BC60-D99B82B5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C2619-E59B-4AA4-8582-706B1173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8DAF1-EDC7-41F6-8139-96DC4AFD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C2D07-16B7-4281-B7A6-2F287F27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72DF9-D74F-4190-ADC0-D7BD531F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9FA96-3E75-4E6B-B0F4-EBDD5300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EE986-A140-4395-BF01-EF947BD9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4D598-F8CD-4B88-BAE5-9056DB7B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FBFBE-7614-4D69-957A-EEECA21B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D473B-0472-4027-94BB-AA262B6D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F9ED-0BBC-4C30-AB6A-1DB4377C493E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B592-56DF-4302-BBE4-28F93E365DF1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917C-13BB-47A7-9A7C-BD794E341935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8A8A-DAB8-406E-A507-C4A964491031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5A32-7817-47B2-BA13-8E0D69E0C128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12B9-94F8-4AB2-B440-A841A3794216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EDBF-365A-41FA-B75E-F76CC185313D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2AAD-978A-4373-9C04-EC5388AD2569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086D-0BEE-44AA-A468-9D6B556BE4BE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C7C4-3509-48B5-85A3-0F109A2F6A44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6528-09A1-4CCA-B589-B409AE97E064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02FA-DCE0-4227-A3FA-69C8EB6906BC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6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Count and noncount nouns</a:t>
            </a: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5148360" y="3357720"/>
            <a:ext cx="2476440" cy="1847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1763640" y="3357720"/>
            <a:ext cx="22766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ot of/ Many/ Much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lot of, many, much mean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800" spc="-1" strike="noStrike">
                <a:solidFill>
                  <a:srgbClr val="953735"/>
                </a:solidFill>
                <a:latin typeface="Georgia"/>
              </a:rPr>
              <a:t>a large quantity of something.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”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A lot of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ot of may appear before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oth noncount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’s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sal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in this soup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eat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ppl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ot of is for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an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fast food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restaurant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erve chip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many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peopl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ave poor diets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any is for plural nouns in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uch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uch may appear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Japanese don’t eat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red mea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 you drink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mil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is morning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uch is for noncount nouns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in negative statements only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in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ommon Units of Measur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give amounts of either count and noncount nou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g of potatoes / bag of sugar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se units make noncount nouns into countable noun phras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 bottles of ketch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 cups of coffe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 / 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few and a little are for a small number or quantity of something.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few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a few </a:t>
            </a:r>
            <a:r>
              <a:rPr b="0" lang="en-US" sz="2700" spc="-1" strike="noStrike">
                <a:solidFill>
                  <a:srgbClr val="948a54"/>
                </a:solidFill>
                <a:latin typeface="Georgia"/>
              </a:rPr>
              <a:t>bo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few is used with plural count nouns in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en’t there a few cookies in the box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ittle appears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only 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 there a little sugar in that bowl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ittle is used with noncount nouns in </a:t>
            </a:r>
            <a:r>
              <a:rPr b="0" lang="en-US" sz="2700" spc="-1" strike="noStrike">
                <a:solidFill>
                  <a:srgbClr val="17375e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want a little milk in your tea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5:18:27Z</dcterms:created>
  <dc:creator>sony</dc:creator>
  <dc:description/>
  <dc:language>en-US</dc:language>
  <cp:lastModifiedBy>sony</cp:lastModifiedBy>
  <dcterms:modified xsi:type="dcterms:W3CDTF">2012-04-11T17:29:06Z</dcterms:modified>
  <cp:revision>4</cp:revision>
  <dc:subject/>
  <dc:title>Count and noncount nouns</dc:title>
</cp:coreProperties>
</file>