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08A1-A4C1-4A82-AB54-76D9C07C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F9E8-D72F-42E9-8D49-6EAB25D8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F16D08-731C-4710-B358-975A56C9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39F56-4828-40B5-BB46-ACD73DA0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B6492-0C8B-41A0-BD63-A1AC2EB0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214A10-4F8E-4A3F-AB6C-3A0BFC69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C13BA4-BFEA-408B-8F08-9A699D89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107790-834C-420E-98AD-1F42DA0F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E07A0-1A3E-41B8-ADDF-CF392023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0767B-7DCD-4743-BBFE-CD278F59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2AD70-2786-426E-BD30-B2696036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10356-694A-4062-845C-E0EA9BD1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DF58-6249-40E2-8F68-36F3D5BB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26514B-C5E3-49EC-8CCB-E1AC5C66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AF450-A163-41B9-AEDD-B002AFF7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80636-990F-478F-A635-0CECA8BD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A0700-4AFD-4AED-BCDF-E706F56D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AD0885-8E3E-46CB-BDA1-C13B31E8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588CA1-FB03-4AA2-A2DA-103881CA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111694-8B16-4F6A-A488-DCD3623F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DEAD48-9C35-4D77-885B-F89BC639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564B16-E779-4592-82A5-166C0592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73192-5818-41EC-9B76-22BF516F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AB21-99EB-49CD-887A-58E4FD82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2737E-03CE-4E91-A180-EB41E51E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DAE03-4099-45D9-9EB9-61D0600F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4587D-4A4B-4276-9651-FA1E10A2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73F9D-FB1B-4AC9-9561-258D8EC2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E1CC2-A68A-4239-85EF-F44ED555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DEB8A-3410-440A-B156-C6E65D87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4FAB0-8B4D-43FD-A302-EE1E0A3F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CD2FE-EFD1-4415-80C9-242B9EA7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6A228-207A-47EC-8F72-190F2804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BEAE4-9746-46BC-8036-F4D44B94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E9B2-2478-49A2-8090-DEA7BFDA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29FD1-CECC-4972-8669-FE3C63F8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F8737-AC2E-4005-A3D2-D6284A70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30799-6350-4A06-A1D5-4E9FD776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92681-07A2-4E54-B905-29E62672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2F2640-F437-4E62-8F9D-7A2A905C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225AED-D8BE-4EA1-9D72-2BE2BCF2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49EF58-0AB2-497C-A729-8867D2EE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AB3D0-056C-467B-B276-312CAAB9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F7609-B33D-49C8-83E2-AA40DA73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C288E-84E4-4855-B5C3-F9B7290F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CC8B-EFA7-477E-9BC1-C8F247F5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D7B6A4-394C-4CDA-A29A-3064CE93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0CB3E-D9A6-4BC5-8759-31B3D33E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EB263-373C-42E9-87D2-047CBFEA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53D826-467F-457C-8789-1AC7FAE6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7FCE33-AE9A-4049-AF59-F3A37630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C208-F70B-4004-B68F-BBB49E4E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1DAC-A04E-45B3-BC4D-3478C45F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49AD-197C-41CE-86F1-6A80764A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1967-A4B6-4174-BDC5-155A3F61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3749-3071-46BA-B68B-2ACBB48C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BD7A-1DF5-4BDE-8EA1-FD5D8980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A6DB-1FEF-4ADF-8E70-1DFE7592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10AC-F08F-474D-B538-81B17634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C320-AD67-438E-969F-97B3DEDA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469A-058C-46C8-B7D1-8054C4E3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3B1F-A4D9-40C9-B05A-1D97ECFD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06F35-EF59-43B4-8208-437FCC14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4D357-C0E3-4C0D-8352-9968D16E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D296C-6CF8-40A0-9986-85352BB2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76656-0216-4FC6-98EE-CB2A96D2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99749-55BA-4158-8721-BDB12C09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0F82-3D14-422B-B6B5-5D711158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C5801-664A-4A8D-B00D-B5694C05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064CB-D9EB-4B13-BFC0-322D1125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966DD-2F53-4EC5-B50F-C960BF6C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57A48-52D6-4D75-88A7-854F27E3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ECDF4-5628-479F-BC59-47829B39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1D62A-16B7-46A6-97B2-23173E42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4B559-0FB6-4962-A409-C0429612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C1A50-A8F5-4441-B727-4AB931C3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A709F-6DBF-4E19-B12B-5BE1BCF5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726CC-B199-465A-A1EA-603B2A3C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D7E3-1E03-4F43-A79D-73044514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18062-EE39-48B6-82E9-4F4FA6B8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D79FE-ACF0-405D-976B-FDB7A75C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C3E81-F24A-4204-8824-35289EE7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3DC4D-FB95-453A-A42D-4677166B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3785D-3ECC-4AF1-AB7D-2C14D6F1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2B6AE-5DA9-4D76-80CC-C07F7A8D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1A295-AA4B-4536-BF22-5A8A3308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EE1BD-D5A7-4D4E-B720-F8C4CF6D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B4F29-8190-4F1A-8BE5-9574530A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C6B8C-B081-49CC-8A56-CDE37C4E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405B-183F-42B8-A352-51745334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C3A5B-ADD8-4175-9556-4AAD598E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14284-3043-4A41-83AB-425D694F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31B85-562B-4710-9A12-FB4AEE67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57FA0-C76D-4E50-B23E-8719688E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3AB6E-F428-449D-8C45-9475543F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67AD4-1044-48C0-AEE4-8D1D29D4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EC8C5-9FF1-498C-BCC6-A0409BCE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A8112-2B16-4CC1-9DBE-42405FD6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925C2-7F61-4AED-B1C0-E88D01A5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5D0B7-461F-4417-A6FF-B9FFC2C4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BEAF-FEC7-4ABF-9A60-ABD80F57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9AC98-03C6-42ED-9239-90AD9AA8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7AA8E-239D-4649-BAB5-127F96B2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90E8F-8248-4BF3-9D6D-01816BAC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04C40-D0FD-4A62-A6C0-EC7393C4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5A5E8-1217-4953-961D-98184820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9091E-829C-45D7-9535-8D9710AA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BD643-7543-4CEE-82C8-F05812D8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24A11-1501-4C7E-BCBE-FE9B3A54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FDC06-9166-4543-8780-52E235DF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1A042-8812-44B1-B94D-5F7F1380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A29-A633-4456-845F-68E976F0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E0A7F-58C3-428F-90FA-927F07AB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CB1F0-1FD5-40ED-BE1C-620BEB83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4F2AA-82E3-4DC0-9356-2719EE3B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1129C-C576-421C-9B17-A9C56DC5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D034D-3130-43E5-8849-2C0F291F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4C506-791A-47C2-B0C8-C6464E11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88968-10E7-4E2A-A3E8-7794AF8E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301FB-93B4-45E9-B17E-C9E0C563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08182-54DC-439A-ACD6-D309BE10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B7458-34EB-44F3-A10B-2E6EE374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A94-ACC3-45B6-900A-1DE3D826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74D18-EC55-4370-B6EB-CC42B305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753C4-A581-4510-87A7-9AA51296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5D2C4-234B-44E9-A375-2ECC7226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9E211-8501-4A4D-9954-ED087E7E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B6CB8-9D0A-48B9-B502-23020AAF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74410-78CF-4F89-B0D2-958E6A6E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A52EA-3C58-488E-BB62-CCD7A0D8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C94A1-484D-458F-BE8C-93B20B7D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E4C65-7881-4F94-B07E-4530A4D7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95116-6B12-47A6-984C-F8A70239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6D8-386F-4F75-9F2A-3EC27D6F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A6EE6-4B8C-4D20-8B7B-0DB4AC39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72AB3-3FD8-463F-BE29-3CCC7D6F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2218A-5EE2-4857-922F-26E4D2F8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34EB5-F770-4BB3-B66F-C394702E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37097-0411-4D17-B945-4CE8110D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46201-7AAE-44EA-B019-F8F7A896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6EAC0-5F59-4C2E-A5C5-6D684159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889C1-4478-453E-970C-3D7DABB4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CC371-3901-44A1-BB80-70A28D77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73E7B-070D-4105-96DD-CDA903E7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4F8D-89A9-4092-A8CC-25D90A6EF1BB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21F3-3242-44BB-8E3C-D54CB9E0D449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4F62-C31A-4643-8F56-862E99D275D6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ABA9-EEF2-45BC-8CC2-C1498277FA83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CCBB-D0DA-43A2-844B-BE0465D19703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8614-1E3F-4A68-B177-7910B82572F6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0C18-6D25-49F6-A5CF-13EBF57E3BF3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ABDC-DF0A-4F60-A12B-FBE651B7C62B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96F6-167E-47E9-A40A-0319CC2BFABA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A4CD-8EA5-46B1-9FCA-864F22F39835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2854-1AA6-4649-B6A4-5EF18586C06A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0BAD-42A4-4278-AC3C-FA9D567E4A07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6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Count and noncount nouns</a:t>
            </a: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5148360" y="3357720"/>
            <a:ext cx="2476440" cy="1847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1763640" y="3357720"/>
            <a:ext cx="22766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ot of/ Many/ Much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lot of, many, much mean: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800" spc="-1" strike="noStrike">
                <a:solidFill>
                  <a:srgbClr val="953735"/>
                </a:solidFill>
                <a:latin typeface="Georgia"/>
              </a:rPr>
              <a:t>a large quantity of something.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”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A lot of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ot of may appear before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oth noncount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’s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sal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in this soup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eat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pple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ot of is for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any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fast food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restaurant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erve chip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many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peopl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ave poor diets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any is for plural nouns in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uch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uch may appear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Japanese don’t eat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red mea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 you drink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mil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is morning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uch is for noncount nouns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in negative statements only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in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ommon Units of Measur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give amounts of either count and noncount nou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g of potatoes / bag of sugar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se units make noncount nouns into countable noun phras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 bottles of ketch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 cups of coffe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 / 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few and a little are for a small number or quantity of something.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few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a few </a:t>
            </a:r>
            <a:r>
              <a:rPr b="0" lang="en-US" sz="2700" spc="-1" strike="noStrike">
                <a:solidFill>
                  <a:srgbClr val="948a54"/>
                </a:solidFill>
                <a:latin typeface="Georgia"/>
              </a:rPr>
              <a:t>bo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few is used with plural count nouns in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en’t there a few cookies in the box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ittle appears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only 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s there a little sugar in that bowl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ittle is used with noncount nouns in </a:t>
            </a:r>
            <a:r>
              <a:rPr b="0" lang="en-US" sz="2700" spc="-1" strike="noStrike">
                <a:solidFill>
                  <a:srgbClr val="17375e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want a little milk in your tea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5:18:27Z</dcterms:created>
  <dc:creator>sony</dc:creator>
  <dc:description/>
  <dc:language>en-US</dc:language>
  <cp:lastModifiedBy>sony</cp:lastModifiedBy>
  <dcterms:modified xsi:type="dcterms:W3CDTF">2012-04-11T17:29:06Z</dcterms:modified>
  <cp:revision>4</cp:revision>
  <dc:subject/>
  <dc:title>Count and noncount nouns</dc:title>
</cp:coreProperties>
</file>