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135-F3EF-406E-B710-4FDC22A5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075-BC89-45EE-B784-DAABA9CF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09D55-436F-4293-AAD5-31905038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01C69-800C-4D91-93E1-AEC09F73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89591-F623-4C85-A5CC-2F36B5E3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B7BC7-0A91-460F-9724-75B819C8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E224D-AB76-4D8F-B4F8-0363118A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157FE-C4E1-4D6A-9E62-AC14B566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98B85-427F-4CDD-A7B7-FE9ACE32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956E60-9833-4CE1-B2DA-296684BE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686BB-E8EC-4059-8C76-5E9E8F03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6FE8B-1EB8-4BE3-8357-5366A0D8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2F7-3154-408C-A47C-F20FBE7F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0EA8B-AD3E-4A36-8841-448A7CBF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067C7-8800-4563-A124-CAB124A2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CFAE3-1A94-4A0D-802C-EF0096FD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744686-D279-4873-BEBB-C727725B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55A9A-EFEF-4129-9B14-394B3617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31248-26E2-45B5-8B93-F9FCDA05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FD0E88-99F4-4EE3-A434-5E37D395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4B9D0-C1DC-411A-9114-7F833510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522E5-078A-4FA6-B3B5-F1D6C9FF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15CA3-EBDC-482F-BB99-4D4EE78C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9B57-C374-4FD2-B376-16E2E77D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9FEE0-F80F-4149-BB73-7C426CA1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EDEF8-384C-4BE6-B961-86206E7A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9AD45-BC9C-4040-A04F-6C7F5E1E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3DB06-9360-4AFE-9A74-E70648C5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142DF-4C99-41AB-8815-A3510F38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21B68-2241-49BE-AC08-47F2B398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CD364-FD8F-4B00-9498-3AF1F727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34B12-0E05-405F-A278-A253957F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4D7E0-D7F6-4360-8AB8-268DE9A8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07E19-40DE-426D-9B36-9027F020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C324-C821-42D2-87FA-7EB1CC17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69C5E-6D84-4CC3-9A5C-0B239225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20FC0-C8C4-4233-BBA6-3335F832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955F7-B567-4CF7-AC22-2DB65062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95967F-0011-4AB2-9165-07DC3D46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0D3BD0-FD51-40B1-B2B4-C3C3830A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F716E-8C33-4FBE-AF18-7B6366B6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EC21F-62F8-4842-9BB9-EE1E8F6D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C08463-10AA-462A-B1FC-7B516453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6A1AD-A0FD-4356-B9CF-FA149BA0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103FA-668B-4E28-8FF4-0CF0D7E8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AE2E-BDD7-43B0-BD0F-1679F758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B04482-D293-42D2-8DEE-1BDC2960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32053F-0370-4186-ABF9-C9EB3C3E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8AA432-364A-426D-951F-A3C79D2B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4828C-4BAB-4681-960C-32ABDCD7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9CCD7-179B-48B2-A94D-D77DA712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1C27-D59B-4234-93F2-A2F3BBD0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1C37-0F63-4669-ADA4-A634B249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CE55-4728-4176-B9A9-7DE411A7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7FA2-E868-421B-A836-C5D0108C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9E20-37DD-43D5-9AEE-E4992C34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78E7-DC28-4DD5-8671-3B486B77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7A35-6736-46B2-9BE9-E4A7975C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9D30-A3DE-4B02-8CEE-F13B87BE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FB73-A338-4C63-A9CD-9CB0CF9E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C0D5-C6E7-41CB-B43A-ADE6577F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6546-E554-4096-88C0-ADE494A1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E9EF-FC77-4F5D-B604-F39E937F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6DB4F-5ED0-4F05-B071-6C1F0325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40790-E1F6-44B7-A7FB-EDE6958F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027C-57DB-4C12-BC5A-3B47D478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4954F-D32F-45B7-BF88-D7F8547B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339-EDE5-4C79-95C3-A1A303F4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FFAD1-A7C6-4C3C-8922-EB528551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1F4E2-DC74-46AE-9A59-9A64ED58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20EC7-082C-41D2-9E45-343CB87B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ADD1B-AAEA-404A-99CE-199F1610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C4C1E-0119-45F2-8728-1AFB4911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87E84-F1B8-4BC9-A7A3-7A8FE5B5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35992-A54D-4137-AE77-13F3ECA2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9567F-2030-4634-8129-2BFA43BD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2504F-BFF4-41A0-850F-42499BA7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50C51-E1AF-4BF5-9C45-000D718C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EBA2-03DE-432F-AB24-148424F1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AE1B8-B549-41DC-A6BD-4192D149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975C9-538D-4146-BE96-543F8FFD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0C686-F12E-42D2-9C33-487FCA2A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75DA4-7C07-4E45-A293-446EAD6A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B0C94-5890-4CE2-8120-243510F4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4571E-32BD-4E69-AE84-47773F06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3974F-0957-457B-8135-838BEFD7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76683-E417-4C25-888F-C2487B9A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3ABD8-5D46-40A3-9B36-A95F697E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4CB71-9448-4455-B8F6-1F8F9103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576-801A-4385-9CD4-B4EBA5DA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C7F93-A5C8-4A55-8E37-DFEB69AB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A0BEA-F89E-46DE-97FA-E817CDA3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BE169-9720-4C88-93B3-49021C37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50E12-1F99-4B36-B7A3-5E5B27A0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10AAE-80B9-43A4-94E8-B4C87B18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8E749-CE0E-45B0-8BC4-4BA0CFAB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115F2-36D7-42C7-816A-E7D3E8C4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95481-C7CE-40CD-9537-1C759B0E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7AC5A-C678-4ED4-9198-7CAA5F3A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71066-97B4-4782-9F8C-FB36DF4F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836-FD24-402C-8A17-50606F1D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1AA25-2C11-48DE-9FBE-678173E4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746BC-589A-4960-ADF7-99EA6013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80AA6-7C19-401C-B2FB-8F94ACC4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3D1C5-07B6-4DF8-8F5F-6535D00C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70D35-78BA-4997-9356-781EE76D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A4E8C-2873-40ED-A9FE-E8C2D2D2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13F0F-6C41-4881-B53B-4717FC3F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A9FF0-17A3-4E67-AC97-A9D4E2BB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F9296-F520-466A-ABEA-8CCEA52F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4F8ED-78ED-4091-A0F5-0DB0D0AA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B86F-5A5C-42D6-9FED-F3E36E9B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0DF3F-FBFE-4D76-AA7B-A3274516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3C4A9-A1BC-4DE5-8F7C-E6334AD9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198CC-BDB3-4806-A26D-F289878A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5E9D0-B276-490C-8B0D-86CF9151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86117-9AF6-4367-AA76-C83D5F51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E4C7F-1BCE-4161-8A51-90548993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37F35-BF42-47CB-9918-A5290BE4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E7A1A-8DEF-4844-8143-EF91ED5C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B7393-4D89-4F38-BBF3-AE73604A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19A17-0DEE-4587-B4AC-79D0AEF3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C03-AB2B-4BCC-AC8B-FAD7E71D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9D466-B511-4BDF-8439-8E13184B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779A4-974D-49B7-AC02-E0B81BF2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A3BB8-ED03-48B6-BD08-2AAEC3AF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2CFCB-145F-4414-A2F1-F84B2415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24F8F-40E2-4A1A-9761-AACC77F9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A0088-4FD0-4AD2-8676-80A94C1B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5BA98-58D6-4003-A12F-98091ADD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9669A-CD4C-45EF-80A8-B12C72F5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1D47A-7644-4092-9AF4-A7031A01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626BE-2802-4C7D-B78D-637CBB5A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24B-6F46-422D-8E12-EFCADE60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2E41F-0468-49B1-976A-5E51D29F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6A97C-47A5-4985-95A9-03EDFEA2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EB631-0EA1-4CED-BDA5-1DE2BEC4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CC072-0AC9-42FF-84D2-DFE5DE9F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1253E-43E0-41D3-A9F4-40318720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12BD9-ABD2-4897-90D1-990AE095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32501-364C-45EE-B87B-090B1591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2ED05-5479-45FA-A8DF-9FD5EEE4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FBE24-978C-416F-91F2-81AD112F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A98AC-3F2F-4560-B7B1-45CCB1EF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6F84-1C8B-4916-8532-3CD6C6BB2D84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2C0C-8EBE-48C9-8436-BA423159B983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D081-8134-4AF6-B93A-E520F7867B34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E76C-E36E-4703-9317-473AF168B542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3AD4-29E3-4ABB-8276-61D1EF4D2B01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F152-DF12-4669-A098-0CA69FED2425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0EE5-EE33-4ED6-9DD3-5707D653BB5C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A560-27FD-48A5-BA52-364201F6ED37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61DA-FEE9-45D1-B4FA-2DA28DA40C48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343B-DB83-4EB6-A74B-BCFB00978868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CDD1-1ADF-46A1-AAFD-051D33CB3F2E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2FFB-3AA8-4553-B5DF-E715EBB1A402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Count and noncount nouns</a:t>
            </a: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2476440" cy="1847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22766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ot of/ Many/ Much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lot of, many, much mean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800" spc="-1" strike="noStrike">
                <a:solidFill>
                  <a:srgbClr val="953735"/>
                </a:solidFill>
                <a:latin typeface="Georgia"/>
              </a:rPr>
              <a:t>a large quantity of something.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A lot of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ot of may appear before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oth noncount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’s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sal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in this soup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eat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ppl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ot of is for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an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fast food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restaurant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erve chip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many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peopl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ave poor diet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any is for plural nouns in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uch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uch may appear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Japanese don’t eat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red mea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you drink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mil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is morning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uch is for noncount nouns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in negative statements onl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in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ommon Units of Measur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give amounts of either count and noncount nou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g of potatoes / bag of sugar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units make noncount nouns into countable noun phras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 bottles of ketch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 cups of coffe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 / 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few and a little are for a small number or quantity of something.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few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a few </a:t>
            </a:r>
            <a:r>
              <a:rPr b="0" lang="en-US" sz="2700" spc="-1" strike="noStrike">
                <a:solidFill>
                  <a:srgbClr val="948a54"/>
                </a:solidFill>
                <a:latin typeface="Georgia"/>
              </a:rPr>
              <a:t>bo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few is used with plural count nouns in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en’t there a few cookies in the box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ittle appears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only 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re a little sugar in that bowl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ittle is used with noncount nouns in </a:t>
            </a:r>
            <a:r>
              <a:rPr b="0" lang="en-US" sz="2700" spc="-1" strike="noStrike">
                <a:solidFill>
                  <a:srgbClr val="17375e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want a little milk in your tea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5:18:27Z</dcterms:created>
  <dc:creator>sony</dc:creator>
  <dc:description/>
  <dc:language>en-US</dc:language>
  <cp:lastModifiedBy>sony</cp:lastModifiedBy>
  <dcterms:modified xsi:type="dcterms:W3CDTF">2012-04-11T17:29:06Z</dcterms:modified>
  <cp:revision>4</cp:revision>
  <dc:subject/>
  <dc:title>Count and noncount nouns</dc:title>
</cp:coreProperties>
</file>