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695-6545-4D23-9A7E-503ED7A5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159-5E8D-4F2F-A574-8BCF3523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46871-1C64-4FF9-B3BB-BFB83DE7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0BB93-BCB1-4957-A8D3-61D435B0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622FA-70BD-49A1-AE23-C869389F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10986-4269-456A-8C06-BC63EF41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5FE1B7-2C21-4386-94B5-195B0F43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F7D95-A650-4683-B022-1E2A3928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EE891E-D79A-452A-95AE-DA0FB2C9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A49EE-9E1F-48FD-881A-684C9F20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C4645-2CBC-4978-8333-2D038E5A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EE9CE-9FFC-4B67-80FD-794C9077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3BA7-9F19-405B-B31E-C1197B72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38E7F-0E55-4C1F-848E-A8C41050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AE77D-3052-4F0C-B354-EC2F13D6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1BB83-CEC9-4659-AAB4-F54501F7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F5146-F773-4851-BE80-318FF550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B98B38-8D72-49FA-AB20-CF689E50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0980F-B78A-463F-BD6C-B281093A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60C12-36F9-4DC8-8805-F7FDE303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5A2C3-9F65-4CCA-8605-452EF50C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41F51D-5B48-469C-B825-82179124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8257E1-2824-48BB-8677-6E7682EE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106-565A-4FCF-9556-22F639F2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745A4C-92BA-485C-B277-116D7BF1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CB7B8-3508-4328-AF2F-EEF80F99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0CFFD-5843-4676-95C9-44A16A06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9DE2A-7334-4140-8ACB-00B4DB11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8178E-B63F-4484-9673-F073F2E0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002BC-5B6B-413C-8DD3-DCFDB1A9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9DB54-CFE3-4167-AA9D-04E37EA4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F4C0B-4B61-4E94-85C8-DD44D89F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D5F05-C177-44F1-82E9-ED8D7C5D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2128F-8192-4717-874E-0DE53DA9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90A8-DA10-41B1-B79D-A7EE9024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EBBC3-122E-400E-AE40-E6E63238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FAD8C-E237-4F6D-8676-478D20C8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09F24-DAAC-4751-9CF3-C0DF9A13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3049A7-7A2F-47F3-BE82-82B5C673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1889DE-1CC4-4B68-80B6-E232D632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263753-AAE3-4577-8168-B06E5770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72787-F084-46B2-BD70-B9F4F3A0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72F4DE-8305-4940-8659-FEC9C9BA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79881-89D5-426C-A792-01012D99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F23EE-045C-4803-BF1B-DB5F8DC2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0FFA-DF01-4DF2-90E0-3AFD5C54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85CDEA-9186-4C9A-86C9-84AC9A88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9A4ED5-EAF1-45DC-BFE0-3CE2874F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00F504-62F3-414A-BA89-E51DB998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E136C6-F12A-4941-AC01-21764CE8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5D084-4E93-4ECE-8AFC-14347A5F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A272-B81D-45CB-A5E5-FE4A6FD6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F90F-6CC4-4B30-ADFE-67B7FB87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1934-E993-4AD2-B88E-D4E7726E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7748-1BF5-42B1-9A38-18F84CD2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D4C9-CA8B-4F9E-B661-62926399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9D95-DE85-4952-9889-F776A839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A44A-EFA6-4795-8681-CBBFB688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93A4-D69E-434C-A415-FF67908A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4CD1-6FCF-4B61-8006-11698E5F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FD6F-57C8-4C02-B164-09AB9CAD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E462-B92C-4FCD-B26E-EC1BE1F9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552BB-95E7-4A90-862C-A0A301DE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DACDB-8062-471C-A23C-F959AA41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B9F7C-95C8-4B97-AD1D-80F96B0F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D8CC7-3E12-4A58-B125-B2F50B5C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B30F5-64EE-44D4-98C7-7B1698EB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AF85-3D33-49DD-888D-8A5FE32D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9159A-FC37-403C-B957-344D274B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8917C-C8EF-45F6-B6C9-1BA6B7F9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7D262-F001-4BFF-9B28-A57F1A8E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A5BB0-DE1F-4500-AB87-CDFCD32E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633D8-B726-4896-89AA-EF9896B0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50F91-437E-45B3-876F-3CC394D0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266DE-7428-436D-9264-2C222AFD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40165-2781-4628-B5D5-3F96C6CA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6A1B5-5197-4631-85C4-021BBEBC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B93F3-BBEC-4730-A660-B8872080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D49-C431-40F1-A53E-A96ECACE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341D3-97EA-4B27-B261-7D042D58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3ABD3-5F32-43A9-8A5C-F04987F4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0AFF4-0E3C-4389-8EEC-4773B77C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8237C-0278-4EB5-B6E4-D17CFA61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A19F8-55E2-4935-9928-F5FAA701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2A436-F8E9-486E-926D-C7C23CF0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BC6B8-7387-4D12-AB3D-630855F4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726EE-6A53-4C8B-8DB0-89456320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4AE65-1590-4157-9E58-18DB0173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1E29E-55B6-4E03-B04D-E6EB11DC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C3D-F30E-472A-8384-86BEB3A2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5B4FD-A48F-4025-ABD8-108624C4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E13BA-ED91-441C-B642-E9B9A7FD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FEB38-8785-4241-A014-99407C7B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36B57-89E7-4FFC-ADBA-32E70002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E9349-28DE-4569-90E0-6B1E4451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4F3F5-4AF1-40D8-AB7F-593DD9D6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5DEEE-ADC8-423A-82C0-A24B8246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022C6-9841-4CED-A999-E3743066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FD7E8-7CE2-407C-95FA-27714107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C78F8-503B-46E1-B709-6FB6CC20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E60-A79A-41AB-9A6E-430A3487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33795-E6AB-4723-8BCC-3D864C4C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2D89C-603C-4FC3-A262-BB37237C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83C74-23C5-4E45-A4F0-932342CE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45B8F-17EC-4CA7-8C9B-A6EA3E00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143A7-467F-4898-B355-9E143A86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D37C3-77EB-46F0-8F02-36CB37CA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1CD48-94E4-44B4-9A87-C4412A17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9C0A1-FFB9-4281-B81A-663879A0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7CAEE-6933-42F4-8C7E-2E9C2FC1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C701B-1AFB-4FB0-B49D-FA235C96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C45-4BF6-4BED-9467-49FF439E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73B58-189A-43D0-BD5F-218519A0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6CC93-9DF7-468D-8C96-4F31F06D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0AFF1-ABDB-451B-9A58-5879F2DE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78E25-E92E-4164-B756-CD91A3C5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1C833-F4D5-4053-AB44-BB728E51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115DC-BA0E-4D7A-8D66-0978FE86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139AD-62CD-4FDF-BDDF-C3F6C6EE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A3EFD-1E84-497D-8CDA-A2F9DC49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25D8B-47DE-407D-B4E5-64B89471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8B08F-884B-472E-9182-0860B454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D32-8FC7-4BBD-B922-BA9DFAFD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A4558-3AE7-4FDA-BDBD-E434C0BA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08254-F045-4468-930F-CED8EA2B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718FC-1C25-4C82-9E0E-2E0ACDC1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77932-55CB-4E6C-ABAF-E1C34621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B9466-FBE6-492A-B5EF-CCD41FD6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1EDE9-16F5-4363-B980-75FCB1E1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97544-E9BA-402F-918E-99098675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3B030-4340-418D-94F4-9E0D6EB4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BB743-F51C-4582-AD60-D24F3192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B75EC-0E71-4424-8A6F-24907BAF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F87-B13D-4891-9A55-ED8E5E54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EE0A2-2009-499A-B5DB-82AE8652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83F81-0885-4E35-87A1-4FD55579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C1C7E-69A6-4482-9C64-7B7B0148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C3A56-123E-48CA-914D-A1ED6879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DF106-365C-48AF-BF35-CE3D072D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3F594-9DAC-437C-B0D9-8C1B4149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011D1-78C9-4C97-9E28-C929929F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3952EB-B8B4-4690-81DE-4D92D3A4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E8675-34FA-4255-988B-ECBC0308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A867F-F22C-4BF4-9645-C9E37C6A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3DB0-B7FD-4E8D-B851-79B874E3CCB9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8AFA-47A5-42B6-A175-3AF845E606AA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9771-B59F-45C1-B7C4-0BDFD9D03534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8404-FE06-4A98-A0DF-4EA447D920D2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1A2C-7E47-4215-882A-9AFB199A2DF5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FF87-085F-47CA-B3B0-1FDD8188A30E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11B9-B6A3-4EBE-873A-B2ECF23EB580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1882-D326-4DDE-A1C5-B8201AF87A9F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D3BB-8E92-4C30-8967-462FA73BD75C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1C30-2D5F-4525-AA12-40322BB5DE2B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363E-5BFD-444F-90CB-268F5DB5947B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D296-B974-4A47-99B9-BDEC2E6F9BDD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Count and noncount nouns</a:t>
            </a: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2476440" cy="1847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1763640" y="3357720"/>
            <a:ext cx="22766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ot of/ Many/ Much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lot of, many, much mean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800" spc="-1" strike="noStrike">
                <a:solidFill>
                  <a:srgbClr val="953735"/>
                </a:solidFill>
                <a:latin typeface="Georgia"/>
              </a:rPr>
              <a:t>a large quantity of something.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”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A lot of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ot of may appear before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oth noncount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’s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sal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in this soup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eat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ppl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ot of is for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an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fast food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restaurant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erve chip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many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peopl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ave poor diets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any is for plural nouns in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uch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uch may appear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Japanese don’t eat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red mea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 you drink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mil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is morning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uch is for noncount nouns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in negative statements only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in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ommon Units of Measur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give amounts of either count and noncount nou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g of potatoes / bag of sugar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se units make noncount nouns into countable noun phras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 bottles of ketch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 cups of coffe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 / 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few and a little are for a small number or quantity of something.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few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a few </a:t>
            </a:r>
            <a:r>
              <a:rPr b="0" lang="en-US" sz="2700" spc="-1" strike="noStrike">
                <a:solidFill>
                  <a:srgbClr val="948a54"/>
                </a:solidFill>
                <a:latin typeface="Georgia"/>
              </a:rPr>
              <a:t>bo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few is used with plural count nouns in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en’t there a few cookies in the box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ittle appears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only 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 there a little sugar in that bowl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ittle is used with noncount nouns in </a:t>
            </a:r>
            <a:r>
              <a:rPr b="0" lang="en-US" sz="2700" spc="-1" strike="noStrike">
                <a:solidFill>
                  <a:srgbClr val="17375e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want a little milk in your tea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5:18:27Z</dcterms:created>
  <dc:creator>sony</dc:creator>
  <dc:description/>
  <dc:language>en-US</dc:language>
  <cp:lastModifiedBy>sony</cp:lastModifiedBy>
  <dcterms:modified xsi:type="dcterms:W3CDTF">2012-04-11T17:29:06Z</dcterms:modified>
  <cp:revision>4</cp:revision>
  <dc:subject/>
  <dc:title>Count and noncount nouns</dc:title>
</cp:coreProperties>
</file>