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4C9-5BA2-4586-A635-159C273A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C02-9269-460F-8724-CF1874DE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9A2ED-5F59-49BC-991B-6039244D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BCF93-45FE-473B-B385-E9B59FB4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415EC-E9F0-45ED-9C28-98952498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A46D2-3FB7-41CE-BCA3-0CD05BC3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1F290-157D-4CEB-80BB-F8CC3603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579CD-610F-40BC-8086-305DA425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487CB-5C0D-4117-A63B-15966FE6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3FB04-6D9A-42C1-AE62-A41925C5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10F99-51F1-41E6-827E-0EC6B6F9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9B8C5D-16DD-4CB4-B0A6-DA0D64F5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474-478F-4587-9168-4670F660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7E9D4-A02A-469B-B771-E1D31BCB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1B5F0-5151-4FAD-8305-9B913AFD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73D32-EE4A-4BCE-8735-E4273E59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0694B-DA2A-49AA-98B4-29D85590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47C5E-4123-4C88-A2FA-DFF4B5DF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08926-1DA2-467B-BA9D-ECF171E7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F54DB-9663-4AD3-AD69-41E37EC9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E4948-7D2A-4C77-BD19-52E02C54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2A34B-8C39-45D7-A746-5D160F6B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AB2C4-BF5F-4AB4-B0DE-32029C99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63F-E72B-46D9-905B-500E4D5C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61374-4A09-4B17-800A-1FFBEAA4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03B49-5F83-4EB2-A3B7-92D3D6F2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61D62-B5EA-471E-A6B8-55477FF1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F7AC7-8FFA-4419-8560-E5214B6E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051CC-49C9-41D3-ACD6-970AB5EB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508E1-5E3C-4443-BD99-672FB9A6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62991-E728-4A1E-9884-129388EB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C6878-B39B-4797-8033-E966C05C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4C68B-F506-48DE-B81C-1E5E123C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887B4-8446-4CB1-A2CF-645E2D67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0636-AA35-4229-8C72-B214990D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DE829-5A29-41CC-81A5-E135AB1C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D9F02-5EF1-4DFE-8199-EA0098B1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6F3EC-1EF0-4D8B-8618-86DF0192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70FDF-DCEC-472B-9FB3-7FF63383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55513-97AB-43F6-92E5-794C4C24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2BD6C-E56B-4F41-8E49-917B6AA1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6632C-C346-4D7F-AFFF-8995657C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60E4A-D720-429F-9659-D935331B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49CDC-B60D-4151-A443-77A93989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C863F-134D-4AEB-B6C9-DB299EA2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7C9B-EE03-4068-9D74-BB99E0D3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CAAF0-0F23-4665-BEE9-0B251F93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2C71D-3AB1-4366-9DE1-41E0328A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692585-2BF6-43D2-9B21-C9C40620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BE96A-39C8-4E25-8F93-4BA0237A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B9DA04-39EC-4AB2-95E0-117084C4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091D-5546-4DB1-9482-4E4595EB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2CBF-1C65-4CA7-90E5-E8B98BB3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E7DB-C544-45B2-B861-94EED1CA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09ED-6A6B-4CFF-85E6-55642131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AAC5-A3AD-4B35-9456-846DFC47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2159-5995-470C-B979-E11526A2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99C6-658B-42AA-91F2-E8CEC6A2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89D4-FA8A-42DA-ACBE-F15EDDD2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ED96-3D78-4235-9546-7A404F28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24CB-00FE-435B-8234-981F9BFD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0FD7-8669-4437-853A-53C98A32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941E-77E4-495E-AB32-EB30A9C4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12AB4-4D18-489F-8586-0EB5677F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64AAF-0111-4331-9D21-8F53C31D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9795-2046-48F8-81E1-0481BBF9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CEE00-EFF1-40CB-86F9-CC37CEA3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D82-6B9D-438B-9383-D8FB7B37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428A7-38B0-476C-9650-127D08AF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EC77-E666-4786-8FA1-04B31654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D79E9-4DDF-4C14-94F5-6248F967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EAC14-2794-4394-AA1D-386D66E0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175FF-05BB-4A05-83E6-B0EAC3B3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CDFF3-1EA4-4A5F-A2E7-BA09AA13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4F38D-889F-429D-B984-FFF2433A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56AD9-6618-47FD-A2DC-8D4B5F74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6623-49F7-43D8-B183-AD7CB626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BA6C4-78E9-4077-81C8-C623D150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73F-092D-4946-AA78-B762485F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E0B4E-A5FA-4E04-B290-4589A26D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D0D4B-6A64-4670-BE06-F3A92E62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60348-B827-463B-821F-07B275F5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E2E56-3598-4600-99E3-C27DE774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1DC7-533F-443C-A791-275D872C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7DB0-CDC2-4DB9-9930-E657C238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FD34A-5C41-4CFF-94D9-960E8880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5066-F657-4BFB-B483-D51D69EA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48B09-02C0-4BB0-846D-A3799181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A816E-DC82-4438-A36E-694FF738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E7C-44BF-43E5-895D-DE5D75F6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41EBD-0586-48C2-806D-6B7F8990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B0A86-B13C-4972-8CE7-7735EB66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06E71-27F3-46D4-8EB3-68E0F041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D0498-4FE6-4265-BC05-99C0BE62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6C319-1104-43CB-987F-AFDD5009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A39F8-A6B0-4783-98A1-7638DCAF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15A1C-E065-4EA6-9CDC-0DE6E0A2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1E5F5-B5CD-4165-AB02-2F8786D7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115C1-1680-4E89-B709-EE01B99D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D658D-8103-4D97-BF4D-051EF153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688-2697-4CD2-92B1-298614EC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6F721-88D1-4AF2-AAB2-5F74A124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06288-1483-44EA-891C-5E224A37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7EDB9-BD5D-49EA-BED4-DB713AE8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A0E55-35AC-4794-B647-3303ECB0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E0D29-6902-448A-9578-EAA8D508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91D14-1FFA-4DD5-B03D-B3C7DC3A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C4720-C347-4DE9-9869-7E812F06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E4974-F66A-4DFA-8BC2-673DAD5D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7C88F-D33E-4D80-A0DD-AC793D76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A9724-F7EC-4D1B-9D5F-6277323E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8C8-BAEB-4B4F-80FE-AF13C36C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41650-FB5C-4E4E-84E8-AF000776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D677F-ED86-44A6-82DD-660BE5EF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8BB6B-CD33-4BAB-8E24-20221BB4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F102D-C1FB-421A-B888-404F1F04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54D04-CAD1-4524-A4A6-6247FDB8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A1938-4FB9-4B81-B004-6B551C8D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8AEE0-C985-4CF6-8647-7A574F92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D90A8-445D-4BA5-9273-AF2D2F85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3117A-2C3E-48E2-8B60-EE2606E7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617EF-6A44-4FA4-A16C-D39C68DE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329-97C2-4084-B1B9-A07C3901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FA2F3-01F1-49B0-BF07-345B38F4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9B75F-6AEF-45F8-809D-645CB642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C318E-B7C2-4AC5-9390-78E8AE3D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BDC5F-38AB-4CCB-BB2C-84B46AE3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37347-12DE-4D8C-98F9-12E1D2AA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B2475-FB19-439C-B888-A07E8758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D9AF7-2017-4A0D-8588-FD5EFBF8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748AB-7CBE-48AD-A5E2-AD771F35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FEC96-B7FB-4158-98B0-88DC8F60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B22FD-B5CC-4EC6-960E-BF4B882D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3CE-C915-4165-80B7-2B2C6BE0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21FE0-ABDE-4814-B278-9CFD10AD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2321B-EEE5-4618-8551-F6064DBA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4D135-471F-4DE9-9CBA-4946D4C1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5E0A7-1656-4C70-9758-280CCAFF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FADFA-85BA-4B0A-A112-224F9443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85418-EE7E-451F-A084-18FFFA67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FBCF7-C8EE-4635-8A8F-107778CC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9E608-9AFB-4E27-9878-8A39FCCD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62A44-4D82-4B44-97CA-82AD2B8F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F79F8C-4390-4088-B59A-7A7CAA3C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A4E5-93F2-4F91-9F46-810436AC2635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2EB0-322C-41DA-B4F6-37A2EB5ABBBA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AC9F-3441-49A9-AB1B-4BCC7C146D33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F3CE-2F7F-458C-9B7D-3892B35AE76C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AFB4-2427-4300-8549-FF733E191D39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EB2C-0BC6-40BD-99CB-4F86D797EC14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126C-42EE-42F6-AF08-830D57B23104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0605-A974-4ED1-93FA-2E6CDA06B7E7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893C-C467-46C6-BA48-30B515B8E2CF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9C35-39B5-450F-9180-4216CF0CD61E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D6FA-DE21-490D-BBD6-04F7807A35AA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0CAD-B471-4561-9E55-BF64760FC397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Count and noncount nouns</a:t>
            </a: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2476440" cy="184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ot of/ Many/ Much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lot of, many, much mean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800" spc="-1" strike="noStrike">
                <a:solidFill>
                  <a:srgbClr val="953735"/>
                </a:solidFill>
                <a:latin typeface="Georgia"/>
              </a:rPr>
              <a:t>a large quantity of something.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A lot of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ot of may appear before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oth noncount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’s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sal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n this sou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eat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ppl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ot of is for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an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fast food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restauran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erve chip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many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peo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ave poor diet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any is for plural nouns in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uch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ch may appear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Japanese don’t eat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red mea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you drink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mil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is morning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uch is for noncount nouns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in negative statements on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in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mon Units of Measur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give amounts of either count and noncount nou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 of potatoes / bag of sugar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units make noncount nouns into countable noun phras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bottles of ketch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cups of coffe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 / 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few and a little are for a small number or quantity of something.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a few </a:t>
            </a:r>
            <a:r>
              <a:rPr b="0" lang="en-US" sz="2700" spc="-1" strike="noStrike">
                <a:solidFill>
                  <a:srgbClr val="948a54"/>
                </a:solidFill>
                <a:latin typeface="Georgia"/>
              </a:rPr>
              <a:t>bo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few is used with plural count nouns in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n’t there a few cookies in the box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ittle appears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only 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re a little sugar in that bowl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ittle is used with noncount nouns in </a:t>
            </a:r>
            <a:r>
              <a:rPr b="0" lang="en-US" sz="2700" spc="-1" strike="noStrike">
                <a:solidFill>
                  <a:srgbClr val="17375e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want a little milk in your tea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18:27Z</dcterms:created>
  <dc:creator>sony</dc:creator>
  <dc:description/>
  <dc:language>en-US</dc:language>
  <cp:lastModifiedBy>sony</cp:lastModifiedBy>
  <dcterms:modified xsi:type="dcterms:W3CDTF">2012-04-11T17:29:06Z</dcterms:modified>
  <cp:revision>4</cp:revision>
  <dc:subject/>
  <dc:title>Count and noncount nouns</dc:title>
</cp:coreProperties>
</file>