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27B9-C511-4ECB-9D37-BCF888C2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775-67B9-479F-B709-4D119103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42B59-CB1A-406C-BC6E-23469A7E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92C62-2A01-4FBC-8874-3C52AA65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150D04-8149-4B6B-862F-09E5D721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B97097-5966-4016-8E40-C5505DC2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E1A344-77B3-4508-A01B-CCD33B67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B8F4F-B867-44D1-AA3D-D669C28D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E9DBA-C2EF-420E-9AD5-F219CB20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BE2EE6-4331-41B2-9C74-A7390664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88EB48-DDFA-4AF3-B13E-0C806D3B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99FD2A-CC81-4539-AABC-C68EB783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FF35-0351-479F-BF16-4979B2B9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DA857B-8E9B-4680-954B-CC6B16CE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C92539-C8D4-4E13-849B-54516930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5699DE-CB1F-4BD5-97F0-2351DEC8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E5F2A3-B15E-46F6-840E-1872DD21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6C923A-1206-49F5-B3B9-63DFBDA4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57352-8B29-4D7A-B48C-9E859205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B8ADBA-688D-4AAE-ADC3-1AF67AA7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D5DC7-50E7-4D76-93A1-58B82B29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516D5D-14CD-436B-AA2B-C74F9CEB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D8C611-17B1-413F-8511-A91C8950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FEE-25F8-46D5-A353-62370076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C6C103-FA5B-4DBB-AFD3-5A9FF0D9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78295-96BC-4FA7-9680-246EDEB5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A45FB-A0F8-4908-B19C-16323B1C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A991F-B915-4589-8E8A-E5AA4D89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1F1A0-5AF0-4F9A-80A3-4B74724F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29D4D-8B4F-42FB-8B7A-8467DDBB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EAB1A-A6AC-446F-BD0E-9C5E66B5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92754-FDE1-4E0F-B83F-6AC049D3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7A7D3-D651-47CD-98A8-9585878F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14D17-6E89-4B31-9992-13D2069E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F16B-39B0-421B-96C9-4EAF2175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1C6EF-0508-4793-AAA2-DE580462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6CAB2-1AFB-40B3-A180-0275F9E2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39A7F-7ACE-498A-ADDB-B74FABBC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8A972A-628D-4FBE-86CA-E91F9108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E4EF97-DEFB-46E4-B7AD-9ACBFF7D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EEEDE6-B5CE-4141-B248-647F43BA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99639F-6ADB-4A36-B55F-850A7896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3154F1-2CFA-47D7-95BB-C017637A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137B1D-ACA6-48B0-8F8E-618AB466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DDC60-ADE7-4004-B4C1-3BA91347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F3C0-7154-4C9F-B956-03C41C21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2D472F-04E1-4815-ABFE-121ECB81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CC10CC-6122-400F-84FE-22630872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59CD2B-1687-419A-B5D7-F2221180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D4B9EA-8E78-4FC7-9F73-86313E10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5E823B-9BF2-40DB-A3A2-83864CC7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4C2A-E848-4688-B7CA-ADF52CCA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60BF-81B0-41C9-81CA-7633BBD6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6139-8C99-4F25-A1CE-87691937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110A-FB6D-423B-B4CC-1D6B08EC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4AEE-BE44-4C01-800D-4BD73C8C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9AE4-BA1E-4800-B482-CD4066CF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A130-3854-4A9E-A563-76C0CFD6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D4BD-7E07-4D8C-A5F1-C21E64E9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F033-AAD6-4E90-9CB8-3DC85A06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530A-C910-4070-915A-A7CBF987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A2F3-0FCC-40B8-9F56-C353CDF1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C7CC3-3639-4B1B-A40C-CD72AAE3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B3CE1-1037-4ED7-9606-74E37E2D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438BE-126A-4663-AE77-12A3E676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BF814-1DFF-4349-B70B-E980B27F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25066-0D6C-4C3E-970B-29BFA9AB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6327-61AE-40B5-8222-05DB1765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270C1-06A5-4484-A80F-6A404324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D5F2B-5645-4BDD-9F66-E40063EB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604E6-3F2E-4DA0-953E-08FA3D10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C357F-69DD-4DF8-8EBB-46A0B303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37482-620B-4B9C-ACF5-DF67DEE6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0FBDA-F738-45AD-841C-F42B4907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FDE3B-50E0-4CD3-B482-EAD8D1FE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5A1E2-0E3A-4F88-88BF-B2E90962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3DE65-1ADD-495E-A518-5435916E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E0508-2DF5-4F7E-8B8A-055E0380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4A3-5C22-4B40-8EA3-B7767BCB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652AE-4775-4659-9F1F-58851851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C6F6C-D545-4D96-AAF6-37406D0D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FC2A6-F0F3-428A-8715-2BCE28E3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CFCBD-7724-439A-A013-8B03B1CA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A2072-C428-41AB-A671-53FCD40E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EEDE5-7990-4CD3-B041-D52F9E7D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11C6D-0262-4BEB-834B-614BDA53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AA9E3-1848-480B-A2AB-CF3E4C85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B6651-F9E5-4453-8164-649B6631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7ABA1-26EC-4870-8772-E6D75BA7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E496-85C9-4108-8D9C-FBB528FD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B227A-C35B-453F-A203-CB5C4F93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E9A54-DAC1-4833-A4B8-D182A9C5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83330-DDCC-4380-99D4-8981C5C1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1AEE1-3DD4-493A-A698-D95E628C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D99B9-1FAF-456A-8DAE-03FA2C27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B51A8-6E34-4487-A663-77EDC9E3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830EB-6889-43E0-9D77-2A1E4D02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70F83-E6A9-4904-89D7-20E62728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F6706-244C-4ACB-9B5C-6B332B29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51E74-7F10-467B-955A-440C2923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E42-2689-4423-A746-B1DF9CB3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FA21C-F9B6-439F-B7A9-588D4E6F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75040-90B3-4A97-AAB3-7FE00895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D1515-D7DB-44FC-9244-0A8D6283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3174F-0AE7-4306-B8EB-A2DC93E9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34530-D984-4BD0-8FEF-51CBBC38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9F479-E71E-4DD1-A999-DFDF68AB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858CD-10B4-4C9C-971B-0AEB327D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C05B2-8876-4BAA-91A7-2D02BEF4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CAEF9-723C-4F85-B258-AC47E5D3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4600C-2D84-48ED-9BAA-D21A5CF3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097-4FF4-4494-8BEB-566F71E0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E2948-C8E0-4C15-B4BD-BAD48E5F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46835-AD27-4E8A-B0A9-01878E20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59088-99BB-46DC-80D6-AA7C586A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BD717-7432-4A4E-ABAA-AE475F67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25D2F-0B78-446B-9949-4B6F7E4B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7C35D-29E6-4654-B6C8-D0F3513C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69B32-0B7D-46C0-A359-D6E1B502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A0E49-8A2D-4BBA-A527-4CD9646B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4DA07-82CF-4F3D-940A-42E188B3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B29F7-2FA8-4FD6-8606-E825B827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981B-403E-4842-9BF4-FCA50D05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325CA-52A3-4F2B-8CC6-22A5329C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F3D42-CF55-43D9-AAAF-C097CA23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859AE-D58D-4CA0-938F-F4BF667F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70CF0-1C6B-470A-897A-599DCE98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B4EA1-917D-4EB2-AFB4-8748F302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25E2D-B5DE-4CF0-A0BE-BC24C19D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BC1E0-A54D-41A3-95CB-18D371FE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B27F3-E52C-4740-89D3-9A4CC5CA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08271-FB3A-40F6-A4D7-D3C59916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09684-1D55-4A2A-B4F8-B29D2611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7FB4-74B2-4235-9A6A-5B2E59DE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726AC-C19B-4D2D-A9A8-810DC07F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3D565-54E0-4D98-9A58-AD3595B5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C8423-75C3-480E-92AC-7472A6EE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C6083-C9F1-4269-A630-0F748BC9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BA391-EF03-4B45-B654-D4CB2AAB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6CCC3-3C5D-4595-9A91-35EE66AE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2CD96-D5C6-4F7B-9819-C1C31150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C86479-9BA8-46A6-83CE-7F961AA3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D204AE-2077-4A41-B759-7AF11640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7FC41-46A6-47E7-9089-583288D8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51F0-3CB2-48F7-AAB6-F0D362856B33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239A-6171-4578-A06C-153E049B9596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453D-F5D4-4F61-9E3D-7DF7C6B94EC9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6653-CACF-41CD-919B-D5C48D198CD8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4626-FC71-4A5C-88F3-AA4E88C8B829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2E94-0A54-4DC5-8BF3-22190717E902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6055-5C47-4D9F-BA81-E26C7463B625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AF20-E6AA-4E34-9BA1-8A7EF5121628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F1D9-50E2-45C0-B385-1A67F055FC8A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2D13-D742-4A26-94F8-C2101148C250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EEBA-AB1A-4B05-BD52-11A17B678868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A3D6-922D-4F4A-8E66-185121582BB6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6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Count and noncount nouns</a:t>
            </a: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5148360" y="3357720"/>
            <a:ext cx="2476440" cy="1847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"/>
          <p:cNvPicPr/>
          <p:nvPr/>
        </p:nvPicPr>
        <p:blipFill>
          <a:blip r:embed="rId2"/>
          <a:stretch/>
        </p:blipFill>
        <p:spPr>
          <a:xfrm>
            <a:off x="1763640" y="3357720"/>
            <a:ext cx="22766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ot of/ Many/ Much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lot of, many, much mean: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4800" spc="-1" strike="noStrike">
                <a:solidFill>
                  <a:srgbClr val="953735"/>
                </a:solidFill>
                <a:latin typeface="Georgia"/>
              </a:rPr>
              <a:t>a large quantity of something.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”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A lot of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ot of may appear before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oth noncount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’s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sal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in this soup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eat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pple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ot of is for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any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fast food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restaurant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erve chip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many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peopl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ave poor diets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any is for plural nouns in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uch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uch may appear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Japanese don’t eat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red mea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 you drink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milk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is morning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uch is for noncount nouns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in negative statements only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in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ommon Units of Measur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give amounts of either count and noncount nou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g of potatoes / bag of sugar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se units make noncount nouns into countable noun phras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 bottles of ketchup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 cups of coffe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 / 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few and a little are for a small number or quantity of something.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few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a few </a:t>
            </a:r>
            <a:r>
              <a:rPr b="0" lang="en-US" sz="2700" spc="-1" strike="noStrike">
                <a:solidFill>
                  <a:srgbClr val="948a54"/>
                </a:solidFill>
                <a:latin typeface="Georgia"/>
              </a:rPr>
              <a:t>boy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er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few is used with plural count nouns in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en’t there a few cookies in the box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ittle appears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only 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s there a little sugar in that bowl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ittle is used with noncount nouns in </a:t>
            </a:r>
            <a:r>
              <a:rPr b="0" lang="en-US" sz="2700" spc="-1" strike="noStrike">
                <a:solidFill>
                  <a:srgbClr val="17375e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want a little milk in your tea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5:18:27Z</dcterms:created>
  <dc:creator>sony</dc:creator>
  <dc:description/>
  <dc:language>en-US</dc:language>
  <cp:lastModifiedBy>sony</cp:lastModifiedBy>
  <dcterms:modified xsi:type="dcterms:W3CDTF">2012-04-11T17:29:06Z</dcterms:modified>
  <cp:revision>4</cp:revision>
  <dc:subject/>
  <dc:title>Count and noncount nouns</dc:title>
</cp:coreProperties>
</file>