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9BB-7C61-4CF0-BD3D-016B75B7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4AD-DB77-4FB5-8A0F-4A09E42F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8A98B-12E5-40B2-A4F4-24787FBC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D8AF1-E082-45F1-A7B8-AE4E6E4F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58285-4F77-4AA2-BD02-8DCD5496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D8FA2-0537-436F-A721-B9CE742B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89CEF-FD8A-4C50-9E72-786439F7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BF66F-C875-4100-9B82-8824D0AC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7116D-84C8-46CE-AB8D-62B7E728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7DCB7-4B68-48C1-9CBB-6BD9605F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1929E-C12C-453C-987A-A457E8BD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00193-00CB-4011-8430-8B1B3563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4C5-6E51-45E0-9111-91E32565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6B9E36-FE7C-400A-9B53-EF37E5E9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2124F-1776-401C-8ED1-17DCE840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682AD-DC1D-4AB8-B310-974B5D05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3DF2D-6F7B-4AE0-A774-5E28CD20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91555-7A60-45FD-B12A-F9B9218C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99A98-B7DB-430B-8EFD-9D06911A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AF8A7-413F-4466-B76D-9C470820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C2BFD-1348-4CA2-8E78-D71191A4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D0DC8-BEF6-4A7A-B774-12AB0D57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5A3D9-9976-4587-B914-EEFF565B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56D-D45C-4255-898B-74A63933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5DE43-A634-4721-A8AC-688DE338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A8567-38AD-4E22-AC95-7D2255ED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5C004-F2F0-4ABE-B2F5-D0C6D3AB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C6405-0739-47F4-8005-F2D768EE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6EF03-97F7-415C-9778-EE942B9F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F7282-6169-4AEB-A176-6616EE18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E0A57-F097-4BA2-899D-6CC30B22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26108-4D40-4B74-B3BC-4481587F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F0E24-B4CA-4A37-B9ED-96D4504B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EB451-680F-4D96-8DDD-ADC9E571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8F86-DB28-4B24-B147-E19E83EE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439D2-20CB-43E1-A5BA-679C214E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CC691-C895-4B8C-896C-A4CE4E12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388CE-7A85-4EFB-B84E-754B6663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69F49-663D-4924-8AE2-FA3EE8FD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7B876-B203-4459-8239-92350797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7340B-91FE-49F2-AE6E-FFD3AB25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E68A0-3EA1-42BE-A4ED-D387329A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CCF5E-1506-4163-8197-31D58B59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962998-A3C3-48EC-BF32-FA513676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CA268-B72F-49F5-B981-52BE6FCA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B325-E0E8-4225-B0B6-3F7AB136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5EE0E-444E-4222-80F8-D34E883C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2676F-3DBB-4190-9093-6DB3F038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323C2-FD88-4609-9BA4-924435BE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3BA69-D365-41F5-9850-036DEDC7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BFE91-9437-4AC9-BC0E-C7FBF463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6329-EE3E-4962-8DC6-266E68C1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B64F-0F31-490B-84E4-59F82829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1C09-EDE8-4BE1-82FA-3BCFB811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0EF8-39FA-448C-B7DE-201AB7F8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8028-EBE3-4EF8-BA26-E73F6021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A3E-4078-4FA1-B4C8-3AC74A60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DC93-665B-4938-9DA8-1B486436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42BD-3660-4D10-8282-B411D93E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7520-5C44-4782-AA49-BBAC3506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D411-2FCA-4915-BEE6-0C3E7778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D975-4EA7-4FAF-9ADA-8B55F256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C1139-9567-4EB7-8D5B-A33C3C4D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09E88-481F-41E3-A3E6-71DFDEFF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A459-A713-4DD2-8979-2D623246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69AA6-684B-4831-BA0B-C491792C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8D4CA-779D-44C6-A053-FEBAAA7C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0EE-A3B6-40BA-AB55-BB4F1FD2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C9102-0C51-471E-A23E-9C9AF7B4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EE8B-89D1-4D48-BFE6-55635F79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D5AD8-9FE0-4096-B7DF-517D5575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B066-86B3-4E41-BB0F-252CE79E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FD135-DB92-4F7C-BF83-B724479C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5AE0-30E1-49E1-9B9C-672C4890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B9098-51F2-4EC4-BCE7-9DCB2D4B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55A1-D9DD-4D7A-BE8B-03E6C54B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053E1-EA3A-42FF-BF9F-E012B398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44FD-9207-4371-B55D-45E898F5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805-0906-427B-938C-0A8C421D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9B3C5-6C2E-43AD-9224-597971F8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CDE7C-BD92-4E04-B913-01B0541F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B6153-E51C-4B62-9C8E-B0C924BB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7D457-33E0-40C8-B660-24ADAD35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AFBA5-CBA2-44B7-A998-66EBD199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6A961-61F2-4EC9-965B-5C62A9AA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D0E4B-DCE6-4440-8558-D40BD91D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E2F6F-DF80-4699-9EFC-6D096A97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3D5D2-A8CF-480B-BA89-725215F5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F70DD-5B9F-48F6-B113-EE077F7D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575-B195-4607-8AE1-57397CB8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ECB37-44B6-4365-8672-9FC63C03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6AAD2-4894-4AE7-890B-9FDBDC03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3FA39-ADA2-445A-B3B9-0CE7F6CA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6F5F3-0D4B-41B6-84D7-A8378614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A755F-3F02-4124-8AC6-8201E93A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3E987-60CD-42BE-8181-B602480D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61441-55A0-4625-AF46-D447C516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4209E-5044-4BD8-A559-70744C48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324F7-D4C2-40BC-9244-418099C9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56DDD-4DFA-4CEC-8352-47AAC34C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84F-4A5D-4343-96C5-18B8D4A6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7DC0F-2876-4F26-88CC-8B209FFC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63A41-8A2B-4E18-9EB3-9CE94959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7424C-ADA5-4E9A-9BE9-EAC72F62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642F1-D549-4F46-8DC0-7BF90EDF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F0EA4-2B95-479A-AB8D-C236AF1C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932CA-BE2C-4A48-9628-8636DC96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4092F-81E9-4856-9F68-734D1261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09EE9-A32C-4AE5-BB46-EC580FF6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129A4-3EF1-4DF3-86DB-DEA18470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1FCA7-2E96-4647-9B4C-D240B48C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14F-7964-4723-893E-36D563F6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28F86-A9C2-4E5B-8DF5-6F3B6F63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AAB8B-5807-4556-95DF-C6A48EAC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36123-6A09-4683-AFAE-F4DF3204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F0FF2-C5D4-404B-8055-1FC5AF97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6751D-284E-4DC5-B9CF-5BE9C21C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3D8EB-6122-4A75-87B2-85C44B5E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A20D0-DF81-4E47-AE4B-30315894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47941-3A77-47E1-AE95-7A99A5E8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57E1A-CE68-48EE-8461-24E9788B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A3316-85BD-483F-8729-BC8B84FB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325-ECF1-4D78-B04B-B7444F88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F0019-6E81-4E7F-8BAE-D7933B94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4C4DE-0C3B-4FB8-8D44-82C0FBC3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066A4-27B2-4BF9-AC2D-6D12CD22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56B45-5FB6-46F4-A54C-6D4EECCB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5BCF6-6403-4FD6-B159-471D1499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03D68-ACC1-4D00-B30E-8DF690C2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06917-2781-420A-A3D9-2F81E7A3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BC3C1-FD27-48C7-8DA2-5CF622F6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10CDD-740F-4DC8-9CE4-027E2AF8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0636A-DAF5-4A61-AC0F-64897660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5C1-4391-49A6-8B09-B1E3A4C7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6BD96-A326-46A6-93C9-738EF8EA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3733E-512B-4E0C-92B7-2EA98A22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CA95E-621E-427A-AA24-47CFCC9F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F4B29-7A19-457B-B610-98AFCC28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FA7D8-6CF3-4CEC-B894-0B4804A8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8627A-3E93-4EAA-B6ED-3B20F588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43AC7-A3B8-41AA-8852-75283288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FF681-2200-465D-9F3D-F315CF9F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62C52-891D-456A-8738-333EBCF4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D3E8A-3415-4891-B57E-463EC761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764B-814B-44D5-9C1F-A7F94551C51F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EBB9-B104-4EB5-BC36-A36C64ED03A1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9790-E908-4A87-8B30-8953896EF5AF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ED7E-F50F-4819-9B5F-BEFC649E4B92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31B9-8B2F-4D82-B926-85C69477E956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09D9-8310-4F94-BFC7-F70053E4E597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24C3-3690-457E-8D9E-F8C286F91C1C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2B47-9FC3-4F34-B12E-D0B3F730BA4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DF65-4F10-45A0-AAB1-5829BF452CAD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75A9-F0B2-4A36-A1EB-F52ACF569980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A3D3-8DD5-46A1-B085-32AB783B7BB0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2424-3B7C-49C3-9DC2-2A32CC127DFC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Count and noncount nouns</a:t>
            </a: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ot of/ Many/ Much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lot of, many, much mean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800" spc="-1" strike="noStrike">
                <a:solidFill>
                  <a:srgbClr val="953735"/>
                </a:solidFill>
                <a:latin typeface="Georgia"/>
              </a:rPr>
              <a:t>a large quantity of something.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A lot of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ot of may appear before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oth noncount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’s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sal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n this sou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eat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pp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ot of is for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an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fast food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restaur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erve chip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many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peo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ave poor diet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any is for plural nouns in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uch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may appear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apanese don’t eat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red mea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you drink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mil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is morning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uch is for noncount nouns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in negative statements on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in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on Units of Measur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give amounts of either count and noncount nou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 of potatoes / bag of sugar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units make noncount nouns into countable noun phras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bottles of ketch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cups of coffe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 / 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few and a little are for a small number or quantity of something.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a few </a:t>
            </a:r>
            <a:r>
              <a:rPr b="0" lang="en-US" sz="2700" spc="-1" strike="noStrike">
                <a:solidFill>
                  <a:srgbClr val="948a54"/>
                </a:solidFill>
                <a:latin typeface="Georgia"/>
              </a:rPr>
              <a:t>bo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few is used with plural count nouns in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n’t there a few cookies in the box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ittle appears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only 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re a little sugar in that bow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ittle is used with noncount nouns in </a:t>
            </a:r>
            <a:r>
              <a:rPr b="0" lang="en-US" sz="2700" spc="-1" strike="noStrike">
                <a:solidFill>
                  <a:srgbClr val="17375e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want a little milk in your tea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8:27Z</dcterms:created>
  <dc:creator>sony</dc:creator>
  <dc:description/>
  <dc:language>en-US</dc:language>
  <cp:lastModifiedBy>sony</cp:lastModifiedBy>
  <dcterms:modified xsi:type="dcterms:W3CDTF">2012-04-11T17:29:06Z</dcterms:modified>
  <cp:revision>4</cp:revision>
  <dc:subject/>
  <dc:title>Count and noncount nouns</dc:title>
</cp:coreProperties>
</file>