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BA7D-6BF5-48DE-ADDC-897D0A84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1013-2303-4DCF-8D5C-35BF3AAA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231B92-44CF-4EC5-83E1-F702FC51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2D3C9B-2843-4A85-B4E9-DB0C0641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316D9C-9DC1-4C4A-A72E-707F0F89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CEEEB2-E53C-416E-ACF8-0D14F1D2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650BA9-D3F2-4FE9-B462-FDE5ACAC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ABEF38-E01D-4DF9-B54E-A1FE1E4B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F8F883-EF67-40DA-8604-749F67D2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75BAF1-080E-4C2E-AA50-FBE5070E3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429E4F-89A2-4D98-8FBB-E20925D5C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1DF3BF-0BCB-4AB9-B047-B9D6D1E6A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AD76-42B0-4030-BF1E-C10740C7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EFF07A-4E4A-42C7-80E9-E47F069D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9459A6-6B54-44DE-BDF9-3353157E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737E1B-2F78-4241-BA4C-68C5DAC3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020A6F-45CB-4957-AFAE-91C114D6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5C70B0-E411-410C-8692-0663931D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2A2295-1BE0-472B-B6B3-3CCE1161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FF4BF2-EB6D-48DB-B900-B9D25766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C1B7E6-662A-4C9C-8C1D-05862825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DBCC0D-114A-4878-950C-FB49F03E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404E2B-82D7-4229-B39A-69CADB2C7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5108-D018-47C2-B8CC-2E228321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AB42E2-4FE8-4327-A4A3-0380C5C92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3D403-8B6C-405E-9B2B-F486CCA4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77D3B-81CC-436C-A716-00BFCB98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09A90-56A9-4CF4-B844-7B308659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813D4-62AA-4E6E-9E87-8E38CBEF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F696C-B536-4342-A723-6DD8BA47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C4C82-552A-481E-81D1-5FE3D0EB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9DEA0-A9F2-4C2E-947D-2BA1428C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B6A5F-7FC3-4A43-A1C2-B5902665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BEEA3-03DB-4745-BCFB-66F077B0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D781-81DF-4D85-9A6E-F87017211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614DD-A28A-45D4-B6B3-D44C040F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B1F24-1B79-4B23-8C4F-0E558B896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4ABCA-5E01-4260-9C66-CA5FA0722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2AB609-1E64-4D56-A2FA-16919AC5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1AD58C-EC5F-4BB7-A10D-6FF51A54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6A6CAF-D719-4891-9B90-ECE5AB72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5ED917-F608-4430-90CE-50921154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F07CBE-324C-4C34-94CC-4C5DC52A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7535CB-177E-483E-A785-CD058BE9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8E72E2-92CE-409D-AE90-F5C080E2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4EA2-3356-483C-B98D-E2BC4B9D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570385-DE13-4CC7-B473-42393686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5F94C7-28CD-4E36-9687-45C71C83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3449C1-5BBF-495C-825E-77FD3330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53844B-673D-4EBF-ABF5-A877897E9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481BC0-865E-4529-B59A-F5ED065C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ACB8-B8C4-4988-9426-15EEF0E0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5FFA-D321-4D9B-A440-6455B9B8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28B0-D4F1-4803-A766-E185D65D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5F7F-778A-445C-9A33-849F359A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18DC-0CAD-4E28-9FB1-B434E3E5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6B63-534D-4E0E-9226-37809469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B7EC-EF09-484B-9EAC-248A1373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05D9-C2E2-4C9D-9D5A-4BD944D8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9CE7-71EE-4E18-8B7F-72A58DF4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FC89-9504-479C-B77E-A78BC53DE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837F-C73C-482F-A8EA-11B4E9061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61787-DB7A-4AD4-9A95-9EC49DBA2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74459-93D3-450C-BDCA-2B8BA995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14CC7-4B12-437A-8FFD-62D57F8C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13624-395E-43D4-84C0-0A22B86D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4A057-DED5-4444-A9F8-F600278C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D7E5-69FB-45B6-B3FB-DDA21757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E41B5-17D8-4110-BFAE-C00733AC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5C6B5-27DC-4883-8AFD-3605D069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F53C1-6003-4B98-9501-76298749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098A9-3122-4F3D-8974-63FEB940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B89AB-30F0-4389-B4B5-987E15C2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944AA-CADE-443B-BE77-7DC20300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4839A-3EA5-4E31-9884-04817B41A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8C825-EC6F-4AAF-BCF9-FF251BAC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AB72F-B821-4518-9E32-E140948C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D2B87-C6E7-4F5A-8C43-4B99C0AF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014A-DCA0-4305-9E33-33FCDF13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68E8D-B8B6-4405-8965-BFBD812D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3FA1B-D18F-444E-B255-E5D0D9AF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870E3-7CB4-40BD-9D45-CA690312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5D3FA-D75C-443B-A13A-8EC54B9A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7150C-C1B5-41F3-AF40-5B1DAFC1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DBE3A-9FD7-4CB5-8C40-0303CD96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5E29B-1EE8-44C3-B04E-DF50E602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6EBC2-9B1C-4A49-9841-C4A913C5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E0723-74E2-4DAB-B1D3-90C3BB03F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11E3D-D578-48FD-8B02-58197A2F9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1818-3204-4D1D-BFB6-57760874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C6420-F19B-4653-A629-D5CF376A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33F1F-D5C8-4546-BD2E-6B624C44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2B4F5-C9DA-48E5-A0F5-B62964CA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BA7C7-142A-4765-AC19-B0052CCB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6F19D-F9CD-4DC5-9799-1A999E72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EEEDB-4C40-4D3D-A2E3-CD70CF44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DA912-ACE8-469D-8EFD-9320AE65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16025-182E-4EF1-83BA-BB9BB589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83A20-1A65-4013-92DD-96FCC4D1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DCF3B-9B87-4F38-893A-51065D2D9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2B3E-FFC7-4621-B0FD-836FCF45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B1E40-5C0B-43A1-8232-77E588C7D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0AE7E-0129-4AD7-88C5-23E7DC58C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73966-D8AA-4AC3-9395-B2FF5FBD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F9FB1-7C61-404F-B4B3-7833677C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A7C91-557A-41DD-9A11-BAC03B11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0D73B-7EA4-44F2-9131-26EAA15A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7091E-83DA-4276-99F8-03E3311F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509D3-187A-4812-BA03-4C7407CF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6D3E5-8921-4A24-9989-2AEA71FD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CBB06-2DEC-465C-82DD-A44C055C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10F4-9E4B-47AB-B160-73063E53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3EA08-14ED-4CAF-ADF0-1812CCC4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7F526-D767-43E0-8E5C-6BDD2F5AC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C1784-B21E-4F31-86A8-A658FF660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EFE5B-EB17-48A8-AA17-7C1BB10F3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1B098-B4DF-4D17-A197-CF8036A1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1163A-681F-4031-91DA-362B8FB3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FB720-662E-47EA-A1E5-13A83663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05853-9D6B-43E4-A3D9-549B3121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F159E-CF3C-445D-8605-9571691E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68559-DC4E-451C-A543-751FC469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5109-B335-42DC-ABEC-8B05D6E1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ED421-852E-40C8-87A8-401E1861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70480-485E-4813-BA0C-24169C24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6BC15-B8E6-45EF-BD0B-662432AB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AD42C-5424-4BAD-B475-15562F2C7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D0BA2-D474-41DE-8061-723FF5069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0EF1D-A072-4739-AB08-4806FB34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8AC9C-58F0-4AC1-9E1E-56A9AD5C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7B9EE-F82F-4837-9E91-43BF01FD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3DDBD-BDE0-41FE-87EC-44EA9ED9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0CB36-8497-4589-B125-7C259F48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3A90-64E4-4505-B899-9651B555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AF4FE-58F7-4904-A4BF-19C52325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80223-C925-48F7-BBFF-A6F57989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62EA4-2E1D-4112-A1E0-8089E819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BA95E-FB17-4040-ABCC-184FAEE1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D3F11-96C7-4564-9AB7-1B194818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2E0D6-FE30-441D-A782-E144D3A4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45BFF-87D6-4F65-B62E-DC95AAD6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BDFD34-242A-4743-A724-0F6D1BBE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C534E8-D5C5-461C-B473-DEAFD8ED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D5FA52-478B-4914-AAF6-EDBF5571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2E3A-A405-4D56-B366-C9449DF08DEB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AE2A-5037-4D25-9D0B-5AE790758E7A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1133-1D4F-4271-A9FF-57DAA1015FF3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F669-69D8-41C5-A05E-5C01125D9433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0DA3-BF57-4393-9E35-B8AA0F5F44A4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8775-D348-4FDE-973C-D79BFD24AC6F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0FD5-94AE-45FA-AF6C-DD4C2CB19BA3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3101-018D-4598-AC64-0112F4DC8461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E672-C7AF-44B6-B7FB-9CEBDBB97CC4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A0A0-6A7B-48A8-851A-E63726637564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5BD5-586F-42D7-9E5E-713C44C0A011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67CB-92C3-4D03-A309-15C81A40040C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6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Georgia"/>
              </a:rPr>
              <a:t>Count and noncount nouns</a:t>
            </a:r>
            <a:r>
              <a:rPr b="0" lang="en-US" sz="4200" spc="-1" strike="noStrike">
                <a:solidFill>
                  <a:srgbClr val="4f81bd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08" name="Picture 2" descr=""/>
          <p:cNvPicPr/>
          <p:nvPr/>
        </p:nvPicPr>
        <p:blipFill>
          <a:blip r:embed="rId1"/>
          <a:stretch/>
        </p:blipFill>
        <p:spPr>
          <a:xfrm>
            <a:off x="5148360" y="3357720"/>
            <a:ext cx="2476440" cy="18475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" descr=""/>
          <p:cNvPicPr/>
          <p:nvPr/>
        </p:nvPicPr>
        <p:blipFill>
          <a:blip r:embed="rId2"/>
          <a:stretch/>
        </p:blipFill>
        <p:spPr>
          <a:xfrm>
            <a:off x="1763640" y="3357720"/>
            <a:ext cx="227664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lot of/ Many/ Much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A lot of, many, much mean: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4800" spc="-1" strike="noStrike">
                <a:solidFill>
                  <a:srgbClr val="953735"/>
                </a:solidFill>
                <a:latin typeface="Georgia"/>
              </a:rPr>
              <a:t>a large quantity of something.</a:t>
            </a: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” 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A lot of</a:t>
            </a: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lot of may appear before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oth noncount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’s a lot of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sal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in this soup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n’t you eat a lot of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apple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lot of is for affirmative and negative statements and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Many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ny appears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ny fast food </a:t>
            </a:r>
            <a:r>
              <a:rPr b="0" lang="en-US" sz="2700" spc="-1" strike="noStrike">
                <a:solidFill>
                  <a:srgbClr val="953735"/>
                </a:solidFill>
                <a:latin typeface="Georgia"/>
              </a:rPr>
              <a:t>restaurant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serve chip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 many </a:t>
            </a:r>
            <a:r>
              <a:rPr b="0" lang="en-US" sz="2700" spc="-1" strike="noStrike">
                <a:solidFill>
                  <a:srgbClr val="953735"/>
                </a:solidFill>
                <a:latin typeface="Georgia"/>
              </a:rPr>
              <a:t>peopl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have poor diets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Many is for plural nouns in affirmative and negative statements and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Much</a:t>
            </a: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uch may appear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noncount nou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Japanese don’t eat much </a:t>
            </a:r>
            <a:r>
              <a:rPr b="0" lang="en-US" sz="2700" spc="-1" strike="noStrike">
                <a:solidFill>
                  <a:srgbClr val="376092"/>
                </a:solidFill>
                <a:latin typeface="Georgia"/>
              </a:rPr>
              <a:t>red mea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d you drink much </a:t>
            </a:r>
            <a:r>
              <a:rPr b="0" lang="en-US" sz="2700" spc="-1" strike="noStrike">
                <a:solidFill>
                  <a:srgbClr val="376092"/>
                </a:solidFill>
                <a:latin typeface="Georgia"/>
              </a:rPr>
              <a:t>milk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this morning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Much is for noncount nouns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in negative statements only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in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ommon Units of Measure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y give amounts of either count and noncount noun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ag of potatoes / bag of sugar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se units make noncount nouns into countable noun phrase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 bottles of ketchup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4 cups of coffe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few / A little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A few and a little are for a small number or quantity of something. 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few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few appears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 are a few </a:t>
            </a:r>
            <a:r>
              <a:rPr b="0" lang="en-US" sz="2700" spc="-1" strike="noStrike">
                <a:solidFill>
                  <a:srgbClr val="948a54"/>
                </a:solidFill>
                <a:latin typeface="Georgia"/>
              </a:rPr>
              <a:t>boy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her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few is used with plural count nouns in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affirmative statements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ren’t there a few cookies in the box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little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little appears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only before noncount nou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s there a little sugar in that bowl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little is used with noncount nouns in </a:t>
            </a:r>
            <a:r>
              <a:rPr b="0" lang="en-US" sz="2700" spc="-1" strike="noStrike">
                <a:solidFill>
                  <a:srgbClr val="17375e"/>
                </a:solidFill>
                <a:latin typeface="Georgia"/>
              </a:rPr>
              <a:t>affirmative statements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n’t you want a little milk in your tea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5:18:27Z</dcterms:created>
  <dc:creator>sony</dc:creator>
  <dc:description/>
  <dc:language>en-US</dc:language>
  <cp:lastModifiedBy>sony</cp:lastModifiedBy>
  <dcterms:modified xsi:type="dcterms:W3CDTF">2012-04-11T17:29:06Z</dcterms:modified>
  <cp:revision>4</cp:revision>
  <dc:subject/>
  <dc:title>Count and noncount nouns</dc:title>
</cp:coreProperties>
</file>