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009-0D84-4D31-A866-19282CBE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A18-7599-4AC3-829F-BAC9FD99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1A32C-5488-47AE-AE09-1985946C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8292B-1859-44CD-B12E-126FAD6A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8E0B4-854E-4713-B329-820B6D50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A77FC-0E0D-4B48-B814-3DD1A28B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7B31A-B3C7-49EB-8EFA-C6D06EB4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D5B25-31DE-4C7F-94AE-B45D212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8247F-8F89-4C74-B2B7-D7BC1682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7F298-30FC-47B7-A18B-74DD9C1C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478D4-477A-44BA-BBC7-FE001F74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6C743-22DA-4F40-9C26-890A35C3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C46-79A3-4426-9851-8E11A0CE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08F43-671E-45C5-8A43-0EA4B49D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B117F-7E02-405E-9EA5-875ECEE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926B9-3DF2-4EB4-B1E4-9220C94D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99D52-2298-48C3-BEB2-E75731BC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294D1-C493-48AF-8775-B1A1795B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9C923-7318-409F-95BA-1DEB0AE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A6BF4-0BA9-4EAE-96C6-C090F0AE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FD64F-6CAD-4E41-B616-43330DAF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7544B-C622-4469-9479-35B74B90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7F4DA-E822-451A-85F5-F915C839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F1F8-3E66-470D-AE7E-BD10262D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C8742-AD0E-47F9-98C0-704666ED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FED14-3999-4EB2-9CB0-D507869E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F6D12-2684-4B3D-A9DF-A1C0F804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70B9C-BBB6-4141-803B-BCEBFD04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DFEF7-34A5-4610-AFE0-844A92FA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BBBF0-2308-4DB3-B816-0913A427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F8892-F50D-4D80-A399-6CF70B04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F1A83-9E70-41BD-9544-A1F8634D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8E7D0-B078-4EBE-A656-FADFB01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9F9C0-7C77-47BD-B52A-B7C1ECC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1E17-6458-4073-AB18-ED8C09F2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594F4-E62A-4E48-98B2-85C5AF00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3F2B4-89BF-4CD9-87E8-26D9FB5B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F05FE-8FAE-4DFE-9460-58B93836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62506-5CAA-45DB-90E3-06E830E7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3E1EB-1F24-46C9-A140-0AD4EC5C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5838D-72CC-4577-9F31-C919FB0B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A7A6E-5EBE-463E-B748-50C9D690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C2E7C-D4F1-4B7F-83A1-B04B84AD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18F20-B3B3-4CC7-96B3-E4879B93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E44A2-E5AD-4CC4-9CFF-8A60367D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0F78-8311-4794-912E-2FDC391D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01819-7546-40A6-9E9F-09EE110E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9BD8F-E764-45CD-BC9C-EF1A332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B7DFD-DCAD-4C73-9573-A32EED93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6C390-C596-4E75-9DEF-F3768281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F0F6A-D9FE-423D-A056-15536CCD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007B-90B5-4D20-A4BB-4893F6DE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DDDE-B9E3-4509-B5D6-010C49E1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8B32-3D1F-4901-B041-0A193A6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DD7B-F47A-494C-B9B2-1DB385B9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F188-CE8A-40AC-BC7E-F479AFEF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C86-71A8-40DA-9E33-3B2CBB4E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E2D1-74B4-476F-BFA3-68D3DD19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F4C7-B197-436F-9A92-E81CD0E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28D4-B28E-4177-9B1D-F8236260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552-EDE6-47DF-A133-B56F42E4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9F5C-D1E8-4117-9D6D-1BB5C209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6631-1559-4B1D-8A64-AE07A2F4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AEE8-997F-45DA-B9C1-9AA56C8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EF28-926F-4B3E-A417-367A35E6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98B94-3981-431D-A0FC-5A3F46A9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2DD2-6FA6-406B-A1F4-646F8439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C86-3A4A-4B6E-88E2-9B4810D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4FCF-38B0-4230-A397-70934BB3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7BFB-7194-41DF-89DB-9F79D51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8062-DFD3-4D61-AE77-1670031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4C8B-878A-443A-BBBF-8B720AB5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991F-3150-488E-B44B-0F1934DA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1990-F870-4593-B545-62477BB5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783C-C2C3-443F-BCE4-C58C79F1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4721-7F41-4164-ACC9-9CF1EA21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7336-90AB-4C97-99CF-A685981F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EA42-6C9C-4BC2-8F26-2D4D5D1C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F3D-77D1-405B-97A6-179F28F3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0C49-D5A7-477B-B4B1-5AD1986C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C34A-4E38-4D00-B105-533CC210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8A4D-C7B3-43CA-B57A-2FD40CED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BFBA5-2BBB-4E30-9341-109FC5E9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67D7-B7BD-4997-890E-AC33066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6C24-DC9E-4825-941E-53A48888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2FC59-CECC-47E3-AE35-D15A7367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4472-C983-4AA2-9290-8AE71B67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BE431-4A19-4080-9543-7D085B8E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953B0-4A2A-4FF5-BB4B-1C9FC921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E3B-3529-4D9A-B0CF-9BACCC7C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8B35-EBCD-4317-AB11-2BE352AE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65538-81B5-4A50-8817-718358D4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1E4D6-4445-4387-BC3E-11DED324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BFC6B-5CAE-411C-89B5-422E37FC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47C5-1380-49A1-AC16-67B486EB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6C64C-D3B9-49C9-8C76-226BDF9B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07858-A01F-4F1B-9B2C-03F8820E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07992-5460-432B-9932-C57155A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CDD24-F56C-41F0-B092-B6870FD2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AED3-457C-4105-AC81-C47D14E7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1A1-0D65-40CF-A36F-4622F8BF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41928-716C-4430-A66A-F7DD3BD2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CE209-EE30-48D3-8993-5CBA3470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17E7D-B2AB-4D15-9B93-938CBC34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4D25-349F-4A1C-9645-8E8F52F1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3697B-7B2F-44D9-8D77-3903AEAB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24BF1-9E99-473A-B675-D46F3AD6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28CEC-719F-4ABE-B9A3-63C2EEBC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921D8-E9BA-447A-B5DC-FBB8EF18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C5888-562A-4D6C-91EF-02D5EC1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CA2A-3E1D-49EF-A8AC-160099D6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C57-975C-4E03-9659-B2EFF5C5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9ECF1-B24A-4311-BDB4-C491824E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E0ABF-C8A7-451D-A8D3-63005F0A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590EA-73EB-4DF3-882F-CEB4C698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585BE-6640-434E-AE3C-3B656611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30453-A284-490F-93E7-4164D730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14BD-9579-487B-9A0D-42429221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961A7-157D-49B2-BED2-36457B81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4D3F8-F713-4915-BF1E-60311EAC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8F6EB-656D-4794-BFE7-AD6D259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762B0-519E-4536-9CB6-F1B45728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935-B0B2-4008-98FA-189A0BCB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D252-0B0A-4B66-958A-AE889D16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5A70B-83F5-45EE-BEA7-546B29B3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26C48-51AB-4B89-8E46-59D558E6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A44C0-2D4E-47C0-B894-7A4D5797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BB185-D61D-4752-9454-A8DCB75F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9B5BA-0608-43B3-96AB-79AFCF6F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E7947-D79F-44FC-BB39-F1695548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AC892-46E3-4DC6-9BE0-1FB729BA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E8CF4-40A3-4DA8-88E4-F90B3DBC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F34AC-914B-4EC0-8330-9E270F03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C3C-498F-495C-BDEA-AAACA6A1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D26DA-A5DE-4B7F-9DCC-504B5143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FB4D6-7C3D-43A1-9662-4B4B55B3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53DBA-7172-4694-B4EE-A5C54D1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320AD-5395-4EAD-97C0-6F7556C3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74F83-A4CB-4E97-A37E-482D750F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12A0F-BA30-4F35-8CFF-DC9DFD9E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BE8D-3345-4366-B560-5562BE3C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9C4877-5107-4E59-97BF-1445670B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3EA2E-9486-49D2-BF3C-66B19A98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5D7C5-36CA-462D-A752-CC4BEB2D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EA9B-5F0C-4A69-AEE8-990DA0C7297F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88D6-FC4B-40B6-AF96-2027608CB93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173-D46B-4CEF-9277-38648698B33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105B-2CB4-4747-A1A1-FD1E060A634C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2242-B09C-4AE4-B3AF-AC702CAF42BD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272B-F432-4C3B-BF0D-456770661987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76C8-929B-43F4-AE2C-48AFFB604513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D30C-194D-4829-ADA9-F87B11A6B7C6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386E-E399-451E-A7D0-7F9C767ACCB8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EA74-1D65-4A1D-B50A-F88CEF778A1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C6FA-84AD-4B89-93D8-3EFAEDE48633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C66-FB0B-4690-9045-886B3B32E551}" type="slidenum">
              <a:rPr b="0" lang="ar-SA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Count and noncount nouns</a:t>
            </a:r>
            <a:r>
              <a:rPr b="0" lang="en-US" sz="4200" spc="-1" strike="noStrike">
                <a:solidFill>
                  <a:srgbClr val="4f81bd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2476440" cy="1847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ot of/ Many/ Much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lot of, many, much mean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4800" spc="-1" strike="noStrike">
                <a:solidFill>
                  <a:srgbClr val="953735"/>
                </a:solidFill>
                <a:latin typeface="Georgia"/>
              </a:rPr>
              <a:t>a large quantity of something.</a:t>
            </a: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”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A lot of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ot of may appear before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oth noncount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’s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sal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in this soup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eat a lot of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ppl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ot of is for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any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fast food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restaurant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erve chip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many </a:t>
            </a:r>
            <a:r>
              <a:rPr b="0" lang="en-US" sz="2700" spc="-1" strike="noStrike">
                <a:solidFill>
                  <a:srgbClr val="953735"/>
                </a:solidFill>
                <a:latin typeface="Georgia"/>
              </a:rPr>
              <a:t>peo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ave poor diet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any is for plural nouns in affirmative and negative statements and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Much</a:t>
            </a:r>
            <a:r>
              <a:rPr b="1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may appear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apanese don’t eat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red mea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you drink much </a:t>
            </a:r>
            <a:r>
              <a:rPr b="0" lang="en-US" sz="2700" spc="-1" strike="noStrike">
                <a:solidFill>
                  <a:srgbClr val="376092"/>
                </a:solidFill>
                <a:latin typeface="Georgia"/>
              </a:rPr>
              <a:t>mil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is morning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Much is for noncount nouns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in negative statements only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in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ommon Units of Measur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give amounts of either count and noncount nou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 of potatoes / bag of sugar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units make noncount nouns into countable noun phras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bottles of ketch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cups of coffe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 / 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few and a little are for a small number or quantity of something.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few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appears only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before plural count noun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a few </a:t>
            </a:r>
            <a:r>
              <a:rPr b="0" lang="en-US" sz="2700" spc="-1" strike="noStrike">
                <a:solidFill>
                  <a:srgbClr val="948a54"/>
                </a:solidFill>
                <a:latin typeface="Georgia"/>
              </a:rPr>
              <a:t>boy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her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few is used with plural count nouns in </a:t>
            </a:r>
            <a:r>
              <a:rPr b="0" lang="en-US" sz="2700" spc="-1" strike="noStrike">
                <a:solidFill>
                  <a:srgbClr val="604a7b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en’t there a few cookies in the box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A little</a:t>
            </a: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little appears </a:t>
            </a:r>
            <a:r>
              <a:rPr b="0" lang="en-US" sz="2700" spc="-1" strike="noStrike">
                <a:solidFill>
                  <a:srgbClr val="e46c0a"/>
                </a:solidFill>
                <a:latin typeface="Georgia"/>
              </a:rPr>
              <a:t>only before noncount nou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 there a little sugar in that bowl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A little is used with noncount nouns in </a:t>
            </a:r>
            <a:r>
              <a:rPr b="0" lang="en-US" sz="2700" spc="-1" strike="noStrike">
                <a:solidFill>
                  <a:srgbClr val="17375e"/>
                </a:solidFill>
                <a:latin typeface="Georgia"/>
              </a:rPr>
              <a:t>affirmative statements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affirmative and negative ques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n’t you want a little milk in your tea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5:18:27Z</dcterms:created>
  <dc:creator>sony</dc:creator>
  <dc:description/>
  <dc:language>en-US</dc:language>
  <cp:lastModifiedBy>sony</cp:lastModifiedBy>
  <dcterms:modified xsi:type="dcterms:W3CDTF">2012-04-11T17:29:06Z</dcterms:modified>
  <cp:revision>4</cp:revision>
  <dc:subject/>
  <dc:title>Count and noncount nouns</dc:title>
</cp:coreProperties>
</file>