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7D3D-4B5B-4B04-BCE7-D67FFF314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584C-ECC4-4426-9AEB-F0899AD6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FD0D07-8912-4CBF-8366-E82FC5BC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DA8984-FF60-4F3B-B773-81549039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EE2B2D-BCD5-4E45-B5E7-931C6BEF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6B954D-3D68-4ECF-9017-6095BDD0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9436D8-A5BA-4540-B3D4-F8558B00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293616-D2FF-4580-BCA3-952DA002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0BBCBC-9FBF-4441-906C-20E63186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4C939C-F374-420A-A8BE-8E4E5DFF2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B3CF31-15E9-4736-AF67-214F4F028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E69C52-6BBA-43B4-B6A8-F0DA320FE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D199-BD62-4C43-9EE0-4FD9F0527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D27F8E-0252-489C-B905-A2714969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FDBE70-101F-4AB4-8F3C-91AA18BC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7449F2-82A2-4FD0-9637-DC5A5D05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A3EECF-E0D6-4248-A84B-746D9002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BD97AC-F667-4813-BDFE-D6EB7423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4FAE73-99D0-450E-A571-9DA00106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E858B2-4636-40E0-AF00-F30439C8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F1644F-33CC-4717-9063-B539110B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C99BF7-D766-433A-9A0E-624540F2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E7B949-AB27-4B7C-A8A9-CBFEFECB7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E8DA-D994-4C1F-B161-732BAC9A6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16457E-1DEA-4122-9683-5FC2BDCD3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3A5E9-D41D-44CB-8569-37FAC7513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4F9A3-478A-4216-9B4A-1F978E61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A8273-F8BE-4F3D-AD1C-D6AD6675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B73FAC-2304-4997-8F44-D9FD50A0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FB652A-CC48-48DE-B583-6E13C903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19209C-B083-4DC2-8B4E-791EB38D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8A12E-AA89-4383-9DAB-7D271E1E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9CD1F9-CBF4-47D3-B79B-EEEBFCF9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B10E89-060F-4F67-A84D-B143B9AD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CDD5-D327-480E-B073-038E9C07A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9902E3-5076-4C03-A9AB-9741EA9F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85914-D64E-4E59-B7EA-79388F5AA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2C5826-EDAB-4637-9B8B-BD2094731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A59255-00D6-43E6-8D8B-5F7EFE7EA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3DFB3A-4360-449D-A3C1-B55B613E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05539D-8C5E-4351-9BDE-2EF9675A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2D7C5A-0BC2-4EB8-9E6E-DBE60370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7E377D-0E8F-4B04-9E00-C4E0E5DF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942FB1-F677-42AC-8184-976817BF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0CBB99-D51E-4433-905D-CF47577E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9D79-A977-4EE9-9D97-0FBAE1A0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D61651-A35A-4267-BC19-5D3F8534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ABAF55-BC43-4D4E-A01E-8B740E48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5D5785-F7F4-48EE-84CA-ACCE0321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A3B410-5F48-47F4-8650-E3B84B947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EE68D9-DCA3-4904-BFB6-26E527D73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7C7E0-70BA-47F3-A65B-677FEC82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98FC-4E20-4983-BD08-3EF155F9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5FF5-4F45-4066-B214-5C0A6A30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5969B-D3C3-4063-BECF-785E8153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1476-15EC-46C0-A6D6-C3A4E8C9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4B5A-4693-463C-A031-63F954F3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8CCA-2B05-40E9-94D1-A70357AF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9BB8-4165-477F-BE84-8C5BBBDE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2FAD-3802-4473-B680-30BA141D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C26A-65DE-4E9D-936E-A358B407D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4FB1-B1F4-45F3-BFBA-A4939D998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80623-7A5D-4F82-9566-535D9D443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1912B-4E56-4549-99E7-A50EDB57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375C4-DEE1-4B67-AF47-1A6C8BE4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0EFB5-536F-4A61-91C4-A6D06782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9649E-D59B-48EC-B0EC-4B45CA3B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F82D-C619-43D3-89A0-4DB0C6FA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BB075-9DD9-4278-9FD8-EA096AD1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804D3-B045-4E10-B98C-883BBAB2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74DDB-9122-4A2B-906C-88471B91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BB64F-E799-4040-A168-D0C09410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DFD39-41F5-43D4-8482-FB093CC4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10F60-8C4D-424E-BDCA-FD86FC651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08CAB-691B-4990-A7AD-722C7785A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0F5A1-96C1-4647-B185-E95F741C7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59090-252F-4689-8974-00DA05B1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58AA1-E75D-4CAA-9803-32EDDDDD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175A-5887-4545-B22F-4F2F71B4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5B728-4E3A-43F7-A1E4-4B0EEF26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A4DDB-DC43-423B-A014-558BDA54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587A0-F1B2-4285-92E1-5406EBA1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74A4E-BC5A-463B-9BD8-69ED9CD2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87CF5-CC9E-43D8-A68D-D1694781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33F6C-B40F-4214-B572-3785BBBB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713B4-0648-4B15-83AF-31589884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0E520-40C0-4C5F-AF21-F3A0A53AF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27247-4550-4770-83E0-8C450B622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7A5D4-ED88-4412-AD08-EDCA1B9D7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DD0F-6B55-46C6-8A90-ED7E01C8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69E47-F071-40E8-8408-1B34007C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C8B30-9371-47C8-9503-4B524CD1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694FD-80D7-48A7-A841-13AD298B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8E7B4-F6C3-4975-A53F-74C12227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349F1-80E6-4EE1-9B3B-EBB1E1C6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1F9F2-784A-4CB1-AA7D-51910BAB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1AD6E-3782-49E1-AF08-3D701734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291A3-9178-455D-A11C-609DD6F9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0FA8F-E599-4C29-AB40-33FB86EF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9F6D3-9429-4C1A-8808-C4031F54F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528B-BC12-4F5D-B0EF-CCD30C0C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49B20-78B8-4A6C-917E-3D449A626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3E64F-DC1D-4FC5-88BD-29C23A606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1ABF4-4767-4AA1-A7EE-D4A02F81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8469D-20A5-4316-9C81-2237C56E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D07E1-C123-40DE-9F03-740B82FE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60B58-5013-4B00-B5DC-9C81AEAB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0A45D-E9FF-4757-82D4-DB005D86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F9062-6336-4AFA-9A36-96829BC8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0708C-D032-4EC2-AE58-1348B642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60049-AD7F-487A-9719-A2DA071F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B146-B4FC-4906-B802-235D6E0E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881AE-3F16-4E04-989A-BC24042B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86A1C-9689-4525-A35D-34ACED1BE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C112C-F8F7-47B9-A72E-B59DEEF63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AE915-A930-414A-AFC9-E72FBF55D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40445-D28E-4DC8-BE06-11E7AA4A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A84B4-407D-4798-BB7A-3C5820E1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2EAF1-73AA-464C-90BC-66B09A99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D71C8-F9C7-4580-8EED-F5D4400D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DA60A-FBC2-4F60-B8F8-F1EFAB28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088DF-BA5F-4D6F-8E50-76E9B79D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D42C-4D90-40A4-B606-BD169806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F1306-10F7-48E7-9001-ADE29402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D3FF8-A1DF-4F49-9C28-67A9F7DD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0688D-5F4E-4C33-ADB5-2712474C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4E659-BCF0-485A-A7BF-C0369EFFE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D89F9-0D9D-43C7-8485-73C8EE270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7C66B-A4C6-4B8C-8FF7-12F325422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59DFE-C9AE-4700-A22B-546881AC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615C3-4D5A-4C07-8708-A5DFDF30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B7D29-C22F-4120-AA45-38028CE3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4F593-561F-444C-B2E3-FC7D1F5B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E083-4F06-4407-B8A5-744C6CE9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011D9-2E65-4458-98B6-B9BB05AD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0BF4D-2B53-4CE7-996A-0CAF0F39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59FBB-311B-40E5-BA33-4F950166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832E8-706D-495B-83FA-97091FA7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57F1C-787E-4045-BF06-13DBD075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27367-6AB1-493F-A385-81A9DA8B4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32767-AC69-478B-94F1-18A8B78B8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FAFC08-1EB8-40E9-950A-2A63C312C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918686-7B61-4BE8-AE16-C19D3FC2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307F5D-19C2-45E7-8D6F-8845A366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7D1F-2D06-412E-925C-ACD1F58B7CB9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486A-1464-4483-B3E7-D52B909619AB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EBC4-44D4-46E5-AAD1-758F36A00C8A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4B19-D1E2-45CD-907D-82A52808CF29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1B3A-B881-4DB3-AB99-4CDD957A169E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B10C-9A3A-4B39-9339-61460844BAB4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ED1D-DF0A-44DC-923A-C88EA53E027A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052F-AD13-4038-B807-97E09B54556F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4C7B-98E4-446E-A807-0EC5B9476B1A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7DD2-4B7D-4D01-8DCE-C23C1DE84652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763B-9E2A-42F9-8F4A-7CCB93571E6E}" type="slidenum"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6A90-19F4-47DF-9E26-A0FB8DBAB1C1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16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Georgia"/>
              </a:rPr>
              <a:t>Count and noncount nouns</a:t>
            </a:r>
            <a:r>
              <a:rPr b="0" lang="en-US" sz="4200" spc="-1" strike="noStrike">
                <a:solidFill>
                  <a:srgbClr val="4f81bd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08" name="Picture 2" descr=""/>
          <p:cNvPicPr/>
          <p:nvPr/>
        </p:nvPicPr>
        <p:blipFill>
          <a:blip r:embed="rId1"/>
          <a:stretch/>
        </p:blipFill>
        <p:spPr>
          <a:xfrm>
            <a:off x="5148360" y="3357720"/>
            <a:ext cx="2476440" cy="184752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3" descr=""/>
          <p:cNvPicPr/>
          <p:nvPr/>
        </p:nvPicPr>
        <p:blipFill>
          <a:blip r:embed="rId2"/>
          <a:stretch/>
        </p:blipFill>
        <p:spPr>
          <a:xfrm>
            <a:off x="1763640" y="3357720"/>
            <a:ext cx="2276640" cy="20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 lot of/ Many/ Much</a:t>
            </a: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A lot of, many, much mean: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4800" spc="-1" strike="noStrike">
                <a:solidFill>
                  <a:srgbClr val="953735"/>
                </a:solidFill>
                <a:latin typeface="Georgia"/>
              </a:rPr>
              <a:t>a large quantity of something.</a:t>
            </a: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” 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A lot of</a:t>
            </a: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lot of may appear before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both noncount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plural count noun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re’s a lot of </a:t>
            </a:r>
            <a:r>
              <a:rPr b="0" lang="en-US" sz="2700" spc="-1" strike="noStrike">
                <a:solidFill>
                  <a:srgbClr val="604a7b"/>
                </a:solidFill>
                <a:latin typeface="Georgia"/>
              </a:rPr>
              <a:t>salt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in this soup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n’t you eat a lot of </a:t>
            </a:r>
            <a:r>
              <a:rPr b="0" lang="en-US" sz="2700" spc="-1" strike="noStrike">
                <a:solidFill>
                  <a:srgbClr val="604a7b"/>
                </a:solidFill>
                <a:latin typeface="Georgia"/>
              </a:rPr>
              <a:t>apple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A lot of is for affirmative and negative statements and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Many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ny appears only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before plural count noun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ny fast food </a:t>
            </a:r>
            <a:r>
              <a:rPr b="0" lang="en-US" sz="2700" spc="-1" strike="noStrike">
                <a:solidFill>
                  <a:srgbClr val="953735"/>
                </a:solidFill>
                <a:latin typeface="Georgia"/>
              </a:rPr>
              <a:t>restaurant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serve chip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 many </a:t>
            </a:r>
            <a:r>
              <a:rPr b="0" lang="en-US" sz="2700" spc="-1" strike="noStrike">
                <a:solidFill>
                  <a:srgbClr val="953735"/>
                </a:solidFill>
                <a:latin typeface="Georgia"/>
              </a:rPr>
              <a:t>peopl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have poor diets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Many is for plural nouns in affirmative and negative statements and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Much</a:t>
            </a: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uch may appear only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before noncount nou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Japanese don’t eat much </a:t>
            </a:r>
            <a:r>
              <a:rPr b="0" lang="en-US" sz="2700" spc="-1" strike="noStrike">
                <a:solidFill>
                  <a:srgbClr val="376092"/>
                </a:solidFill>
                <a:latin typeface="Georgia"/>
              </a:rPr>
              <a:t>red meat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id you drink much </a:t>
            </a:r>
            <a:r>
              <a:rPr b="0" lang="en-US" sz="2700" spc="-1" strike="noStrike">
                <a:solidFill>
                  <a:srgbClr val="376092"/>
                </a:solidFill>
                <a:latin typeface="Georgia"/>
              </a:rPr>
              <a:t>milk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this morning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Much is for noncount nouns </a:t>
            </a:r>
            <a:r>
              <a:rPr b="0" lang="en-US" sz="2700" spc="-1" strike="noStrike">
                <a:solidFill>
                  <a:srgbClr val="604a7b"/>
                </a:solidFill>
                <a:latin typeface="Georgia"/>
              </a:rPr>
              <a:t>in negative statements only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in affirmative and negative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ommon Units of Measure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y give amounts of either count and noncount noun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ag of potatoes / bag of sugar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se units make noncount nouns into countable noun phrase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3 bottles of ketchup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4 cups of coffe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 few / A little</a:t>
            </a: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A few and a little are for a small number or quantity of something. 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 few</a:t>
            </a: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few appears only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before plural count noun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re are a few </a:t>
            </a:r>
            <a:r>
              <a:rPr b="0" lang="en-US" sz="2700" spc="-1" strike="noStrike">
                <a:solidFill>
                  <a:srgbClr val="948a54"/>
                </a:solidFill>
                <a:latin typeface="Georgia"/>
              </a:rPr>
              <a:t>boy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her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A few is used with plural count nouns in </a:t>
            </a:r>
            <a:r>
              <a:rPr b="0" lang="en-US" sz="2700" spc="-1" strike="noStrike">
                <a:solidFill>
                  <a:srgbClr val="604a7b"/>
                </a:solidFill>
                <a:latin typeface="Georgia"/>
              </a:rPr>
              <a:t>affirmative statements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affirmative and negative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ren’t there a few cookies in the box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 little</a:t>
            </a: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little appears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only before noncount nou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s there a little sugar in that bowl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A little is used with noncount nouns in </a:t>
            </a:r>
            <a:r>
              <a:rPr b="0" lang="en-US" sz="2700" spc="-1" strike="noStrike">
                <a:solidFill>
                  <a:srgbClr val="17375e"/>
                </a:solidFill>
                <a:latin typeface="Georgia"/>
              </a:rPr>
              <a:t>affirmative statements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affirmative and negative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n’t you want a little milk in your tea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5:18:27Z</dcterms:created>
  <dc:creator>sony</dc:creator>
  <dc:description/>
  <dc:language>en-US</dc:language>
  <cp:lastModifiedBy>sony</cp:lastModifiedBy>
  <dcterms:modified xsi:type="dcterms:W3CDTF">2012-04-11T17:29:06Z</dcterms:modified>
  <cp:revision>4</cp:revision>
  <dc:subject/>
  <dc:title>Count and noncount nouns</dc:title>
</cp:coreProperties>
</file>