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353D-106F-4D19-A1A8-F0699B74AAE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3F91-DBD7-4CB2-85B5-944E17A0401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8A5-DA81-4AD4-B8A1-3C11FE96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640-8DB4-4A7C-8605-8A7D697B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242-738C-455E-B4E2-7700350E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8BB0-5B42-483F-BBA8-70403AA5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8D4-C0AE-45D9-B98A-7A2461D9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9A2-952C-4831-8FF8-3338807B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3CF-768F-492F-B459-AE66BA2D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932-F343-4C44-82B8-D1813D8D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545-20EC-4081-BBAB-8B361184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BB3-4EBC-4CAE-9561-B2A8F84A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8C8-61B3-42C4-AEEC-D5CCB7BD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513-385C-47DB-8CE6-C51255BF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500B-5578-4070-A2AA-F0137005A2C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1BD9-77B8-4A2E-812D-9A7C561AD37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2F0E-EEA6-4A0C-92F2-D89C8208F76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C121-A3B8-47C6-9628-4EE3E6C4236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ne, two, three, we’re…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680" y="28195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Count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54E1-D121-4E73-B73B-10EB59E9305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AF01-CA42-45BA-A1FF-88607474DA7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ask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string of length 8 that ends with 0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wo ways to pick the first bit (0 or 1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second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sixth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way to pick the seventh bit (0),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way to pick the eighth bit (0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ask 2 can be done in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64 way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59F2-E019-4731-A653-BB1754CB4F9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C1E1-60B3-4216-8BE2-A590ECDCAA8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ince there are 128 ways to do Task 1 and 64 ways to do Task 2, does this mean that there are 192 bit strings either starting with 1 or ending with 00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, because here Task 1 and Task 2 can be don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t the same tim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n we carry out Task 1 and create strings starting with 1, some of these strings end with 0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we sometimes do Tasks 1 and 2 at the same time, s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sum rule does not appl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522D-D66A-4F42-9444-E35B3FBF769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8EF8-50FB-4772-A09F-64B0FC82CBC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want to use the sum rule in such a case, we have to subtract the cases when Tasks 1 and 2 are done at the same tim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cases are there, that is, how many strings start with 1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end with 00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one way to pick the first bit (1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for the second, …, sixth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way for the seventh, eighth bit (0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32 cases, Tasks 1 and 2 are carried out at the same tim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3CC8-2CB6-4FF7-B87D-3E8D0161C55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ADCC-1EEA-40D7-A6FD-E0E36780FEB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there are 128 ways to complete Task 1 and 64 ways to complete Task 2, and in 32 of these cases Tasks 1 and 2 are completed at the same time, there 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28 + 64 – 32 = 160 ways to do either task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set theory, this corresponds to sets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at ar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sjoint. Then we hav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=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+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-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is calle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inciple of inclusion-exclu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C34A-265C-466C-BA7F-3D677F1C1C6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1333-7328-4BD3-9E2F-4F6948AF5DA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ee Diagra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bit strings of length four do not have two consecutive 1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1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2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3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4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1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nd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3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4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57200" y="4724280"/>
            <a:ext cx="152280" cy="15264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Line 5"/>
          <p:cNvSpPr/>
          <p:nvPr/>
        </p:nvSpPr>
        <p:spPr>
          <a:xfrm flipV="1">
            <a:off x="609480" y="4190760"/>
            <a:ext cx="1143000" cy="53316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1905120" y="3657600"/>
            <a:ext cx="1752480" cy="45720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3809880" y="3352320"/>
            <a:ext cx="1676520" cy="3049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5638680" y="320004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5638680" y="342900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809880" y="3657600"/>
            <a:ext cx="1676520" cy="3049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5638680" y="3962520"/>
            <a:ext cx="160020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1905120" y="4114800"/>
            <a:ext cx="1752480" cy="3808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3809880" y="4495680"/>
            <a:ext cx="167652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5638680" y="434304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5638680" y="457200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609480" y="4876920"/>
            <a:ext cx="1143000" cy="6094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905120" y="5562720"/>
            <a:ext cx="17524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Line 18"/>
          <p:cNvSpPr/>
          <p:nvPr/>
        </p:nvSpPr>
        <p:spPr>
          <a:xfrm flipV="1">
            <a:off x="3809880" y="5257440"/>
            <a:ext cx="1676520" cy="3049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Line 19"/>
          <p:cNvSpPr/>
          <p:nvPr/>
        </p:nvSpPr>
        <p:spPr>
          <a:xfrm flipV="1">
            <a:off x="5638680" y="510516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5638680" y="533412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3809880" y="5562720"/>
            <a:ext cx="1676520" cy="30456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5638680" y="5867280"/>
            <a:ext cx="160020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3" name="Group 23"/>
          <p:cNvGrpSpPr/>
          <p:nvPr/>
        </p:nvGrpSpPr>
        <p:grpSpPr>
          <a:xfrm>
            <a:off x="1676520" y="3581280"/>
            <a:ext cx="304560" cy="609840"/>
            <a:chOff x="1676520" y="3581280"/>
            <a:chExt cx="304560" cy="609840"/>
          </a:xfrm>
        </p:grpSpPr>
        <p:sp>
          <p:nvSpPr>
            <p:cNvPr id="124" name="Oval 24"/>
            <p:cNvSpPr/>
            <p:nvPr/>
          </p:nvSpPr>
          <p:spPr>
            <a:xfrm>
              <a:off x="1752480" y="40384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1676520" y="35812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6" name="Group 26"/>
          <p:cNvGrpSpPr/>
          <p:nvPr/>
        </p:nvGrpSpPr>
        <p:grpSpPr>
          <a:xfrm>
            <a:off x="3581280" y="3124080"/>
            <a:ext cx="304920" cy="609840"/>
            <a:chOff x="3581280" y="3124080"/>
            <a:chExt cx="304920" cy="609840"/>
          </a:xfrm>
        </p:grpSpPr>
        <p:sp>
          <p:nvSpPr>
            <p:cNvPr id="127" name="Oval 27"/>
            <p:cNvSpPr/>
            <p:nvPr/>
          </p:nvSpPr>
          <p:spPr>
            <a:xfrm>
              <a:off x="3657600" y="35812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3581280" y="3124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9" name="Group 29"/>
          <p:cNvGrpSpPr/>
          <p:nvPr/>
        </p:nvGrpSpPr>
        <p:grpSpPr>
          <a:xfrm>
            <a:off x="5410080" y="2819520"/>
            <a:ext cx="304920" cy="609480"/>
            <a:chOff x="5410080" y="2819520"/>
            <a:chExt cx="304920" cy="609480"/>
          </a:xfrm>
        </p:grpSpPr>
        <p:sp>
          <p:nvSpPr>
            <p:cNvPr id="130" name="Oval 30"/>
            <p:cNvSpPr/>
            <p:nvPr/>
          </p:nvSpPr>
          <p:spPr>
            <a:xfrm>
              <a:off x="5486400" y="3276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" name="Text Box 31"/>
            <p:cNvSpPr/>
            <p:nvPr/>
          </p:nvSpPr>
          <p:spPr>
            <a:xfrm>
              <a:off x="5410080" y="2819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2" name="Group 32"/>
          <p:cNvGrpSpPr/>
          <p:nvPr/>
        </p:nvGrpSpPr>
        <p:grpSpPr>
          <a:xfrm>
            <a:off x="7238880" y="2971800"/>
            <a:ext cx="457200" cy="398880"/>
            <a:chOff x="7238880" y="2971800"/>
            <a:chExt cx="457200" cy="398880"/>
          </a:xfrm>
        </p:grpSpPr>
        <p:sp>
          <p:nvSpPr>
            <p:cNvPr id="133" name="Oval 33"/>
            <p:cNvSpPr/>
            <p:nvPr/>
          </p:nvSpPr>
          <p:spPr>
            <a:xfrm>
              <a:off x="7238880" y="31240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7391520" y="2971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5" name="Group 35"/>
          <p:cNvGrpSpPr/>
          <p:nvPr/>
        </p:nvGrpSpPr>
        <p:grpSpPr>
          <a:xfrm>
            <a:off x="7238880" y="3352680"/>
            <a:ext cx="457200" cy="398880"/>
            <a:chOff x="7238880" y="3352680"/>
            <a:chExt cx="457200" cy="398880"/>
          </a:xfrm>
        </p:grpSpPr>
        <p:sp>
          <p:nvSpPr>
            <p:cNvPr id="136" name="Oval 36"/>
            <p:cNvSpPr/>
            <p:nvPr/>
          </p:nvSpPr>
          <p:spPr>
            <a:xfrm>
              <a:off x="7238880" y="3505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" name="Text Box 37"/>
            <p:cNvSpPr/>
            <p:nvPr/>
          </p:nvSpPr>
          <p:spPr>
            <a:xfrm>
              <a:off x="7391520" y="3352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8" name="Group 38"/>
          <p:cNvGrpSpPr/>
          <p:nvPr/>
        </p:nvGrpSpPr>
        <p:grpSpPr>
          <a:xfrm>
            <a:off x="5410080" y="3505320"/>
            <a:ext cx="304920" cy="533160"/>
            <a:chOff x="5410080" y="3505320"/>
            <a:chExt cx="304920" cy="533160"/>
          </a:xfrm>
        </p:grpSpPr>
        <p:sp>
          <p:nvSpPr>
            <p:cNvPr id="139" name="Oval 39"/>
            <p:cNvSpPr/>
            <p:nvPr/>
          </p:nvSpPr>
          <p:spPr>
            <a:xfrm>
              <a:off x="5486400" y="3886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0" name="Text Box 40"/>
            <p:cNvSpPr/>
            <p:nvPr/>
          </p:nvSpPr>
          <p:spPr>
            <a:xfrm>
              <a:off x="5410080" y="3505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1" name="Group 41"/>
          <p:cNvGrpSpPr/>
          <p:nvPr/>
        </p:nvGrpSpPr>
        <p:grpSpPr>
          <a:xfrm>
            <a:off x="7238880" y="3733920"/>
            <a:ext cx="457200" cy="398880"/>
            <a:chOff x="7238880" y="3733920"/>
            <a:chExt cx="457200" cy="398880"/>
          </a:xfrm>
        </p:grpSpPr>
        <p:sp>
          <p:nvSpPr>
            <p:cNvPr id="142" name="Oval 42"/>
            <p:cNvSpPr/>
            <p:nvPr/>
          </p:nvSpPr>
          <p:spPr>
            <a:xfrm>
              <a:off x="7238880" y="38862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3" name="Text Box 43"/>
            <p:cNvSpPr/>
            <p:nvPr/>
          </p:nvSpPr>
          <p:spPr>
            <a:xfrm>
              <a:off x="7391520" y="3733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4" name="Group 44"/>
          <p:cNvGrpSpPr/>
          <p:nvPr/>
        </p:nvGrpSpPr>
        <p:grpSpPr>
          <a:xfrm>
            <a:off x="3581280" y="4038480"/>
            <a:ext cx="304920" cy="533520"/>
            <a:chOff x="3581280" y="4038480"/>
            <a:chExt cx="304920" cy="533520"/>
          </a:xfrm>
        </p:grpSpPr>
        <p:sp>
          <p:nvSpPr>
            <p:cNvPr id="145" name="Oval 45"/>
            <p:cNvSpPr/>
            <p:nvPr/>
          </p:nvSpPr>
          <p:spPr>
            <a:xfrm>
              <a:off x="3657600" y="4419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Text Box 46"/>
            <p:cNvSpPr/>
            <p:nvPr/>
          </p:nvSpPr>
          <p:spPr>
            <a:xfrm>
              <a:off x="3581280" y="40384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47"/>
          <p:cNvGrpSpPr/>
          <p:nvPr/>
        </p:nvGrpSpPr>
        <p:grpSpPr>
          <a:xfrm>
            <a:off x="5410080" y="4076640"/>
            <a:ext cx="304920" cy="495360"/>
            <a:chOff x="5410080" y="4076640"/>
            <a:chExt cx="304920" cy="495360"/>
          </a:xfrm>
        </p:grpSpPr>
        <p:sp>
          <p:nvSpPr>
            <p:cNvPr id="148" name="Oval 48"/>
            <p:cNvSpPr/>
            <p:nvPr/>
          </p:nvSpPr>
          <p:spPr>
            <a:xfrm>
              <a:off x="5486400" y="4419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Text Box 49"/>
            <p:cNvSpPr/>
            <p:nvPr/>
          </p:nvSpPr>
          <p:spPr>
            <a:xfrm>
              <a:off x="5410080" y="407664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0"/>
          <p:cNvGrpSpPr/>
          <p:nvPr/>
        </p:nvGrpSpPr>
        <p:grpSpPr>
          <a:xfrm>
            <a:off x="7238880" y="4114800"/>
            <a:ext cx="457200" cy="398880"/>
            <a:chOff x="7238880" y="4114800"/>
            <a:chExt cx="457200" cy="398880"/>
          </a:xfrm>
        </p:grpSpPr>
        <p:sp>
          <p:nvSpPr>
            <p:cNvPr id="151" name="Oval 51"/>
            <p:cNvSpPr/>
            <p:nvPr/>
          </p:nvSpPr>
          <p:spPr>
            <a:xfrm>
              <a:off x="7238880" y="42670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Text Box 52"/>
            <p:cNvSpPr/>
            <p:nvPr/>
          </p:nvSpPr>
          <p:spPr>
            <a:xfrm>
              <a:off x="7391520" y="4114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3" name="Group 53"/>
          <p:cNvGrpSpPr/>
          <p:nvPr/>
        </p:nvGrpSpPr>
        <p:grpSpPr>
          <a:xfrm>
            <a:off x="7238880" y="4495680"/>
            <a:ext cx="457200" cy="398880"/>
            <a:chOff x="7238880" y="4495680"/>
            <a:chExt cx="457200" cy="398880"/>
          </a:xfrm>
        </p:grpSpPr>
        <p:sp>
          <p:nvSpPr>
            <p:cNvPr id="154" name="Oval 54"/>
            <p:cNvSpPr/>
            <p:nvPr/>
          </p:nvSpPr>
          <p:spPr>
            <a:xfrm>
              <a:off x="7238880" y="4648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5" name="Text Box 55"/>
            <p:cNvSpPr/>
            <p:nvPr/>
          </p:nvSpPr>
          <p:spPr>
            <a:xfrm>
              <a:off x="7391520" y="4495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6" name="Group 56"/>
          <p:cNvGrpSpPr/>
          <p:nvPr/>
        </p:nvGrpSpPr>
        <p:grpSpPr>
          <a:xfrm>
            <a:off x="1676520" y="5029200"/>
            <a:ext cx="304560" cy="609480"/>
            <a:chOff x="1676520" y="5029200"/>
            <a:chExt cx="304560" cy="609480"/>
          </a:xfrm>
        </p:grpSpPr>
        <p:sp>
          <p:nvSpPr>
            <p:cNvPr id="157" name="Oval 57"/>
            <p:cNvSpPr/>
            <p:nvPr/>
          </p:nvSpPr>
          <p:spPr>
            <a:xfrm>
              <a:off x="1752480" y="54864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8" name="Text Box 58"/>
            <p:cNvSpPr/>
            <p:nvPr/>
          </p:nvSpPr>
          <p:spPr>
            <a:xfrm>
              <a:off x="1676520" y="50292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9" name="Group 59"/>
          <p:cNvGrpSpPr/>
          <p:nvPr/>
        </p:nvGrpSpPr>
        <p:grpSpPr>
          <a:xfrm>
            <a:off x="3581280" y="5105520"/>
            <a:ext cx="304920" cy="533160"/>
            <a:chOff x="3581280" y="5105520"/>
            <a:chExt cx="304920" cy="533160"/>
          </a:xfrm>
        </p:grpSpPr>
        <p:sp>
          <p:nvSpPr>
            <p:cNvPr id="160" name="Oval 60"/>
            <p:cNvSpPr/>
            <p:nvPr/>
          </p:nvSpPr>
          <p:spPr>
            <a:xfrm>
              <a:off x="365760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" name="Text Box 61"/>
            <p:cNvSpPr/>
            <p:nvPr/>
          </p:nvSpPr>
          <p:spPr>
            <a:xfrm>
              <a:off x="3581280" y="5105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2" name="Group 62"/>
          <p:cNvGrpSpPr/>
          <p:nvPr/>
        </p:nvGrpSpPr>
        <p:grpSpPr>
          <a:xfrm>
            <a:off x="5410080" y="4800600"/>
            <a:ext cx="304920" cy="533520"/>
            <a:chOff x="5410080" y="4800600"/>
            <a:chExt cx="304920" cy="533520"/>
          </a:xfrm>
        </p:grpSpPr>
        <p:sp>
          <p:nvSpPr>
            <p:cNvPr id="163" name="Oval 63"/>
            <p:cNvSpPr/>
            <p:nvPr/>
          </p:nvSpPr>
          <p:spPr>
            <a:xfrm>
              <a:off x="5486400" y="51814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Text Box 64"/>
            <p:cNvSpPr/>
            <p:nvPr/>
          </p:nvSpPr>
          <p:spPr>
            <a:xfrm>
              <a:off x="5410080" y="4800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65"/>
          <p:cNvGrpSpPr/>
          <p:nvPr/>
        </p:nvGrpSpPr>
        <p:grpSpPr>
          <a:xfrm>
            <a:off x="7238880" y="4876920"/>
            <a:ext cx="457200" cy="398880"/>
            <a:chOff x="7238880" y="4876920"/>
            <a:chExt cx="457200" cy="398880"/>
          </a:xfrm>
        </p:grpSpPr>
        <p:sp>
          <p:nvSpPr>
            <p:cNvPr id="166" name="Oval 66"/>
            <p:cNvSpPr/>
            <p:nvPr/>
          </p:nvSpPr>
          <p:spPr>
            <a:xfrm>
              <a:off x="7238880" y="50292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Text Box 67"/>
            <p:cNvSpPr/>
            <p:nvPr/>
          </p:nvSpPr>
          <p:spPr>
            <a:xfrm>
              <a:off x="7391520" y="4876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7238880" y="5257800"/>
            <a:ext cx="457200" cy="398880"/>
            <a:chOff x="7238880" y="5257800"/>
            <a:chExt cx="457200" cy="398880"/>
          </a:xfrm>
        </p:grpSpPr>
        <p:sp>
          <p:nvSpPr>
            <p:cNvPr id="169" name="Oval 69"/>
            <p:cNvSpPr/>
            <p:nvPr/>
          </p:nvSpPr>
          <p:spPr>
            <a:xfrm>
              <a:off x="7238880" y="54100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Text Box 70"/>
            <p:cNvSpPr/>
            <p:nvPr/>
          </p:nvSpPr>
          <p:spPr>
            <a:xfrm>
              <a:off x="7391520" y="5257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71"/>
          <p:cNvGrpSpPr/>
          <p:nvPr/>
        </p:nvGrpSpPr>
        <p:grpSpPr>
          <a:xfrm>
            <a:off x="5410080" y="5410080"/>
            <a:ext cx="304920" cy="533520"/>
            <a:chOff x="5410080" y="5410080"/>
            <a:chExt cx="304920" cy="533520"/>
          </a:xfrm>
        </p:grpSpPr>
        <p:sp>
          <p:nvSpPr>
            <p:cNvPr id="172" name="Oval 72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Text Box 73"/>
            <p:cNvSpPr/>
            <p:nvPr/>
          </p:nvSpPr>
          <p:spPr>
            <a:xfrm>
              <a:off x="5410080" y="5410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4" name="Group 74"/>
          <p:cNvGrpSpPr/>
          <p:nvPr/>
        </p:nvGrpSpPr>
        <p:grpSpPr>
          <a:xfrm>
            <a:off x="7238880" y="5638680"/>
            <a:ext cx="457200" cy="398880"/>
            <a:chOff x="7238880" y="5638680"/>
            <a:chExt cx="457200" cy="398880"/>
          </a:xfrm>
        </p:grpSpPr>
        <p:sp>
          <p:nvSpPr>
            <p:cNvPr id="175" name="Oval 75"/>
            <p:cNvSpPr/>
            <p:nvPr/>
          </p:nvSpPr>
          <p:spPr>
            <a:xfrm>
              <a:off x="7238880" y="5791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" name="Text Box 76"/>
            <p:cNvSpPr/>
            <p:nvPr/>
          </p:nvSpPr>
          <p:spPr>
            <a:xfrm>
              <a:off x="7391520" y="5638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7" name="Text Box 77"/>
          <p:cNvSpPr/>
          <p:nvPr/>
        </p:nvSpPr>
        <p:spPr>
          <a:xfrm>
            <a:off x="0" y="5791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8 string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2B87-E016-4887-94EE-055799A9ABC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344A-5150-4F66-A52A-A16708D5B77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igeonhole Princi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pigeonhole princi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(k + 1) or more objects are placed into k boxes, then there is at least one box containing two or more of the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there are 11 players in a soccer team that wins 12-0, there must be at least one player in the team who scored at least twic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you have 6 classes from Monday to Friday, there must be at least one day on which you have at least two class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7187-F3A6-4953-B707-FC5082C8A55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F73A-65AB-48B9-A018-57A498E733E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igeonhole Princi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generalized pigeonhole princi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N objects are placed into k boxes, then there is at least one box containing at least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/k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he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our 60-student class, at least 12 students will get the same letter grade (A, B, C, D, or F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342D-4EE5-40E3-8DCE-9287EDB658C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DA8D-2F5E-4333-ABDE-790F65ECE64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igeonhole Princi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sume you have a drawer containing a random distribution of a dozen brown socks and a dozen black socks. It is dark, so how many socks do you have to pick to be sure that among them there is a matching pair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wo types of socks, so if you pick at least 3 socks, there must be either at least two brown socks or at least two black sock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eneralized pigeonhole principle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3523-E4CE-4106-A92F-AC70B024EFA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84F4-F64E-4CCD-BA95-902347B5284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ways are there to pick a set of 3 people from a group of 6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6 choices for the first person, 5 for the second one, and 4 for the third one, so there ar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 = 120 ways to do thi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This is not the correct result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picking person C, then person A, and then person E leads to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ame grou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 first picking E, then C, and then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ever, these cases are count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paratel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the above equa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3D6F-E3DC-4BAD-8AB8-90C4A926238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467D-7BBF-4FE9-B567-0885994772A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how can we compute how many different subsets of people can be picked (that is, we want to disregard the order of picking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o find out about this, we need to look a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ermuta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ermut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set of distinct objects is an ordered arrangement of these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ordered arrangement of r elements of a set is called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-permut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AFD9-C803-4757-A874-E20377EC600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A096-715F-4768-9D32-537B6C8482A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unting problem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of the following kind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ow man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8-letter passwords are there?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ow man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ossible ways are there to pick 11 soccer players out of a 20-player team?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st importantly, counting is the basis for computing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babilities of discrete even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“What is the probability of winning the lottery?”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5FAF-B2BE-4C3D-A37A-CBB8998806E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E787-443A-40A3-9A36-E53DEA3DE48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S = {1, 2, 3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arrangement 3, 1, 2 is a permutation of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arrangement 3, 2 is a 2-permutation of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number of r-permutations of a set with n distinct elements is denoted by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(n, 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calculate P(n, r) with the product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n, r) = n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 – 1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 – 2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 – r +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n choices for the first element, (n – 1) for the second one, (n – 2) for the third one…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4764-1CD6-48DE-8DD6-0112EB8CB65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BBF1-C206-49FE-9A49-95285A2E70E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8, 3) = 8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 = 33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8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/(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eneral formula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n, r) = n!/(n – r)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nowing this, we can return to our initial ques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How many ways are there to pick a set of 3 people from a group of 6 (disregarding the order of picking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F2FA-49A1-4784-94A5-1CEF0A77023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A0AF-233A-44E7-B81E-DC627A48FA8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-combin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lements of a set is an unordered selection of r elements from the se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us, an r-combination is simply a subset of the set with r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S = {1, 2, 3, 4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{1, 3, 4} is a 3-combination from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number of r-combinations of a set with n distinct elements is denoted by C(n, 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(4, 2) = 6, since, for example, the 2-combinations of a set {1, 2, 3, 4} are {1, 2}, {1, 3}, {1, 4}, {2, 3}, {2, 4}, {3, 4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71EA-6E29-45DB-ADA7-5522C90D22C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5C82-479C-4AEE-A1BD-ACA12EFADEB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How can we calculate C(n, r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that we can obtain the r-permutation of a set in the following wa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irst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e form all the r-combinations of the se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there are C(n, r) such r-combinations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e generate all possible orderings in each of these r-combinations (there are P(r, r) such orderings in each case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we hav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n, r) = C(n, r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r, 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5807-9BB7-4381-93AF-13150923ECD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667F-2772-4600-87C3-43E0A3A103D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n, r) = P(n, r)/P(r, 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n!/(n – r)!/(r!/(r – r)!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n!/(r!(n – r)!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w we can answer our initial ques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ways are there to pick a set of 3 people from a group of 6 (disregarding the order of picking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6, 3) = 6!/(3!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!) = 720/(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) = 720/36 = 2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here are 20 different ways, that is, 20 different groups to be pick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80A5-2C63-42CB-980A-852E8B2B247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7F6C-9D61-416F-B4BF-BAAC487ECEE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rollary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n and r be nonnegative integers with 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C(n, r) = C(n, n – 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te tha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“picking a group of r people from a group of n people”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he same a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“splitting a group of n people into a group of r people and another group of (n – r) people”.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lease also look at proof on page 25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83B4-4AD6-4BA4-9B3F-DAECACC44D4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EF05-683C-4324-95D9-0BA807ADCE0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soccer club has 8 female and 7 male members. For today’s match, the coach wants to have 6 female and 5 male players on the grass. How many possible configurations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8, 6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(7, 5) = 8!/(6!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!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7!/(5!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!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28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1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58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99C3-F40D-4A4F-BD65-220C7BE7FCA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EAEB-D779-424E-8E7D-216A4C735FD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bin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also saw the following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28600" y="1295280"/>
                <a:ext cx="858060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r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5"/>
          <p:cNvSpPr/>
          <p:nvPr/>
        </p:nvSpPr>
        <p:spPr>
          <a:xfrm>
            <a:off x="152280" y="2438280"/>
            <a:ext cx="8763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symmetry is intuitively plausible. For example, let us consider a set containing six elements (n = 6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icking tw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elements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ving fou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essentially the same a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icking fou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elements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ving tw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either case, our number of choices is the number of possibilities t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ivid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et into one set containing two elements and another set containing four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7B72-A464-408C-AEF0-307DBBBCE69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9755-D136-4A8E-A4ED-A586E2B4D98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bin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ascal’s Identity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n and k be positive integers with n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k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C(n + 1, k) = C(n, k – 1) + C(n, k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can this be explained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it good for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1941-EAD4-44AD-AB70-9352CDB2CB6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919C-0AF6-48B8-B7BA-9860AF2D368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bin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agine a set S containing n elements and a set T containing (n + 1) elements, namely all elements in S plus a new elemen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lculating C(n + 1, k) is equivalent to answering the question: How many subsets of T containing k items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Case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ubset contains (k – 1) elements of 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plus the elemen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 C(n, k – 1) cho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Case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ubset contains k elements of S and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does not contai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 C(n, k) cho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um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(n + 1, k) = C(n, k – 1) + C(n, k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621B-2F9B-4303-BB69-D4AD2FB05D0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985D-C390-489F-BCF6-75DFB405EBB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sum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a task can be done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and a second task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, and if these two tasks cannot be done at the same time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either task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epartment will award a free computer to either a CS student or a CS professor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different choices are there, if there are 530 students and 15 professor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530 + 15 = 545 cho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DAD9-2EED-4A40-859C-63C3F258548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35B4-405D-465D-AF43-5715AC880DA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ascal’s Triangl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Pascal’s triangle, each number is the sum of the numbers to its upper left and upper righ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1911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809880" y="2819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5720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19112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9528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04812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3809880" y="4191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457200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533412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666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3429000" y="4876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4191120" y="4876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4952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5715000" y="4876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220968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895480" y="5486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3733920" y="5486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449568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533412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609588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18CE-7111-4F74-A1E1-64A5AF8AD43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69BE-B25B-4EE0-A437-CE96347D431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ascal’s Triangl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we have C(n + 1, k) = C(n, k – 1) + C(n, k) an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0, 0) = 1, we can use Pascal’s triangle to simplify the computation of C(n, k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09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0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97180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1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648320" y="3809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1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2133720" y="4343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2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809880" y="4343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2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486400" y="4343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2, 2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2952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7180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4648320" y="4876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2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63244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3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572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2133720" y="5410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380988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2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54864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3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7162920" y="5410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4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304920" y="2895480"/>
            <a:ext cx="0" cy="289584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304920" y="2895480"/>
            <a:ext cx="8229600" cy="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434340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30492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E8A8-E0D7-4F36-BE57-4881C8FC65D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6CE1-6FAD-4B1F-89C5-A4D753F5403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omial Coeffici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pressions of the form C(n, k) are also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inomial coefficien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com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inomial express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he sum of two terms, such as (a + b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w consider 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a + b)(a + b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n expanding such expressions, we have to form all possible products of a term in the first factor and a term in the second factor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a·a + a·b + b·a + b·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we can sum identical term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8FAD-AB77-4ACD-B5F2-F195F02B14C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D6BA-236D-4A55-93CF-E987C337BDD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omial Coeffici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a + b)(a + b)(a + b) we hav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aa + aab + aba + abb + baa + bab + bba + bbb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3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+ 3a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only one term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ecause there is only one possibility to form it: Choos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all three factors: C(3, 3) = 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three times the term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, because there are three possibilities to choos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two out of the three factors: C(3, 2) = 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milarly, there is three times the term a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C(3, 1) = 3) and once the term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C(3, 0) =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FD9A-C915-4064-89D1-C82025D244B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1131-3FAD-42D3-81EE-8344E9A2EC1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omial Coeffici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leads us to the following formula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457200" y="1600200"/>
                <a:ext cx="40719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Rectangle 5"/>
          <p:cNvSpPr/>
          <p:nvPr/>
        </p:nvSpPr>
        <p:spPr>
          <a:xfrm>
            <a:off x="304920" y="2819520"/>
            <a:ext cx="8534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ith the help of Pascal’s triangle, this formula can considerably simplify the process of expanding powers of binomial express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the fifth row of Pascal’s triangl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1 – 4 – 6 – 4 – 1) helps us to compute 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4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+ 6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4a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876920" y="1752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inomial Theorem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02B2-149A-4E9A-B9C6-39E5F707D57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4413-F020-4571-98A6-FE11022230F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eneralized sum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have tasks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at can be done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, respectively, and no two of these tasks can be done at the same time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one of these task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374F-BD34-46F4-BE49-5EAD8DF3473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187F-7148-417F-97C2-2E6D9EC6BFB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product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ppose that a procedure can be broken down into two successive tasks. If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the first task and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the second task after the first task has been done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the procedu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35F7-715E-4063-B7CB-9E9F550724A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C5C0-7457-4F93-B236-043C67D2907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different license plates are there that containing exactly three English letters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26 possibilities to pick the first letter, then 26 possibilities for the second one, and 26 for the last on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there are 2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6 = 17576 different license plat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504C-B50E-4FE0-8996-D6902E198A6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EF88-ED76-48BD-AAC7-5874942A6BF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eneralized product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have a procedure consisting of sequential tasks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at can be done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, respectively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carry out the procedu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7E62-35D3-425D-BC7F-D80A0DDAF8D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50E6-4948-406F-9B44-7E4E9FE58E5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um and product rules can also be phrased in terms of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t theor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um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 disjoint sets. Then the number of ways to choose any element from one of these sets is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 =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+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+ … +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 finite sets. Then the number of ways to choose one element from each set in the order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 =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71C1-4FCE-4763-AA4C-62E60BFD058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86AA-9AB7-43FE-86B4-7680F7A2B21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bit strings of length 8 either start with a 1 or end with 00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ask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string of length 8 that starts with a 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one way to pick the first bit (1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second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third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eighth bit (0 or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ask 1 can be done in 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128 way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31:30Z</dcterms:modified>
  <cp:revision>115</cp:revision>
  <dc:subject/>
  <dc:title>PowerPoint Presentation</dc:title>
</cp:coreProperties>
</file>