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F743-E17B-4241-9D9C-A5D1DCF1322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D80D-F105-42EF-AA6C-2870474F15B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373-4E2D-44AF-85FB-A980CB6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E76-C342-419C-B77E-EF297B1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F55-6261-4374-942B-37CA8D87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102-E35F-4CFD-A2C1-07C5BAD2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641-F482-494A-BAA5-23257D0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917-2B05-460D-85F2-651FAAC7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434-F349-4927-B39D-F531A10D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6C0-6134-4A66-8928-ED3BD4C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4CA-104A-4904-A0BA-6B8E5396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7EB-6269-474E-82E5-82234B3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910-3B79-4287-9758-B99D8903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C9A-16BF-4F7D-B6B6-E8C8764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9719-1A45-4D0B-A7AD-372901DB2F5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82AD-7893-4A36-AC5E-BAD9372A540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823-3284-4D0C-B6C0-2BA2945B546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15BD-D310-4DA9-A702-D5FFA4FFBD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ne, two, three, we’re…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2819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Count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BA3-5DC4-4D0F-85DE-5ABB6E86FF3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5BA-58B9-4715-9C4F-E987FA2ADD0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ends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ways to pick the first bit (0 or 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seventh bit (0)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2 can be done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64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B62-3712-48A8-B4ED-F2C87444357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ABCC-98DF-4344-B44B-AC10CBBE46A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ince there are 128 ways to do Task 1 and 64 ways to do Task 2, does this mean that there are 192 bit strings either starting with 1 or ending with 00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, because here Task 1 and Task 2 can be do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t the same t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we carry out Task 1 and create strings starting with 1, some of these strings end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sometimes do Tasks 1 and 2 at the same time, s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 does not app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ECD5-8D68-40F3-ACCA-E75AE0F71A2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4D34-69DC-4AE8-9F87-EACE5C1DF57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use the sum rule in such a case, we have to subtract the cases when Tasks 1 and 2 are done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cases are there, that is, how many strings start with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for the second, …,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for the seventh,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32 cases, Tasks 1 and 2 are carried out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171C-69C9-41EC-94F8-4F2491B3237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79F-5B95-423D-A6D9-1908596A2FE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there are 128 ways to complete Task 1 and 64 ways to complete Task 2, and in 32 of these cases Tasks 1 and 2 are completed at the same time, there 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28 + 64 – 32 = 160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set theory, this corresponds to set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sjoint. Then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-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inclusion-exclu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542-CFD2-4E21-B607-3277B96170F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F5C-996E-4297-98DE-D7CB4CDFFE1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e Diagra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four do not have two consecutive 1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3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4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1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4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57200" y="4724280"/>
            <a:ext cx="152280" cy="15264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Line 5"/>
          <p:cNvSpPr/>
          <p:nvPr/>
        </p:nvSpPr>
        <p:spPr>
          <a:xfrm flipV="1">
            <a:off x="609480" y="4190760"/>
            <a:ext cx="1143000" cy="5331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905120" y="3657600"/>
            <a:ext cx="1752480" cy="45720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3809880" y="335232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638680" y="3200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638680" y="3429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809880" y="365760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5638680" y="396252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905120" y="4114800"/>
            <a:ext cx="1752480" cy="3808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809880" y="4495680"/>
            <a:ext cx="167652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5638680" y="4343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5638680" y="4572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09480" y="4876920"/>
            <a:ext cx="1143000" cy="6094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905120" y="5562720"/>
            <a:ext cx="17524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3809880" y="525744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Line 19"/>
          <p:cNvSpPr/>
          <p:nvPr/>
        </p:nvSpPr>
        <p:spPr>
          <a:xfrm flipV="1">
            <a:off x="5638680" y="510516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5638680" y="533412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3809880" y="5562720"/>
            <a:ext cx="1676520" cy="3045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638680" y="586728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1676520" y="3581280"/>
            <a:ext cx="304560" cy="609840"/>
            <a:chOff x="1676520" y="3581280"/>
            <a:chExt cx="304560" cy="609840"/>
          </a:xfrm>
        </p:grpSpPr>
        <p:sp>
          <p:nvSpPr>
            <p:cNvPr id="124" name="Oval 24"/>
            <p:cNvSpPr/>
            <p:nvPr/>
          </p:nvSpPr>
          <p:spPr>
            <a:xfrm>
              <a:off x="1752480" y="40384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1676520" y="35812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6" name="Group 26"/>
          <p:cNvGrpSpPr/>
          <p:nvPr/>
        </p:nvGrpSpPr>
        <p:grpSpPr>
          <a:xfrm>
            <a:off x="3581280" y="3124080"/>
            <a:ext cx="304920" cy="609840"/>
            <a:chOff x="3581280" y="3124080"/>
            <a:chExt cx="304920" cy="609840"/>
          </a:xfrm>
        </p:grpSpPr>
        <p:sp>
          <p:nvSpPr>
            <p:cNvPr id="127" name="Oval 27"/>
            <p:cNvSpPr/>
            <p:nvPr/>
          </p:nvSpPr>
          <p:spPr>
            <a:xfrm>
              <a:off x="3657600" y="35812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3581280" y="31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5410080" y="2819520"/>
            <a:ext cx="304920" cy="609480"/>
            <a:chOff x="5410080" y="2819520"/>
            <a:chExt cx="304920" cy="609480"/>
          </a:xfrm>
        </p:grpSpPr>
        <p:sp>
          <p:nvSpPr>
            <p:cNvPr id="130" name="Oval 30"/>
            <p:cNvSpPr/>
            <p:nvPr/>
          </p:nvSpPr>
          <p:spPr>
            <a:xfrm>
              <a:off x="5486400" y="3276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5410080" y="2819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7238880" y="2971800"/>
            <a:ext cx="457200" cy="398880"/>
            <a:chOff x="7238880" y="2971800"/>
            <a:chExt cx="457200" cy="398880"/>
          </a:xfrm>
        </p:grpSpPr>
        <p:sp>
          <p:nvSpPr>
            <p:cNvPr id="133" name="Oval 33"/>
            <p:cNvSpPr/>
            <p:nvPr/>
          </p:nvSpPr>
          <p:spPr>
            <a:xfrm>
              <a:off x="7238880" y="3124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7391520" y="2971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5" name="Group 35"/>
          <p:cNvGrpSpPr/>
          <p:nvPr/>
        </p:nvGrpSpPr>
        <p:grpSpPr>
          <a:xfrm>
            <a:off x="7238880" y="3352680"/>
            <a:ext cx="457200" cy="398880"/>
            <a:chOff x="7238880" y="3352680"/>
            <a:chExt cx="457200" cy="398880"/>
          </a:xfrm>
        </p:grpSpPr>
        <p:sp>
          <p:nvSpPr>
            <p:cNvPr id="136" name="Oval 36"/>
            <p:cNvSpPr/>
            <p:nvPr/>
          </p:nvSpPr>
          <p:spPr>
            <a:xfrm>
              <a:off x="7238880" y="3505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>
              <a:off x="7391520" y="3352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5410080" y="3505320"/>
            <a:ext cx="304920" cy="533160"/>
            <a:chOff x="5410080" y="3505320"/>
            <a:chExt cx="304920" cy="533160"/>
          </a:xfrm>
        </p:grpSpPr>
        <p:sp>
          <p:nvSpPr>
            <p:cNvPr id="139" name="Oval 39"/>
            <p:cNvSpPr/>
            <p:nvPr/>
          </p:nvSpPr>
          <p:spPr>
            <a:xfrm>
              <a:off x="5486400" y="3886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541008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1" name="Group 41"/>
          <p:cNvGrpSpPr/>
          <p:nvPr/>
        </p:nvGrpSpPr>
        <p:grpSpPr>
          <a:xfrm>
            <a:off x="7238880" y="3733920"/>
            <a:ext cx="457200" cy="398880"/>
            <a:chOff x="7238880" y="3733920"/>
            <a:chExt cx="457200" cy="398880"/>
          </a:xfrm>
        </p:grpSpPr>
        <p:sp>
          <p:nvSpPr>
            <p:cNvPr id="142" name="Oval 42"/>
            <p:cNvSpPr/>
            <p:nvPr/>
          </p:nvSpPr>
          <p:spPr>
            <a:xfrm>
              <a:off x="7238880" y="3886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73915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3581280" y="4038480"/>
            <a:ext cx="304920" cy="533520"/>
            <a:chOff x="3581280" y="4038480"/>
            <a:chExt cx="304920" cy="533520"/>
          </a:xfrm>
        </p:grpSpPr>
        <p:sp>
          <p:nvSpPr>
            <p:cNvPr id="145" name="Oval 45"/>
            <p:cNvSpPr/>
            <p:nvPr/>
          </p:nvSpPr>
          <p:spPr>
            <a:xfrm>
              <a:off x="36576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3581280" y="4038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47"/>
          <p:cNvGrpSpPr/>
          <p:nvPr/>
        </p:nvGrpSpPr>
        <p:grpSpPr>
          <a:xfrm>
            <a:off x="5410080" y="4076640"/>
            <a:ext cx="304920" cy="495360"/>
            <a:chOff x="5410080" y="4076640"/>
            <a:chExt cx="304920" cy="495360"/>
          </a:xfrm>
        </p:grpSpPr>
        <p:sp>
          <p:nvSpPr>
            <p:cNvPr id="148" name="Oval 48"/>
            <p:cNvSpPr/>
            <p:nvPr/>
          </p:nvSpPr>
          <p:spPr>
            <a:xfrm>
              <a:off x="54864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5410080" y="40766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0"/>
          <p:cNvGrpSpPr/>
          <p:nvPr/>
        </p:nvGrpSpPr>
        <p:grpSpPr>
          <a:xfrm>
            <a:off x="7238880" y="4114800"/>
            <a:ext cx="457200" cy="398880"/>
            <a:chOff x="7238880" y="4114800"/>
            <a:chExt cx="457200" cy="398880"/>
          </a:xfrm>
        </p:grpSpPr>
        <p:sp>
          <p:nvSpPr>
            <p:cNvPr id="151" name="Oval 51"/>
            <p:cNvSpPr/>
            <p:nvPr/>
          </p:nvSpPr>
          <p:spPr>
            <a:xfrm>
              <a:off x="7238880" y="4267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7391520" y="4114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7238880" y="4495680"/>
            <a:ext cx="457200" cy="398880"/>
            <a:chOff x="7238880" y="4495680"/>
            <a:chExt cx="457200" cy="398880"/>
          </a:xfrm>
        </p:grpSpPr>
        <p:sp>
          <p:nvSpPr>
            <p:cNvPr id="154" name="Oval 54"/>
            <p:cNvSpPr/>
            <p:nvPr/>
          </p:nvSpPr>
          <p:spPr>
            <a:xfrm>
              <a:off x="7238880" y="4648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Text Box 55"/>
            <p:cNvSpPr/>
            <p:nvPr/>
          </p:nvSpPr>
          <p:spPr>
            <a:xfrm>
              <a:off x="7391520" y="4495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6" name="Group 56"/>
          <p:cNvGrpSpPr/>
          <p:nvPr/>
        </p:nvGrpSpPr>
        <p:grpSpPr>
          <a:xfrm>
            <a:off x="1676520" y="5029200"/>
            <a:ext cx="304560" cy="609480"/>
            <a:chOff x="1676520" y="5029200"/>
            <a:chExt cx="304560" cy="609480"/>
          </a:xfrm>
        </p:grpSpPr>
        <p:sp>
          <p:nvSpPr>
            <p:cNvPr id="157" name="Oval 57"/>
            <p:cNvSpPr/>
            <p:nvPr/>
          </p:nvSpPr>
          <p:spPr>
            <a:xfrm>
              <a:off x="1752480" y="54864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Text Box 58"/>
            <p:cNvSpPr/>
            <p:nvPr/>
          </p:nvSpPr>
          <p:spPr>
            <a:xfrm>
              <a:off x="1676520" y="5029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9" name="Group 59"/>
          <p:cNvGrpSpPr/>
          <p:nvPr/>
        </p:nvGrpSpPr>
        <p:grpSpPr>
          <a:xfrm>
            <a:off x="3581280" y="5105520"/>
            <a:ext cx="304920" cy="533160"/>
            <a:chOff x="3581280" y="5105520"/>
            <a:chExt cx="304920" cy="533160"/>
          </a:xfrm>
        </p:grpSpPr>
        <p:sp>
          <p:nvSpPr>
            <p:cNvPr id="160" name="Oval 60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Text Box 61"/>
            <p:cNvSpPr/>
            <p:nvPr/>
          </p:nvSpPr>
          <p:spPr>
            <a:xfrm>
              <a:off x="3581280" y="5105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2" name="Group 62"/>
          <p:cNvGrpSpPr/>
          <p:nvPr/>
        </p:nvGrpSpPr>
        <p:grpSpPr>
          <a:xfrm>
            <a:off x="5410080" y="4800600"/>
            <a:ext cx="304920" cy="533520"/>
            <a:chOff x="5410080" y="4800600"/>
            <a:chExt cx="304920" cy="533520"/>
          </a:xfrm>
        </p:grpSpPr>
        <p:sp>
          <p:nvSpPr>
            <p:cNvPr id="163" name="Oval 63"/>
            <p:cNvSpPr/>
            <p:nvPr/>
          </p:nvSpPr>
          <p:spPr>
            <a:xfrm>
              <a:off x="5486400" y="51814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Text Box 64"/>
            <p:cNvSpPr/>
            <p:nvPr/>
          </p:nvSpPr>
          <p:spPr>
            <a:xfrm>
              <a:off x="5410080" y="48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65"/>
          <p:cNvGrpSpPr/>
          <p:nvPr/>
        </p:nvGrpSpPr>
        <p:grpSpPr>
          <a:xfrm>
            <a:off x="7238880" y="4876920"/>
            <a:ext cx="457200" cy="398880"/>
            <a:chOff x="7238880" y="4876920"/>
            <a:chExt cx="457200" cy="398880"/>
          </a:xfrm>
        </p:grpSpPr>
        <p:sp>
          <p:nvSpPr>
            <p:cNvPr id="166" name="Oval 66"/>
            <p:cNvSpPr/>
            <p:nvPr/>
          </p:nvSpPr>
          <p:spPr>
            <a:xfrm>
              <a:off x="7238880" y="5029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Text Box 67"/>
            <p:cNvSpPr/>
            <p:nvPr/>
          </p:nvSpPr>
          <p:spPr>
            <a:xfrm>
              <a:off x="7391520" y="4876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7238880" y="5257800"/>
            <a:ext cx="457200" cy="398880"/>
            <a:chOff x="7238880" y="5257800"/>
            <a:chExt cx="457200" cy="398880"/>
          </a:xfrm>
        </p:grpSpPr>
        <p:sp>
          <p:nvSpPr>
            <p:cNvPr id="169" name="Oval 69"/>
            <p:cNvSpPr/>
            <p:nvPr/>
          </p:nvSpPr>
          <p:spPr>
            <a:xfrm>
              <a:off x="7238880" y="5410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Text Box 70"/>
            <p:cNvSpPr/>
            <p:nvPr/>
          </p:nvSpPr>
          <p:spPr>
            <a:xfrm>
              <a:off x="7391520" y="5257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71"/>
          <p:cNvGrpSpPr/>
          <p:nvPr/>
        </p:nvGrpSpPr>
        <p:grpSpPr>
          <a:xfrm>
            <a:off x="5410080" y="5410080"/>
            <a:ext cx="304920" cy="533520"/>
            <a:chOff x="5410080" y="5410080"/>
            <a:chExt cx="304920" cy="533520"/>
          </a:xfrm>
        </p:grpSpPr>
        <p:sp>
          <p:nvSpPr>
            <p:cNvPr id="172" name="Oval 72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Text Box 73"/>
            <p:cNvSpPr/>
            <p:nvPr/>
          </p:nvSpPr>
          <p:spPr>
            <a:xfrm>
              <a:off x="5410080" y="5410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4" name="Group 74"/>
          <p:cNvGrpSpPr/>
          <p:nvPr/>
        </p:nvGrpSpPr>
        <p:grpSpPr>
          <a:xfrm>
            <a:off x="7238880" y="5638680"/>
            <a:ext cx="457200" cy="398880"/>
            <a:chOff x="7238880" y="5638680"/>
            <a:chExt cx="457200" cy="398880"/>
          </a:xfrm>
        </p:grpSpPr>
        <p:sp>
          <p:nvSpPr>
            <p:cNvPr id="175" name="Oval 75"/>
            <p:cNvSpPr/>
            <p:nvPr/>
          </p:nvSpPr>
          <p:spPr>
            <a:xfrm>
              <a:off x="7238880" y="5791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Text Box 76"/>
            <p:cNvSpPr/>
            <p:nvPr/>
          </p:nvSpPr>
          <p:spPr>
            <a:xfrm>
              <a:off x="7391520" y="5638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7" name="Text Box 77"/>
          <p:cNvSpPr/>
          <p:nvPr/>
        </p:nvSpPr>
        <p:spPr>
          <a:xfrm>
            <a:off x="0" y="5791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8 string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B6A-A4EC-43E1-8B2E-D06DD5E34E9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BAC4-D35E-4692-8007-CF0A297E633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(k + 1) or more objects are placed into k boxes, then there is at least one box containing two or more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there are 11 players in a soccer team that wins 12-0, there must be at least one player in the team who scored at least twi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you have 6 classes from Monday to Friday, there must be at least one day on which you have at least two cla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7171-10C8-416C-B4DA-482DFD1F4F2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FF48-7A44-4128-B57C-E9D65ED0926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generalized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N objects are placed into k boxes, then there is at least one box containing at least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/k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our 60-student class, at least 12 students will get the same letter grade (A, B, C, D, or 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F75-A319-4177-8728-B06A811E7DD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E50-FABC-4BA7-B658-EDC04AF8B19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you have a drawer containing a random distribution of a dozen brown socks and a dozen black socks. It is dark, so how many socks do you have to pick to be sure that among them there is a matching pai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types of socks, so if you pick at least 3 socks, there must be either at least two brown socks or at least two black soc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neralized pigeonhole principle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7B8-F37E-43EE-9416-56976950041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1BB4-6CCE-4942-A529-65418BA9AEE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6 choices for the first person, 5 for the second one, and 4 for the third one, so there ar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 = 120 ways to do thi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his is not the correct result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picking person C, then person A, and then person E leads to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ame grou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first picking E, then C, and then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these cases are count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parat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above equ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633-C183-4B08-9056-5368B103D26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850-4435-4DB8-8859-A3F016C841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how can we compute how many different subsets of people can be picked (that is, we want to disregard the order of picking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find out about this, we need to look 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et of distinct objects is an ordered arrangement of thes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ordered arrangement of r elements of a set is call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A5DD-DF57-4D76-9D76-05C9CD3C987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67B0-AF8A-40CE-A32A-83683371D2E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unting proble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of the following kind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8-letter passwords are there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ossible ways are there to pick 11 soccer players out of a 20-player team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t importantly, counting is the basis for compu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babilities of discrete ev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“What is the probability of winning the lottery?”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B803-C491-4D05-BB4D-1F00887666E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DC8-42F1-41D1-A726-72117189EF9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1, 2 is a 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2 is a 2-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permutations of a set with n distinct elements is denoted by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calculate P(n, r) with 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1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2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r +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n choices for the first element, (n – 1) for the second one, (n – 2) for the third one…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162-6238-4770-8088-CAA277CC46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E8B2-00F5-4282-BF1E-D374B3BDC86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8, 3) = 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33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/(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!/(n – r)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ing this, we can return to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EFAE-35B1-43DB-ABA4-9DACE99353E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18DC-07B8-40EB-8090-455095E04F5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combin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 of a set is an unordered selection of r elements from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us, an r-combination is simply a subset of the set with 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{1, 3, 4} is a 3-combination from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combinations of a set with n distinct elements is denoted by C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4, 2) = 6, since, for example, the 2-combinations of a set {1, 2, 3, 4} are {1, 2}, {1, 3}, {1, 4}, {2, 3}, {2, 4}, {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1D01-18F2-4AA2-BCEC-386EAB63611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BCDB-E886-4DB7-8DB2-B7F24602B86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can we calculate C(n, r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that we can obtain the r-permutation of a se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irst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form all the r-combinations of the se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there are C(n, r) such r-combination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generate all possible orderings in each of these r-combinations (there are P(r, r) such orderings in each case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C(n, r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ECCE-3206-41E3-83EE-99C0186E93B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9C11-56C5-49A5-938A-C8F087D329A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n, r) = P(n, r)/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n – r)!/(r!/(r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r!(n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we can answer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6, 3) = 6!/(3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!) = 720/(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) = 720/36 = 2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are 20 different ways, that is, 20 different groups to be pick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F2C-8C46-48A9-88F7-538CB82C64E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9188-1055-4CCF-8195-329B053B684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r be nonnegative integers with 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, r) = C(n, n –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te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picking a group of r people from a group of n people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splitting a group of n people into a group of r people and another group of (n – r) people”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lease also look at proof on page 25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1CE5-533A-4AAD-B66A-C883FD0FD91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B58A-1EDC-46A9-AD5C-1D105D89687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soccer club has 8 female and 7 male members. For today’s match, the coach wants to have 6 female and 5 male players on the grass. How many possible configuration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8, 6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7, 5) = 8!/(6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7!/(5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58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9FA1-27CA-4D5D-9151-76E7F55226F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2C5A-DFC9-40C6-A668-67B0FF43342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lso saw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28600" y="1295280"/>
                <a:ext cx="85806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r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5"/>
          <p:cNvSpPr/>
          <p:nvPr/>
        </p:nvSpPr>
        <p:spPr>
          <a:xfrm>
            <a:off x="152280" y="2438280"/>
            <a:ext cx="8763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ymmetry is intuitively plausible. For example, let us consider a set containing six elements (n = 6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essentially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either case, our number of choices is the number of possibilities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vid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et into one set containing two elements and another set containing fou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E28A-6CB9-45AF-83EB-1F56ABCFE48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487E-B2C5-4D48-A629-E7A0CF2D82C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ascal’s Identit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k be positive integers with n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k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this be explaine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it good fo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7CFA-98AC-454B-B4DE-FB70A0C5D41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A8D6-44E5-408F-9A13-912FA1EC0BC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e a set S containing n elements and a set T containing (n + 1) elements, namely all elements in S plus a new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lculating C(n + 1, k) is equivalent to answering the question: How many subsets of T containing k item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(k – 1) elements of 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plus the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 – 1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k elements of S and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does not contai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D0D7-82E2-448C-AE4A-231E703C8DC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6CB-29D2-4C50-B9D7-2CA443F36A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task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and a second task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and if these two tasks cannot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epartment will award a free computer to either a CS student or a CS professor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choices are there, if there are 530 students and 15 professo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530 + 15 = 545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3CD-4FBF-41A7-82F2-8CA84F3C886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AC2F-D86B-4E19-8904-3806B4ED3F6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Pascal’s triangle, each number is the sum of the numbers to its upper left and upper righ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1911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9880" y="2819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5720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19112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9528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8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809880" y="4191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457200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334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66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429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19112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4952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5715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2209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895480" y="54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37339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495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533412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609588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5CD-728C-4FC3-979E-1D04718CE17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F92-81AD-4DD4-B62A-D0492CFB3B1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we have C(n + 1, k) = C(n, k – 1) + C(n, k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0, 0) = 1, we can use Pascal’s triangle to simplify the computation of C(n, k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09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0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9718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648320" y="3809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133720" y="4343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80988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48640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2952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7180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4648320" y="4876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3244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572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21337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809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4864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71629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4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304920" y="2895480"/>
            <a:ext cx="0" cy="28958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304920" y="2895480"/>
            <a:ext cx="8229600" cy="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43434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8769-ED2B-4CA1-B597-7F27695511D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A768-5DF0-48F8-9C6D-11B329027FE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pressions of the form C(n, k)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coeffici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om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expres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um of two terms, such as 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conside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expanding such expressions, we have to form all possible products of a term in the first factor and a term in the second factor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·a + a·b + b·a + b·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we can sum identical term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FBFA-E2A3-4A04-9631-0D8D87520D9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2227-D842-4989-AFF9-CC403ADE95C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(a + b) we hav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aa + aab + aba + abb + baa + bab + bba + bbb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3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3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ly on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there is only one possibility to form it: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all three factors: C(3, 3) =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three times th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because there are three possibilities to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two out of the three factors: C(3, 2) =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milarly, there is three times the term 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C(3, 1) = 3) and once the ter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C(3, 0) =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4FD2-A048-44E8-8F9F-55E87B3F912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67E9-89CD-4D5D-B9EC-12C39410E61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leads us to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457200" y="1600200"/>
                <a:ext cx="40719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5"/>
          <p:cNvSpPr/>
          <p:nvPr/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e help of Pascal’s triangle, this formula can considerably simplify the process of expanding powers of binomial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fifth row of Pascal’s triangl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1 – 4 – 6 – 4 – 1) helps us to compute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6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876920" y="1752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inomial Theorem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AAB-A5B6-4E05-B958-AEA970B3332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C3A-85ED-4928-A434-AB586FD8E13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and no two of these tasks can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one of these tas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B7BC-B5B3-4168-BA1A-44A525FA559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3D1-407D-4B54-BA5C-FDA64061CC9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ppose that a procedure can be broken down into two successive tasks. If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first task and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second task after the first task has been don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D61-EBF3-4B02-B43D-ABEDDC4F0DC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2F7A-6D28-40D0-B437-A1B844EAB05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license plates are there that containing exactly three English letters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6 possibilities to pick the first letter, then 26 possibilities for the second one, and 26 for the last on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re are 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 = 17576 different license plat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8576-13FE-4685-9535-74A25A54CC3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B69D-D606-45C2-8D5C-ED278404519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cedure consisting of sequential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carry out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F69C-C77C-4A05-BF1D-2694A008210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988C-76C4-423B-80B0-BEEDC3B6D01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um and product rules can also be phrased in terms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 theo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disjoint sets. Then the number of ways to choose any element from one of these sets is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…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finite sets. Then the number of ways to choose one element from each set in the order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B689-7F7D-434D-8063-0B9A6172928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CF5-8D9E-4F34-8D3E-CF77502B858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8 either start with a 1 or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starts with a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thir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eighth bit (0 or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1 can be done in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28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1:30Z</dcterms:modified>
  <cp:revision>115</cp:revision>
  <dc:subject/>
  <dc:title>PowerPoint Presentation</dc:title>
</cp:coreProperties>
</file>