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51675" cy="9356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52400" cy="93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997440" y="-360"/>
            <a:ext cx="305568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s 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637F-9A53-4F52-B9F4-4AED5CBEEFD6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8720" y="701640"/>
            <a:ext cx="4676760" cy="350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600" rIns="936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997440" y="8886960"/>
            <a:ext cx="305568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1C12-C0CB-4593-8DDC-389743B4F69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s 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3997440" y="8886960"/>
            <a:ext cx="30556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1550-E414-4E43-8142-0FB664D7FC3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s 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997440" y="8886960"/>
            <a:ext cx="30556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5AAF-3ECB-43FD-A41A-A11DD2B6180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s 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997440" y="8886960"/>
            <a:ext cx="30556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5C77-4232-4C14-8FFF-1E2F6E1D79E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s 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997440" y="8886960"/>
            <a:ext cx="30556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D3CB-C841-463C-800E-2D12541F998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s 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997440" y="8886960"/>
            <a:ext cx="30556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C62F-32BC-4976-9C53-4E90457DC10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s 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997440" y="8886960"/>
            <a:ext cx="30556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0A40-7C33-4194-9716-E12BEF53D84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s 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997440" y="8886960"/>
            <a:ext cx="30556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3D17-D2D5-4C6E-AD09-84458A2E621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s 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997440" y="8886960"/>
            <a:ext cx="30556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DF2C-F566-49C6-924E-99D02A25C8C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0DB6-9299-48BF-9A39-83BC401A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3A8F-3C4E-484E-8AE4-22126931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5DB0-50B8-4CBB-A3EE-4939575A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C596-EA0E-4F36-AE28-BFABD79D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3D43-F09E-49CF-B7C1-77E5FDFD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88C2-D037-4EB8-A26D-60B5E3B4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E76E-32F6-45B4-8914-518DFCBB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432D-3C93-4B1E-A2ED-3ECCEC8C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9AFC-08C7-49D6-AE1F-64A1DE83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6E95-E0A7-4AA2-8A37-6F4762B9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5D27-9D02-4DD6-85DD-3529CF07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AFE0-0CCC-45EA-8720-B3D07713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6036-1487-444B-91A9-D23CA147BDF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432E-E857-4683-B1C5-BB11A034E03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5760" y="3505320"/>
            <a:ext cx="7524720" cy="838080"/>
          </a:xfrm>
          <a:prstGeom prst="rect">
            <a:avLst/>
          </a:prstGeom>
          <a:solidFill>
            <a:srgbClr val="ffffcc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urse Outlines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معلومات عن المقر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52280" y="762120"/>
            <a:ext cx="8763120" cy="1676160"/>
          </a:xfrm>
          <a:prstGeom prst="rect">
            <a:avLst/>
          </a:prstGeom>
          <a:solidFill>
            <a:srgbClr val="ccff99"/>
          </a:soli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IE 469 Manufacturing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69</a:t>
            </a: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صنع نظم التصني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A713-C81F-4894-A045-CF107BDB5B9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95360" y="2362320"/>
            <a:ext cx="8153280" cy="16995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Simplified Arabic"/>
              </a:rPr>
              <a:t>تصميم وإعداد نظام تصنيع كفأ لإنتاج منتجات (سلع) مختارة ويعمل بكفاءة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Design and preparing an efficient manufacturing system to produce selected product (s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ccff99"/>
          </a:solidFill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تعريف بالمقرر</a:t>
            </a:r>
            <a:r>
              <a:rPr b="1" lang="en-US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   </a:t>
            </a:r>
            <a:r>
              <a:rPr b="1" lang="ar-SA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88C8-FABB-4C5F-84E0-80EABCA0FC5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467480" cy="628560"/>
          </a:xfrm>
          <a:prstGeom prst="rect">
            <a:avLst/>
          </a:prstGeom>
          <a:solidFill>
            <a:srgbClr val="d1fb99"/>
          </a:solidFill>
          <a:ln w="5724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هداف المقرر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rse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0"/>
          <p:cNvSpPr/>
          <p:nvPr/>
        </p:nvSpPr>
        <p:spPr>
          <a:xfrm>
            <a:off x="5029200" y="1295280"/>
            <a:ext cx="3962520" cy="58503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Times New Roman"/>
                <a:cs typeface="Simplified Arabic"/>
              </a:rPr>
              <a:t>يهدف المقرر إلى تحليل الأداء ورفع الإنتاجية لمكونات نظام التصنيع من خلال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399960" algn="just" rtl="1">
              <a:lnSpc>
                <a:spcPct val="85000"/>
              </a:lnSpc>
              <a:spcBef>
                <a:spcPts val="1176"/>
              </a:spcBef>
              <a:buClr>
                <a:srgbClr val="000000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تعرف على تصنيف أنظمة التصنيع ومكوناتها والأتمتة لها وتقنياتها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399960" algn="just" rtl="1">
              <a:lnSpc>
                <a:spcPct val="85000"/>
              </a:lnSpc>
              <a:spcBef>
                <a:spcPts val="1176"/>
              </a:spcBef>
              <a:buClr>
                <a:srgbClr val="000000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حديد قوانين أداء وكفاءة نظام التصنيع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399960" algn="just" rtl="1">
              <a:lnSpc>
                <a:spcPct val="85000"/>
              </a:lnSpc>
              <a:spcBef>
                <a:spcPts val="1176"/>
              </a:spcBef>
              <a:buClr>
                <a:srgbClr val="000000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نمذجة نظم التصنيع وتحليل الأداء.   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1"/>
          <p:cNvSpPr/>
          <p:nvPr/>
        </p:nvSpPr>
        <p:spPr>
          <a:xfrm>
            <a:off x="152280" y="1295280"/>
            <a:ext cx="4800600" cy="40665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Simplified Arabic"/>
              </a:rPr>
              <a:t>This course aims to analyze the performance</a:t>
            </a:r>
            <a:r>
              <a:rPr b="1" lang="ar-SA" sz="2800" spc="-1" strike="noStrike">
                <a:solidFill>
                  <a:srgbClr val="ff3300"/>
                </a:solidFill>
                <a:latin typeface="Times New Roman"/>
                <a:ea typeface="Simplified Arabic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Simplified Arabic"/>
              </a:rPr>
              <a:t>through the following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manufacturing system classification , and its component, automation &amp;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 algn="just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Finding manufacturing laws and performance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 algn="just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Manufacturing system modeling and performa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A1EE-84E4-4822-8C68-7677BBCD4A6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solidFill>
            <a:srgbClr val="ffffcc"/>
          </a:solidFill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6 course description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صف المقر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33200" y="923760"/>
          <a:ext cx="8915400" cy="5754960"/>
        </p:xfrm>
        <a:graphic>
          <a:graphicData uri="http://schemas.openxmlformats.org/drawingml/2006/table">
            <a:tbl>
              <a:tblPr/>
              <a:tblGrid>
                <a:gridCol w="1859040"/>
                <a:gridCol w="705636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</a:rPr>
                        <a:t>IE 469  </a:t>
                      </a:r>
                      <a:r>
                        <a:rPr b="1" i="1" lang="arn-CL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</a:rPr>
                        <a:t>Manufacturing Systems</a:t>
                      </a:r>
                      <a:r>
                        <a:rPr b="1" i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</a:rPr>
                        <a:t>     3(3,1,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log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tion and classification of manufacturing systems; Manufacturing automation fundamentals; Manufacturing strategies (lean manufacturing, agile manufacturing and Application of KBS in manufacturing); performance of manufacturing system; Modeling of manufacturing systems; High volume manufacturing systems design and analysis; Flexible manufacturing performance  analysis; automated inspection analys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requi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E 4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-requis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E 4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tb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over, M.P.;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utomation, Production System, and Computer Integrated Manufacturing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Prentice H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85840" algn="just"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kin, R.G. &amp; Standridge, C.R.;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Modeling and Analysis of Manufacturing System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John Wiley &amp; Son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ryssolouris, G., “Manufacturing Systems, Theory and Practice”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shwin, S. B. “Manufacturing Systems Engineering”,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rning Ob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provide understanding and awareness about manufacturing systems modeling. Also to give the knowledge for the design of various manufacturing systems and analyzing their performan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876E-C568-4F6E-8CDE-81743B57DAB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solidFill>
            <a:srgbClr val="ffffcc"/>
          </a:solidFill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6 course description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صف المقر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0440" y="1479600"/>
          <a:ext cx="8648640" cy="3686040"/>
        </p:xfrm>
        <a:graphic>
          <a:graphicData uri="http://schemas.openxmlformats.org/drawingml/2006/table">
            <a:tbl>
              <a:tblPr/>
              <a:tblGrid>
                <a:gridCol w="2224080"/>
                <a:gridCol w="424080"/>
                <a:gridCol w="6000480"/>
              </a:tblGrid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boratory Top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EF0, IDEF 1X, Petri Nets, Expert System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ject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se studies are given to design and analyze manufacturing system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uter U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uter use covers course top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rning outc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ility to recognize the manufacturing system automation and technologies</a:t>
                      </a:r>
                      <a:r>
                        <a:rPr b="1" i="1" lang="ar-EG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[</a:t>
                      </a:r>
                      <a:r>
                        <a:rPr b="1" i="1" lang="arn-CL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,c,e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ility to Model manufacturing system and analyze its performance</a:t>
                      </a:r>
                      <a:r>
                        <a:rPr b="1" i="1" lang="ar-EG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[</a:t>
                      </a:r>
                      <a:r>
                        <a:rPr b="1" i="1" lang="arn-CL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c,e,i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ability to design manufacturing system 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[</a:t>
                      </a:r>
                      <a:r>
                        <a:rPr b="1" i="1" lang="arn-CL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,j,k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2362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n-C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ability  to work within team during case studies</a:t>
                      </a:r>
                      <a:r>
                        <a:rPr b="1" i="1" lang="arn-CL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[f,g,k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4931-7B94-4834-BA9A-31CC222B031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52280" y="1219320"/>
            <a:ext cx="8839440" cy="59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Introduction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) Concep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Mfg Syste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مفاهيم نظم التصن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urpose of Mfg System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الغرض من نظام التصني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Brief History of  Mfg System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نبذة تاريخية عن نظام التصني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Input/Output Models of Mfg Systems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نماذج نظم التصني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Types of Mfg System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أنماط نظم التصني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utomation Principles for Mfg System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أسس الأتمتة لنظم التصنيع</a:t>
            </a:r>
            <a:r>
              <a:rPr b="1" lang="ar-SA" sz="22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Fundamental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أسس تحليل نظم التصن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rinciples of Mfg System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أساسيات قوانين نظام التصني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Decision Framework for Mfg System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هيكلية القرار لنظام التصني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Model of Measurable Parameters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النماذج الرياضية لوحدات قياس الأداء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Design Problems of Mfg System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مسائل التصميم لنظام التصني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solidFill>
            <a:srgbClr val="ffffcc"/>
          </a:solidFill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Course Detail </a:t>
            </a:r>
            <a:r>
              <a:rPr b="1" lang="ar-SA" sz="32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وصف تفصيلي للمقرر</a:t>
            </a:r>
            <a:r>
              <a:rPr b="1" lang="ar-SA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E9DC-C2EB-4072-B46C-05B330CC8F5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152280" y="1104840"/>
            <a:ext cx="8839440" cy="40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Modeling of Mfg Systems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نمذجة نظم التصن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nalytical Models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النمذجة التحليلية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IDEF0, IDEF 1X,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ٍ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etri Nets, Expert System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Flow /Mass Mfg Systems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نظم التصنيع المستمر/الكب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mponents and Technology of the System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مكونات وتقنية النظام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erformance Analysis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تحليل أداء خط الإنتاج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utomated Assembly System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نظم التجميع الأوتوماتى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Flexible Mfg Systems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نظم التصنيع المر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mponents and Design Concepts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مكونات ومفاهيم التصميم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lanning [Strategic, Tactical, Operational]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التخطيط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5040"/>
            <a:ext cx="7772400" cy="533160"/>
          </a:xfrm>
          <a:prstGeom prst="rect">
            <a:avLst/>
          </a:prstGeom>
          <a:solidFill>
            <a:srgbClr val="ffffcc"/>
          </a:solidFill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Course Detail </a:t>
            </a:r>
            <a:r>
              <a:rPr b="1" lang="ar-SA" sz="32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وصف تفصيلي للمقر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34B6-FD90-41A3-8DE9-E8D15361160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33520" y="1440000"/>
            <a:ext cx="807696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z’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uiz 1: Covers Concepts, Funda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uiz 2: Covers Modeling of Manufacturing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uiz 3: Covers Flexible and Flow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l Exa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4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324840" cy="685800"/>
          </a:xfrm>
          <a:prstGeom prst="rect">
            <a:avLst/>
          </a:prstGeom>
          <a:solidFill>
            <a:srgbClr val="ffffcc"/>
          </a:solidFill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Grading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الدرج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3T14:00:30Z</dcterms:created>
  <dc:creator>DR.ABDULAZIZ M. AL-TAMIMI</dc:creator>
  <dc:description/>
  <dc:language>en-US</dc:language>
  <cp:lastModifiedBy>emad</cp:lastModifiedBy>
  <dcterms:modified xsi:type="dcterms:W3CDTF">2012-01-31T07:11:53Z</dcterms:modified>
  <cp:revision>87</cp:revision>
  <dc:subject/>
  <dc:title>عرض تقديمي من PowerPoint</dc:title>
</cp:coreProperties>
</file>