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51675" cy="9356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52400" cy="935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997440" y="-360"/>
            <a:ext cx="3055680" cy="468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ufcturing systems  -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-360"/>
            <a:ext cx="3056040" cy="468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52260-DB27-4254-841C-5BD442ED0C03}" type="datetime3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8720" y="701640"/>
            <a:ext cx="4676760" cy="350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600" rIns="936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0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997440" y="8886960"/>
            <a:ext cx="3055680" cy="4680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886960"/>
            <a:ext cx="3056040" cy="4680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86A61-BAF7-47AF-944A-8B3301617C1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3997440" y="0"/>
            <a:ext cx="30556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ufcturing systems  -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3997440" y="8886960"/>
            <a:ext cx="305568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1440" y="8886960"/>
            <a:ext cx="305604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B8F16-4B2F-489A-AE4A-9B8E9A64067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76760" cy="350856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3997440" y="0"/>
            <a:ext cx="30556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ufcturing systems  -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3997440" y="8886960"/>
            <a:ext cx="305568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1440" y="8886960"/>
            <a:ext cx="305604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28FD6-1D73-4154-BDBE-AEBF40CD32D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76760" cy="350856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3997440" y="0"/>
            <a:ext cx="30556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ufcturing systems  -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3997440" y="8886960"/>
            <a:ext cx="305568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1440" y="8886960"/>
            <a:ext cx="305604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70D54-34EF-47A6-B9F0-7A204E6326C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76760" cy="350856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3997440" y="0"/>
            <a:ext cx="30556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ufcturing systems  -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3997440" y="8886960"/>
            <a:ext cx="305568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1440" y="8886960"/>
            <a:ext cx="305604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A407D-455B-41E6-BA09-C6CFCC928A5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76760" cy="350856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3997440" y="0"/>
            <a:ext cx="30556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ufcturing systems  -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3997440" y="8886960"/>
            <a:ext cx="305568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1440" y="8886960"/>
            <a:ext cx="305604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81975-68E2-44E0-B079-915D44BC0A8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76760" cy="350856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3997440" y="0"/>
            <a:ext cx="30556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ufcturing systems  -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3997440" y="8886960"/>
            <a:ext cx="305568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1440" y="8886960"/>
            <a:ext cx="305604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7D34D-2258-4B69-95DB-4BC75519361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76760" cy="35085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3997440" y="0"/>
            <a:ext cx="30556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ufcturing systems  -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3997440" y="8886960"/>
            <a:ext cx="305568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440" y="8886960"/>
            <a:ext cx="305604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48868-1CC8-4B10-9FFE-1A9671AD27E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76760" cy="35085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3997440" y="0"/>
            <a:ext cx="30556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ufcturing systems  -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3997440" y="8886960"/>
            <a:ext cx="305568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1440" y="8886960"/>
            <a:ext cx="305604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2DCC7-A742-4256-A99D-84AF5EE94E1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76760" cy="350856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A9E0-0FCE-4A26-8E92-D3FBFED0F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9A77-79E5-4688-B809-C282638B8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E8C4-D00B-4ECE-B67E-CA7E491B9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85B7-DE29-46DC-9C52-B6965268F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A9FC-3D5C-401D-BA1F-9CDC69319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0B27-7DC4-43BB-A8DE-B051F7311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AC3A-6F74-4F20-A8AF-8A15D05C6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FBAA-EAD3-4757-8F4E-52798DC4E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1EDD-FCB1-4FEF-98A9-A4A064F7A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AD70-B702-4E51-987E-085992BF9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9525-75F3-4857-8ED6-AFF66606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95BE-563D-47EB-B4DD-2DDDEFA8C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3EB8B-93CE-42D2-94A3-ECA8EBC13FF6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BC88D-3E4F-44DA-B9F9-3BBE42799704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85760" y="3505320"/>
            <a:ext cx="7524720" cy="838080"/>
          </a:xfrm>
          <a:prstGeom prst="rect">
            <a:avLst/>
          </a:prstGeom>
          <a:solidFill>
            <a:srgbClr val="ffffcc"/>
          </a:solidFill>
          <a:ln w="381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urse Outlines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معلومات عن المقر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52280" y="762120"/>
            <a:ext cx="8763120" cy="1676160"/>
          </a:xfrm>
          <a:prstGeom prst="rect">
            <a:avLst/>
          </a:prstGeom>
          <a:solidFill>
            <a:srgbClr val="ccff99"/>
          </a:solidFill>
          <a:ln w="7632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IE 469 Manufacturing Sys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4</a:t>
            </a:r>
            <a:r>
              <a:rPr b="1" lang="ar-EG" sz="40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69</a:t>
            </a:r>
            <a:r>
              <a:rPr b="1" lang="ar-SA" sz="40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Simplified Arabic"/>
                <a:cs typeface="Simplified Arabic"/>
              </a:rPr>
              <a:t>صنع نظم التصني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E9CDE-79BF-4A24-87B9-53D6E797EC5F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495360" y="2362320"/>
            <a:ext cx="8153280" cy="1699560"/>
          </a:xfrm>
          <a:prstGeom prst="rect">
            <a:avLst/>
          </a:prstGeom>
          <a:solidFill>
            <a:srgbClr val="ffffcc"/>
          </a:soli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imes New Roman"/>
                <a:cs typeface="Simplified Arabic"/>
              </a:rPr>
              <a:t>تصميم وإعداد نظام تصنيع كفأ لإنتاج منتجات (سلع) مختارة ويعمل بكفاءة.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Design and preparing an efficient manufacturing system to produce selected product (s)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solidFill>
            <a:srgbClr val="ccff99"/>
          </a:solidFill>
          <a:ln w="57240">
            <a:solidFill>
              <a:srgbClr val="8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Simplified Arabic"/>
                <a:cs typeface="Simplified Arabic"/>
              </a:rPr>
              <a:t>تعريف بالمقرر</a:t>
            </a:r>
            <a:r>
              <a:rPr b="1" lang="en-US" sz="32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    </a:t>
            </a:r>
            <a:r>
              <a:rPr b="1" lang="ar-SA" sz="32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F1048-6D64-4C89-A27F-3C2CB209CC05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7467480" cy="628560"/>
          </a:xfrm>
          <a:prstGeom prst="rect">
            <a:avLst/>
          </a:prstGeom>
          <a:solidFill>
            <a:srgbClr val="d1fb99"/>
          </a:solidFill>
          <a:ln w="5724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أهداف المقرر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rse Obj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0"/>
          <p:cNvSpPr/>
          <p:nvPr/>
        </p:nvSpPr>
        <p:spPr>
          <a:xfrm>
            <a:off x="5029200" y="1295280"/>
            <a:ext cx="3962520" cy="5850360"/>
          </a:xfrm>
          <a:prstGeom prst="rect">
            <a:avLst/>
          </a:prstGeom>
          <a:solidFill>
            <a:srgbClr val="ffffcc"/>
          </a:soli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3300"/>
                </a:solidFill>
                <a:latin typeface="Times New Roman"/>
                <a:cs typeface="Simplified Arabic"/>
              </a:rPr>
              <a:t>يهدف المقرر إلى تحليل الأداء ورفع الإنتاجية لمكونات نظام التصنيع من خلال: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440" indent="-399960" algn="just" rtl="1">
              <a:lnSpc>
                <a:spcPct val="85000"/>
              </a:lnSpc>
              <a:spcBef>
                <a:spcPts val="1176"/>
              </a:spcBef>
              <a:buClr>
                <a:srgbClr val="000000"/>
              </a:buClr>
              <a:buFont typeface="Times New Roman"/>
              <a:buChar char="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تعرف على تصنيف أنظمة التصنيع ومكوناتها والأتمتة لها وتقنياتها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440" indent="-399960" algn="just" rtl="1">
              <a:lnSpc>
                <a:spcPct val="85000"/>
              </a:lnSpc>
              <a:spcBef>
                <a:spcPts val="1176"/>
              </a:spcBef>
              <a:buClr>
                <a:srgbClr val="000000"/>
              </a:buClr>
              <a:buFont typeface="Times New Roman"/>
              <a:buChar char="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تحديد قوانين أداء وكفاءة نظام التصنيع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440" indent="-399960" algn="just" rtl="1">
              <a:lnSpc>
                <a:spcPct val="85000"/>
              </a:lnSpc>
              <a:spcBef>
                <a:spcPts val="1176"/>
              </a:spcBef>
              <a:buClr>
                <a:srgbClr val="000000"/>
              </a:buClr>
              <a:buFont typeface="Times New Roman"/>
              <a:buChar char="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نمذجة نظم التصنيع وتحليل الأداء.    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51"/>
          <p:cNvSpPr/>
          <p:nvPr/>
        </p:nvSpPr>
        <p:spPr>
          <a:xfrm>
            <a:off x="152280" y="1295280"/>
            <a:ext cx="4800600" cy="4066560"/>
          </a:xfrm>
          <a:prstGeom prst="rect">
            <a:avLst/>
          </a:prstGeom>
          <a:solidFill>
            <a:srgbClr val="ffffcc"/>
          </a:soli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Simplified Arabic"/>
              </a:rPr>
              <a:t>This course aims to analyze the performance</a:t>
            </a:r>
            <a:r>
              <a:rPr b="1" lang="ar-SA" sz="2800" spc="-1" strike="noStrike">
                <a:solidFill>
                  <a:srgbClr val="ff3300"/>
                </a:solidFill>
                <a:latin typeface="Times New Roman"/>
                <a:ea typeface="Simplified Arabic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Simplified Arabic"/>
              </a:rPr>
              <a:t>through the following: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228600">
              <a:lnSpc>
                <a:spcPct val="85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manufacturing system classification , and its component, automation &amp;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228600" algn="just">
              <a:lnSpc>
                <a:spcPct val="85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Finding manufacturing laws and performance mea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228600" algn="just">
              <a:lnSpc>
                <a:spcPct val="85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Manufacturing system modeling and performance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51032-08AD-400F-9574-4B71EC6F63A2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solidFill>
            <a:srgbClr val="ffffcc"/>
          </a:solidFill>
          <a:ln w="57240">
            <a:solidFill>
              <a:srgbClr val="8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-6 course description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وصف المقر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33200" y="923760"/>
          <a:ext cx="8915400" cy="5754960"/>
        </p:xfrm>
        <a:graphic>
          <a:graphicData uri="http://schemas.openxmlformats.org/drawingml/2006/table">
            <a:tbl>
              <a:tblPr/>
              <a:tblGrid>
                <a:gridCol w="1859040"/>
                <a:gridCol w="7056360"/>
              </a:tblGrid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ea typeface="Times New Roman"/>
                        </a:rPr>
                        <a:t>IE 469  </a:t>
                      </a:r>
                      <a:r>
                        <a:rPr b="1" i="1" lang="arn-CL" sz="1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ea typeface="Times New Roman"/>
                        </a:rPr>
                        <a:t>Manufacturing Systems</a:t>
                      </a:r>
                      <a:r>
                        <a:rPr b="1" i="1" lang="en-US" sz="1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ea typeface="Times New Roman"/>
                        </a:rPr>
                        <a:t>     3(3,1,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talog 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inition and classification of manufacturing systems; Manufacturing automation fundamentals; Manufacturing strategies (lean manufacturing, agile manufacturing and Application of KBS in manufacturing); performance of manufacturing system; Modeling of manufacturing systems; High volume manufacturing systems design and analysis; Flexible manufacturing performance  analysis; automated inspection analyses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requis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E 4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-requisi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E 4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v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xtbo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 algn="just"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over, M.P.; 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Automation, Production System, and Computer Integrated Manufacturing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Prentice H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85840" indent="-285840" algn="just"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kin, R.G. &amp; Standridge, C.R.; 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Modeling and Analysis of Manufacturing System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John Wiley &amp; Son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ryssolouris, G., “Manufacturing Systems, Theory and Practice”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shwin, S. B. “Manufacturing Systems Engineering”,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arning Objecti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 provide understanding and awareness about manufacturing systems modeling. Also to give the knowledge for the design of various manufacturing systems and analyzing their performanc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19F9C-1EA8-46CA-8FF2-DA8E3D3C0E73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solidFill>
            <a:srgbClr val="ffffcc"/>
          </a:solidFill>
          <a:ln w="57240">
            <a:solidFill>
              <a:srgbClr val="8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-6 course description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وصف المقر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90440" y="1479600"/>
          <a:ext cx="8648640" cy="3686040"/>
        </p:xfrm>
        <a:graphic>
          <a:graphicData uri="http://schemas.openxmlformats.org/drawingml/2006/table">
            <a:tbl>
              <a:tblPr/>
              <a:tblGrid>
                <a:gridCol w="2224080"/>
                <a:gridCol w="424080"/>
                <a:gridCol w="6000480"/>
              </a:tblGrid>
              <a:tr h="39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boratory Top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DEF0, IDEF 1X, Petri Nets, Expert System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ject wo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se studies are given to design and analyze manufacturing systems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uter Us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uter use covers course top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984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arning outco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bility to recognize the manufacturing system automation and technologies</a:t>
                      </a:r>
                      <a:r>
                        <a:rPr b="1" i="1" lang="ar-EG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i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[</a:t>
                      </a:r>
                      <a:r>
                        <a:rPr b="1" i="1" lang="arn-CL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a,c,e</a:t>
                      </a:r>
                      <a:r>
                        <a:rPr b="1" i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bility to Model manufacturing system and analyze its performance</a:t>
                      </a:r>
                      <a:r>
                        <a:rPr b="1" i="1" lang="ar-EG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i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[</a:t>
                      </a:r>
                      <a:r>
                        <a:rPr b="1" i="1" lang="arn-CL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c,e,i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pability to design manufacturing system </a:t>
                      </a:r>
                      <a:r>
                        <a:rPr b="1" i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[</a:t>
                      </a:r>
                      <a:r>
                        <a:rPr b="1" i="1" lang="arn-CL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c,j,k</a:t>
                      </a:r>
                      <a:r>
                        <a:rPr b="1" i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r" pos="2362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n-C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pability  to work within team during case studies</a:t>
                      </a:r>
                      <a:r>
                        <a:rPr b="1" i="1" lang="arn-CL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[f,g,k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871ED-D8F3-4377-A2EF-7C379140C38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152280" y="1219320"/>
            <a:ext cx="8839440" cy="59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Introduction </a:t>
            </a:r>
            <a:r>
              <a:rPr b="1" lang="ar-SA" sz="2400" spc="-1" strike="noStrike">
                <a:solidFill>
                  <a:srgbClr val="cc0066"/>
                </a:solidFill>
                <a:latin typeface="Times New Roman"/>
                <a:cs typeface="Simplified Arabic"/>
              </a:rPr>
              <a:t>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1) Concept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Mfg System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</a:t>
            </a:r>
            <a:r>
              <a:rPr b="1" lang="ar-SA" sz="2400" spc="-1" strike="noStrike">
                <a:solidFill>
                  <a:srgbClr val="cc0066"/>
                </a:solidFill>
                <a:latin typeface="Times New Roman"/>
                <a:cs typeface="Simplified Arabic"/>
              </a:rPr>
              <a:t>مفاهيم نظم التصني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 algn="just">
              <a:lnSpc>
                <a:spcPct val="85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Purpose of Mfg System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  <a:cs typeface="Simplified Arabic"/>
              </a:rPr>
              <a:t>الغرض من نظام التصنيع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 algn="just">
              <a:lnSpc>
                <a:spcPct val="85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Brief History of  Mfg System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  <a:cs typeface="Simplified Arabic"/>
              </a:rPr>
              <a:t>نبذة تاريخية عن نظام التصنيع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 algn="just">
              <a:lnSpc>
                <a:spcPct val="85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Input/Output Models of Mfg Systems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  <a:cs typeface="Simplified Arabic"/>
              </a:rPr>
              <a:t>نماذج نظم التصنيع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 algn="just">
              <a:lnSpc>
                <a:spcPct val="85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Types of Mfg System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  <a:cs typeface="Simplified Arabic"/>
              </a:rPr>
              <a:t>أنماط نظم التصنيع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 algn="just">
              <a:lnSpc>
                <a:spcPct val="85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Automation Principles for Mfg Systems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  <a:cs typeface="Simplified Arabic"/>
              </a:rPr>
              <a:t>أسس الأتمتة لنظم التصنيع</a:t>
            </a:r>
            <a:r>
              <a:rPr b="1" lang="ar-SA" sz="22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Fundamental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</a:t>
            </a:r>
            <a:r>
              <a:rPr b="1" lang="ar-SA" sz="2400" spc="-1" strike="noStrike">
                <a:solidFill>
                  <a:srgbClr val="cc0066"/>
                </a:solidFill>
                <a:latin typeface="Times New Roman"/>
                <a:cs typeface="Simplified Arabic"/>
              </a:rPr>
              <a:t>أسس تحليل نظم التصني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 algn="just">
              <a:lnSpc>
                <a:spcPct val="85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Principles of Mfg System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  <a:cs typeface="Simplified Arabic"/>
              </a:rPr>
              <a:t>أساسيات قوانين نظام التصنيع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 algn="just">
              <a:lnSpc>
                <a:spcPct val="85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Decision Framework for Mfg System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  <a:cs typeface="Simplified Arabic"/>
              </a:rPr>
              <a:t>هيكلية القرار لنظام التصنيع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 algn="just">
              <a:lnSpc>
                <a:spcPct val="85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Model of Measurable Parameters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  <a:cs typeface="Simplified Arabic"/>
              </a:rPr>
              <a:t>النماذج الرياضية لوحدات قياس الأداء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 algn="just">
              <a:lnSpc>
                <a:spcPct val="85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Design Problems of Mfg System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  <a:cs typeface="Simplified Arabic"/>
              </a:rPr>
              <a:t>مسائل التصميم لنظام التصنيع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solidFill>
            <a:srgbClr val="ffffcc"/>
          </a:solidFill>
          <a:ln w="57240">
            <a:solidFill>
              <a:srgbClr val="8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Course Detail </a:t>
            </a:r>
            <a:r>
              <a:rPr b="1" lang="ar-SA" sz="3200" spc="-1" strike="noStrike">
                <a:solidFill>
                  <a:srgbClr val="000000"/>
                </a:solidFill>
                <a:latin typeface="Simplified Arabic"/>
                <a:cs typeface="Simplified Arabic"/>
              </a:rPr>
              <a:t>وصف تفصيلي للمقرر</a:t>
            </a:r>
            <a:r>
              <a:rPr b="1" lang="ar-SA" sz="32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3E293-8938-42BF-94F9-101F88BEA7E6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152280" y="1104840"/>
            <a:ext cx="8839440" cy="40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Modeling of Mfg Systems </a:t>
            </a:r>
            <a:r>
              <a:rPr b="1" lang="ar-SA" sz="2400" spc="-1" strike="noStrike">
                <a:solidFill>
                  <a:srgbClr val="cc0066"/>
                </a:solidFill>
                <a:latin typeface="Times New Roman"/>
                <a:cs typeface="Simplified Arabic"/>
              </a:rPr>
              <a:t>نمذجة نظم التصني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85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Analytical Models 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  <a:cs typeface="Simplified Arabic"/>
              </a:rPr>
              <a:t>النمذجة التحليلية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  <a:ea typeface="Simplified Arabic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85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IDEF0, IDEF 1X,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ٍ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Petri Nets, Expert System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Flow /Mass Mfg Systems </a:t>
            </a:r>
            <a:r>
              <a:rPr b="1" lang="ar-SA" sz="2400" spc="-1" strike="noStrike">
                <a:solidFill>
                  <a:srgbClr val="cc0066"/>
                </a:solidFill>
                <a:latin typeface="Times New Roman"/>
                <a:cs typeface="Simplified Arabic"/>
              </a:rPr>
              <a:t>نظم التصنيع المستمر/الكبي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85000"/>
              </a:lnSpc>
              <a:spcBef>
                <a:spcPts val="414"/>
              </a:spcBef>
              <a:buClr>
                <a:srgbClr val="000000"/>
              </a:buClr>
              <a:buFont typeface="Times New Roman"/>
              <a:buAutoNum type="arabicParenR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Components and Technology of the System 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  <a:cs typeface="Simplified Arabic"/>
              </a:rPr>
              <a:t>مكونات وتقنية النظام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85000"/>
              </a:lnSpc>
              <a:spcBef>
                <a:spcPts val="414"/>
              </a:spcBef>
              <a:buClr>
                <a:srgbClr val="000000"/>
              </a:buClr>
              <a:buFont typeface="Times New Roman"/>
              <a:buAutoNum type="arabicParenR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Performance Analysis 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  <a:cs typeface="Simplified Arabic"/>
              </a:rPr>
              <a:t>تحليل أداء خط الإنتاج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  <a:ea typeface="Simplified Arabic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85000"/>
              </a:lnSpc>
              <a:spcBef>
                <a:spcPts val="414"/>
              </a:spcBef>
              <a:buClr>
                <a:srgbClr val="000000"/>
              </a:buClr>
              <a:buFont typeface="Times New Roman"/>
              <a:buAutoNum type="arabicParenR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Automated Assembly Systems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  <a:cs typeface="Simplified Arabic"/>
              </a:rPr>
              <a:t>نظم التجميع الأوتوماتى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Flexible Mfg Systems </a:t>
            </a:r>
            <a:r>
              <a:rPr b="1" lang="ar-SA" sz="2400" spc="-1" strike="noStrike">
                <a:solidFill>
                  <a:srgbClr val="cc0066"/>
                </a:solidFill>
                <a:latin typeface="Times New Roman"/>
                <a:cs typeface="Simplified Arabic"/>
              </a:rPr>
              <a:t>نظم التصنيع المرن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85000"/>
              </a:lnSpc>
              <a:spcBef>
                <a:spcPts val="41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Components and Design Concepts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  <a:cs typeface="Simplified Arabic"/>
              </a:rPr>
              <a:t>مكونات ومفاهيم التصميم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85000"/>
              </a:lnSpc>
              <a:spcBef>
                <a:spcPts val="41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Planning [Strategic, Tactical, Operational]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  <a:ea typeface="Simplified Arabic"/>
              </a:rPr>
              <a:t> 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  <a:cs typeface="Simplified Arabic"/>
              </a:rPr>
              <a:t>التخطيط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95040"/>
            <a:ext cx="7772400" cy="533160"/>
          </a:xfrm>
          <a:prstGeom prst="rect">
            <a:avLst/>
          </a:prstGeom>
          <a:solidFill>
            <a:srgbClr val="ffffcc"/>
          </a:solidFill>
          <a:ln w="57240">
            <a:solidFill>
              <a:srgbClr val="8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Course Detail </a:t>
            </a:r>
            <a:r>
              <a:rPr b="1" lang="ar-SA" sz="3200" spc="-1" strike="noStrike">
                <a:solidFill>
                  <a:srgbClr val="000000"/>
                </a:solidFill>
                <a:latin typeface="Simplified Arabic"/>
                <a:cs typeface="Simplified Arabic"/>
              </a:rPr>
              <a:t>وصف تفصيلي للمقر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FDA90-401F-48D0-8C53-68AB20259257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533520" y="1440000"/>
            <a:ext cx="8076960" cy="35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j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1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1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iz’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Quiz 1: Covers Concepts, Fundam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Quiz 2: Covers Modeling of Manufacturing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Quiz 3: Covers Flexible and Flow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nal Exa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4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75960"/>
            <a:ext cx="6324840" cy="685800"/>
          </a:xfrm>
          <a:prstGeom prst="rect">
            <a:avLst/>
          </a:prstGeom>
          <a:solidFill>
            <a:srgbClr val="ffffcc"/>
          </a:solidFill>
          <a:ln w="57240">
            <a:solidFill>
              <a:srgbClr val="8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Grading </a:t>
            </a: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Simplified Arabic"/>
              </a:rPr>
              <a:t>الدرجا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3T14:00:30Z</dcterms:created>
  <dc:creator>DR.ABDULAZIZ M. AL-TAMIMI</dc:creator>
  <dc:description/>
  <dc:language>en-US</dc:language>
  <cp:lastModifiedBy>emad</cp:lastModifiedBy>
  <dcterms:modified xsi:type="dcterms:W3CDTF">2012-01-31T07:11:53Z</dcterms:modified>
  <cp:revision>87</cp:revision>
  <dc:subject/>
  <dc:title>عرض تقديمي من PowerPoint</dc:title>
</cp:coreProperties>
</file>