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8A04-5CF9-4B5D-9AEF-69B7D14560DC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EFD3-4A79-4C5D-84AD-DE1B58A409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59DB-540A-41B8-AC80-5BEEF8218921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0C4-842C-4E28-880E-BF999A5257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2228-67BE-4D2E-822F-BA24071564E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617-D9DB-49B7-8BB6-0D4F1CA94C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FFB-3528-49B4-B610-D4481F2839CC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D95-1D82-4F35-847C-B149BE2D79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A20-7CD6-48F6-80EE-EE51A1A33EFC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5C4D-8AAB-44CC-B67F-B6A097B050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8F4-8DD4-4375-AC3D-4AC07D106796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646-ABDC-46DC-B87A-26727B6599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F7ED-0F63-4AFE-9150-B439D4733A76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324C-D39E-4B64-9570-0B85EAE1DD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B50-5DB7-4FA1-9D12-6646F2FA053D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621-CEEF-4292-8AB7-7D55241D18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85E5-E4EF-4B52-A662-B0EB11E014A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CA9-FEA2-495E-AF13-DAFC2BDBE5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BE5-F639-4D5E-98DF-48090F49602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0FFE-73DA-441C-901C-5314C008FA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5A4-EF98-416D-BCB3-B30FB9DB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A42-9280-43CE-81A7-CE5193CE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864-A9DF-4871-9338-4B9C4D7E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8B6-B35F-4EC5-9DD3-939A2829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710-1E26-4C7B-A105-1D0A5DBB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4A8-D185-48C4-A29A-5EAC65AC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3D1-0C2D-4B4F-918C-72B099F2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B31-2D4E-46BC-8BEA-EA7547DB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13C-CA9F-414E-89DF-12F6F0C7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028-D9F1-4CF7-B754-44CCB00C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171-907C-4A5D-B55D-1E5F6AC8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BEE-EF06-4439-9736-95C5FD5A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771-C75F-42DB-8EFC-F6FBBE8FC6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614A-D961-4FF7-8B7D-2B28AFD4AF8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3505320"/>
            <a:ext cx="75247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rse outline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علومات عن المقر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71 IE Manufacturing System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71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   تصميم نظا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A15-873C-4656-9D5D-64B4AD42920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360" y="2362320"/>
            <a:ext cx="8153280" cy="169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تصميم وإعداد نظام تصنيع كفأ لإنتاج منتجات (سلع) مختارة ويعمل بكفاءة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and preparing an efficient manufacturing system to produce selected product (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ccff99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المقرر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1426-3DCA-4690-8729-F962211D1E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628560"/>
          </a:xfrm>
          <a:prstGeom prst="rect">
            <a:avLst/>
          </a:prstGeom>
          <a:solidFill>
            <a:srgbClr val="d1fb99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داف المقر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5029200" y="1295280"/>
            <a:ext cx="3962520" cy="585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Simplified Arabic"/>
              </a:rPr>
              <a:t>يهدف المقرر إلى تحليل الأداء ورفع الإنتاجية لمكونات نظام التصنيع من خلال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عرف على تصنيف أنظمة التصنيع ومكوناتها والأتمتة لها وتقنياته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يد قوانين أداء وكفاءة نظام التصني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مذجة نظم التصنيع وتحليل الأداء.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152280" y="1295280"/>
            <a:ext cx="4800600" cy="40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is course aims to analyze the performance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rough the following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classification , and its component, automation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inding manufacturing laws and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modeling and perform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76AF-C19B-4847-A83B-F71434A3F2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923760"/>
          <a:ext cx="8591400" cy="6089760"/>
        </p:xfrm>
        <a:graphic>
          <a:graphicData uri="http://schemas.openxmlformats.org/drawingml/2006/table">
            <a:tbl>
              <a:tblPr/>
              <a:tblGrid>
                <a:gridCol w="1790640"/>
                <a:gridCol w="68007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IE 471  </a:t>
                      </a:r>
                      <a:r>
                        <a:rPr b="1" i="1" lang="arn-CL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Design of Manufacturing Systems</a:t>
                      </a: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    3(3,1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o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ing fundamentals and  </a:t>
                      </a: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mation strategies; High volume manufacturing systems; Automated handling and storage systems;; Flexible manufacturing systems; Modeling of manufacturing system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requi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50, IE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qui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over, M.P.;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utomation, Production System, and Computer Integrated Manufactu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rentice 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kin, R.G. &amp; Standridge, C.R.;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odeling and Analysis of Manufacturing System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John Wiley &amp; Son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yssolouris, G., “Manufacturing Systems, Theory and Practice”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shwin, S. B. “Manufacturing Systems Engineering”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provide understanding and awareness about manufacturing systems automation and technologies: Also to give the knowledge for the design of various manufacturing systems and analyzing their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57B-A555-413C-95B5-023C8585585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440" y="1479600"/>
          <a:ext cx="8648640" cy="3686040"/>
        </p:xfrm>
        <a:graphic>
          <a:graphicData uri="http://schemas.openxmlformats.org/drawingml/2006/table">
            <a:tbl>
              <a:tblPr/>
              <a:tblGrid>
                <a:gridCol w="2224080"/>
                <a:gridCol w="424080"/>
                <a:gridCol w="6000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oratory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 are given to design and analyze manufacturing syste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e covers course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recognize the manufacturing system automation and technologies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odel manufacturing system and analyze its performanc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,i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to design manufacturing system 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,j,k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2362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 to work within team during case studies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[f,g,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50D4-8496-4176-B8AD-7EC7B58D62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280" y="1219320"/>
            <a:ext cx="88394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roduc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) Concep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fg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فاهيم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urpose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غرض م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rief History of 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بذة تاريخية ع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put/Output Models of Mfg System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اذج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yp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نماط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ion Principles for Mfg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الأتمتة لنظم التصنيع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undament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تحليل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incipl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اسيات قواني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cision Framework for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هيكلية القرار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 of measurable Parameter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اذج الرياضية لوحدات قياس الأداء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Problems of Mfg Syste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سائل التصميم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1025-99B1-4D86-AA9D-6449978187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280" y="1104840"/>
            <a:ext cx="883944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ing of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ذجة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alytical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تحليلي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imulation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محاكا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Handling and Storage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مناولة والتخز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أوتومات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andling System (conveyer and AGV) Analysi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مناول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Retrievals/Storage System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خزين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ow /Mass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ستمر/الكب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Technology of the System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تقني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rformance Analysi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تحليل أداء خط الإنتاج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Assembly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جميع الأوتوماتى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exible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Design Concept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مفاهيم التصمي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anning [Strategic, Tactical, Operational]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تخطيط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302E-A1F1-47CC-973A-762F44E08FD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1440000"/>
            <a:ext cx="807696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 case stud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1: Reading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2: Selected extended problem fo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3: Problem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’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1: Covers concepts, fundamental, and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2: Covers Automated Handling and Storag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3: Covers flexible and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324840" cy="68580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Grading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درج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8420-16EB-476E-ADEC-086A075D450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Schedule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دولة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6" descr=""/>
          <p:cNvPicPr/>
          <p:nvPr/>
        </p:nvPicPr>
        <p:blipFill>
          <a:blip r:embed="rId1"/>
          <a:stretch/>
        </p:blipFill>
        <p:spPr>
          <a:xfrm>
            <a:off x="1009800" y="1452600"/>
            <a:ext cx="59814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emad</cp:lastModifiedBy>
  <dcterms:modified xsi:type="dcterms:W3CDTF">2010-09-29T04:26:26Z</dcterms:modified>
  <cp:revision>64</cp:revision>
  <dc:subject/>
  <dc:title>عرض تقديمي من PowerPoint</dc:title>
</cp:coreProperties>
</file>