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9FEA-B55F-4C64-AF25-F410460B67F5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C767-0EBB-41A1-B835-668B36B1F3C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FCA7-0DF9-4F30-AF62-F938BA7F6317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C0DD-C978-4C0C-91CE-E5981B6EF1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E9D4-7203-4AC2-B263-DA550431A302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D2CE-7949-4B89-BECA-5BCADF277F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4C79-517B-4538-8E7A-2592E3410AA5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CA3E-E27A-4830-89E6-D66A4D5976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DF60-39AF-4C98-9C4D-BC9080C98612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B599-DFA2-4AE0-9CEF-E700AC885E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09C5-A2E7-44DA-BF95-4116BB90CCAB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58A5-AC40-4B94-8C21-61292BBE544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BAC4-B53F-40F6-95C5-83D9977AC244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89C0-923E-4D5A-B9BE-C92ED69F952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AB75-A27C-4065-AB30-8CFCDD31E80F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97AF-E5C2-44FB-B2BC-62419E2DB9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DB43-F4D7-4C3D-BB43-689FD6FA2939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B543-2695-4373-AA12-FC516EA006F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ufcturing system design -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49CF-5C42-476D-95A8-96A04863712A}" type="datetime3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. Abdulaziz Al-Tam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ECE4-4DE5-4262-90EA-E6C2725C1EC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197A-9832-4415-90C4-D36F89B2E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E6E-B832-4C4C-9D5E-29A490AB6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8CDA-EC47-4A60-AEB4-CF83A7B8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E62A-B35D-4EE2-BC5E-071B75B3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B1A0-CCBC-492F-A40B-90AA710F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BC77-38BD-479C-B396-AE7A0DA4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419B-CE7A-43DA-BF64-D87D968A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A847-61FA-4969-B290-9C957D18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7F8-288F-43B3-A5BA-EDCA5EC3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FAE0-D712-4006-AD5F-9830CC22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ECE9-15C2-4298-A71E-58DAC6E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593C-C293-4567-B662-E77A23BE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DD77-743A-4D95-A15C-034F4BC6D22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44B0-972B-4EF9-81BE-075282C3A13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85760" y="3505320"/>
            <a:ext cx="75247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urse outline </a:t>
            </a: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معلومات عن المقر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52280" y="762120"/>
            <a:ext cx="8763120" cy="1676160"/>
          </a:xfrm>
          <a:prstGeom prst="rect">
            <a:avLst/>
          </a:prstGeom>
          <a:solidFill>
            <a:srgbClr val="ccff99"/>
          </a:solidFill>
          <a:ln w="7632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71 IE Manufacturing System Des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471 </a:t>
            </a:r>
            <a:r>
              <a:rPr b="1" lang="ar-SA" sz="40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صنع    تصميم نظام التصني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FEA5-946D-47A7-86FF-81769C48934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95360" y="2362320"/>
            <a:ext cx="8153280" cy="1699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imes New Roman"/>
                <a:cs typeface="Simplified Arabic"/>
              </a:rPr>
              <a:t>تصميم وإعداد نظام تصنيع كفأ لإنتاج منتجات (سلع) مختارة ويعمل بكفاءة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sign and preparing an efficient manufacturing system to produce selected product (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solidFill>
            <a:srgbClr val="ccff99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تعريف بالمقرر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  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35F6-B145-464E-8259-EDEED89060C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7467480" cy="628560"/>
          </a:xfrm>
          <a:prstGeom prst="rect">
            <a:avLst/>
          </a:prstGeom>
          <a:solidFill>
            <a:srgbClr val="d1fb99"/>
          </a:solidFill>
          <a:ln w="57240">
            <a:solidFill>
              <a:srgbClr val="99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أهداف المقرر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rse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50"/>
          <p:cNvSpPr/>
          <p:nvPr/>
        </p:nvSpPr>
        <p:spPr>
          <a:xfrm>
            <a:off x="5029200" y="1295280"/>
            <a:ext cx="3962520" cy="585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Times New Roman"/>
                <a:cs typeface="Simplified Arabic"/>
              </a:rPr>
              <a:t>يهدف المقرر إلى تحليل الأداء ورفع الإنتاجية لمكونات نظام التصنيع من خلال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تعرف على تصنيف أنظمة التصنيع ومكوناتها والأتمتة لها وتقنياتها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تحديد قوانين أداء وكفاءة نظام التصنيع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514440" indent="-399960" algn="just" rtl="1">
              <a:lnSpc>
                <a:spcPct val="85000"/>
              </a:lnSpc>
              <a:spcBef>
                <a:spcPts val="1176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نمذجة نظم التصنيع وتحليل الأداء.    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51"/>
          <p:cNvSpPr/>
          <p:nvPr/>
        </p:nvSpPr>
        <p:spPr>
          <a:xfrm>
            <a:off x="152280" y="1295280"/>
            <a:ext cx="4800600" cy="4066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This course aims to analyze the performance</a:t>
            </a:r>
            <a:r>
              <a:rPr b="1" lang="ar-SA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Simplified Arabic"/>
              </a:rPr>
              <a:t>through the following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nufacturing system classification , and its component, automation &amp;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 algn="just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inding manufacturing laws and perform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228600" algn="just">
              <a:lnSpc>
                <a:spcPct val="85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anufacturing system modeling and perform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5D953-718A-4C51-8CC3-1DF5AF39D79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6 course description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صف ا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923760"/>
          <a:ext cx="8591400" cy="6089760"/>
        </p:xfrm>
        <a:graphic>
          <a:graphicData uri="http://schemas.openxmlformats.org/drawingml/2006/table">
            <a:tbl>
              <a:tblPr/>
              <a:tblGrid>
                <a:gridCol w="1790640"/>
                <a:gridCol w="6800760"/>
              </a:tblGrid>
              <a:tr h="36828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IE 471  </a:t>
                      </a:r>
                      <a:r>
                        <a:rPr b="1" i="1" lang="arn-CL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Design of Manufacturing Systems</a:t>
                      </a:r>
                      <a:r>
                        <a:rPr b="1" i="1" lang="en-US" sz="1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Times New Roman"/>
                        </a:rPr>
                        <a:t>     3(3,1,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og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nufacturing fundamentals and  </a:t>
                      </a:r>
                      <a:r>
                        <a:rPr b="0" lang="arn-C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tomation strategies; High volume manufacturing systems; Automated handling and storage systems;; Flexible manufacturing systems; Modeling of manufacturing system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requi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E 450, IE4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qui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xtbo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just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over, M.P.;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utomation, Production System, and Computer Integrated Manufacturing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Prentice 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 algn="just"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skin, R.G. &amp; Standridge, C.R.;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Modeling and Analysis of Manufacturing System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John Wiley &amp; Son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ryssolouris, G., “Manufacturing Systems, Theory and Practice”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rshwin, S. B. “Manufacturing Systems Engineering”,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Objectiv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 provide understanding and awareness about manufacturing systems automation and technologies: Also to give the knowledge for the design of various manufacturing systems and analyzing their perform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8153-254D-4430-9650-EFCD4A94F7F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6 course description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وصف ا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90440" y="1479600"/>
          <a:ext cx="8648640" cy="3686040"/>
        </p:xfrm>
        <a:graphic>
          <a:graphicData uri="http://schemas.openxmlformats.org/drawingml/2006/table">
            <a:tbl>
              <a:tblPr/>
              <a:tblGrid>
                <a:gridCol w="2224080"/>
                <a:gridCol w="424080"/>
                <a:gridCol w="6000480"/>
              </a:tblGrid>
              <a:tr h="39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boratory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ject wo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se studies are given to design and analyze manufacturing system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 Us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uter use covers course top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rning outco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recognize the manufacturing system automation and technologies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,c,e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bility to Model manufacturing system and analyze its performance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a,c,e,i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bility to design manufacturing system 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[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c,j,k</a:t>
                      </a:r>
                      <a:r>
                        <a:rPr b="1" i="1" lang="ar-EG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r" pos="236232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n-C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ability  to work within team during case studies</a:t>
                      </a:r>
                      <a:r>
                        <a:rPr b="1" i="1" lang="arn-C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[f,g,k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39D1-59D1-4120-954B-C969FC5D3E0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152280" y="1219320"/>
            <a:ext cx="883944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troduction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1) Concept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Mfg System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فاهيم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urpose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غرض م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Brief History of 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بذة تاريخية ع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Input/Output Models of Mfg System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ماذج نظ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Types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نماط نظ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ion Principles for Mfg Syste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س الأتمتة لنظم التصنيع</a:t>
            </a:r>
            <a:r>
              <a:rPr b="1" lang="ar-SA" sz="2200" spc="-1" strike="noStrike">
                <a:solidFill>
                  <a:srgbClr val="ff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undament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س تحليل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rinciples of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أساسيات قوانين 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cision Framework for Mfg System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هيكلية القرار ل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odel of measurable Parameter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نماذج الرياضية لوحدات قياس الأداء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71640" indent="-51444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Design Problems of Mfg System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سائل التصميم لنظام التصنيع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Course Detail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صف تفصيلي للمقرر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9038-E57C-4B48-806D-FE5939A2558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152280" y="1104840"/>
            <a:ext cx="8839440" cy="55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Modeling of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مذجة نظم التصن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nalytical Model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نمذجة التحليلي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Simulation Model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نمذجة المحاكاة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ٍ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ed Handling and Storage Syste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مناولة والتخزي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الأوتوماتي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400" spc="-1" strike="noStrike">
                <a:solidFill>
                  <a:srgbClr val="3333cc"/>
                </a:solidFill>
                <a:latin typeface="Times New Roman"/>
                <a:cs typeface="Simplified Arabic"/>
              </a:rPr>
              <a:t>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Handling System (conveyer and AGV) Analysi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مناولة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82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ed Retrievals/Storage System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خزين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low /Mass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صنيع المستمر/الكبي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onents and Technology of the System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كونات وتقنية النظام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erformance Analysis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تحليل أداء خط الإنتاج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Automated Assembly Systems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جميع الأوتوماتى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5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Flexible Mfg Systems </a:t>
            </a:r>
            <a:r>
              <a:rPr b="1" lang="ar-SA" sz="24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نظم التصنيع المرن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Components and Design Concepts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مكونات ومفاهيم التصميم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85000"/>
              </a:lnSpc>
              <a:spcBef>
                <a:spcPts val="41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Planning [Strategic, Tactical, Operational]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ea typeface="Simplified Arabic"/>
              </a:rPr>
              <a:t> </a:t>
            </a:r>
            <a:r>
              <a:rPr b="1" lang="ar-SA" sz="2200" spc="-1" strike="noStrike">
                <a:solidFill>
                  <a:srgbClr val="cc0066"/>
                </a:solidFill>
                <a:latin typeface="Times New Roman"/>
                <a:cs typeface="Simplified Arabic"/>
              </a:rPr>
              <a:t>التخطيط</a:t>
            </a:r>
            <a:r>
              <a:rPr b="1" lang="ar-SA" sz="2200" spc="-1" strike="noStrike">
                <a:solidFill>
                  <a:srgbClr val="000000"/>
                </a:solidFill>
                <a:latin typeface="Times New Roman"/>
                <a:ea typeface="Simplified Arabic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53316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Course Detail </a:t>
            </a:r>
            <a:r>
              <a:rPr b="1" lang="ar-SA" sz="32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وصف تفصيلي ل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4597-2BC9-4751-A065-131286261B2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533520" y="1440000"/>
            <a:ext cx="807696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rm case stud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se 1: Reading ass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se 2: Selected extended problem for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ase 3: Problem for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uiz’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3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1: Covers concepts, fundamental, and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2: Covers Automated Handling and Storag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uiz 3: Covers flexible and flow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 Exa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5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324840" cy="68580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Simplified Arabic"/>
                <a:ea typeface="Simplified Arabic"/>
              </a:rPr>
              <a:t>Grading </a:t>
            </a:r>
            <a:r>
              <a:rPr b="1" lang="ar-SA" sz="3600" spc="-1" strike="noStrike">
                <a:solidFill>
                  <a:srgbClr val="000000"/>
                </a:solidFill>
                <a:latin typeface="Simplified Arabic"/>
                <a:cs typeface="Simplified Arabic"/>
              </a:rPr>
              <a:t>الدرجا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41C2-47F0-4F5B-ACFB-045D298EDD3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solidFill>
            <a:srgbClr val="ffffcc"/>
          </a:solidFill>
          <a:ln w="5724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-6 Course Schedule  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جدولة المقر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6" descr=""/>
          <p:cNvPicPr/>
          <p:nvPr/>
        </p:nvPicPr>
        <p:blipFill>
          <a:blip r:embed="rId1"/>
          <a:stretch/>
        </p:blipFill>
        <p:spPr>
          <a:xfrm>
            <a:off x="1009800" y="1452600"/>
            <a:ext cx="59814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3T14:00:30Z</dcterms:created>
  <dc:creator>DR.ABDULAZIZ M. AL-TAMIMI</dc:creator>
  <dc:description/>
  <dc:language>en-US</dc:language>
  <cp:lastModifiedBy>emad</cp:lastModifiedBy>
  <dcterms:modified xsi:type="dcterms:W3CDTF">2010-09-29T04:26:26Z</dcterms:modified>
  <cp:revision>64</cp:revision>
  <dc:subject/>
  <dc:title>عرض تقديمي من PowerPoint</dc:title>
</cp:coreProperties>
</file>