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EB8-4860-43CB-98C3-1E7ED575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DDA-F686-4FF5-AB77-ABBCCF40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E9B-E88E-45A3-9DEA-9596B973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4F1-9BCB-4139-BEDF-3ED0373E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0C2E9-8EDA-4E25-A6B2-5352C98A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9E78A-46CB-4677-B526-B3FBEAF8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23F6F-281E-4317-B064-C25A7DD1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B2315-D47E-40A1-989C-9EC6F283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E877F-F72F-49F1-8943-E7742B11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BA68F-FC83-46A3-9781-2FB11DF6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4F535-0060-4884-8A1C-D86626B5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F943-1C28-45BD-B0A7-0536D861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2795E-370E-413A-B532-F152E970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B9884-A3F5-4A86-9C75-8AD83EC9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DE6A9-A6D0-48BC-9745-CA7D93FC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A6199-E816-41E4-96AF-25C6D614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4ED68-7B73-4FDB-959E-C9695D5B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CDB-EF49-4BBE-9E9E-2B007BAB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D3C7-1B3A-4E7B-8964-9A998DEF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A9A-B92F-4003-917B-8D468BFC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FB8-FF65-4210-B5F5-40860B6D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8C61-2CF9-4258-9CCF-242E1A6E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328-D7D9-4383-BEC6-3588D4B7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DCC-1F94-4A6A-90E7-F8BAD984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60C4-471C-49DA-98EE-21D155E51AF2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1E0E-CE24-4743-AEB8-D3FE8F00673A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rforming the Assess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ucting the inter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tory: personal and familial of risk behav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y means and plans the client may have about carrying out the risk behav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s:  internal and external that are stopping the client from undertaking the risk behavi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ervations during the inter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vel of anxiety; desperation; despair; sense of hopelessness; contact with real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kill and technique most essential at this stage is that of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cus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hile allowing the client to ventilate and express the overwhelming flood of emo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using technique can elicit more coherent information for assessment as well as help the client pull themselves together cognitively and emotional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focused interview can serve as an instrument of both assessment and interven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erventio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ning occurs simultaneously as assessment is made about how much time has elapsed between the occurrence of the stressor event and this initial intervie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uch the crisis has interrupted the person’s lif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ffect of this disruption on others in the famil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vel of functioning prior to crisis and what resources can be mobiliz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oal of intervention is to restore the person to pre-crisis level of equilibrium, not of personality chan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er attempts to mobilize the client’s internal and external resour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ct nature of the intervention will depend on the client’s pre-existing strengths and supports and the worker’s level of creativity and flexibili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ree Approach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fectiv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ression and management of feelings involving techniques of ventilation; psychological support; emotional cathars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gnitiv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lping the client understand the connections between the stressor event and their response.  Techniques include clarifying the problem; identifying and isolating the factors involved; helping the client gain an intellectual understanding of the cri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so involves giving information; discussing alternative coping strategies and changing percept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vironmental modific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lling together needed external, environmental resources (either familial or formal helping agenci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and all three approaches may be used at any time depending where the client is, emotionally and cognitive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oal is to help the client restore pre-crisis levels of functio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rning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ger of misunderstanding the client’s nonverbal behavior as well as spoken words due to cultural differences or the client’s state of disorganiz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erative for the worker not to assume that they understand what the client means by his spoken word or non-verbal behavior and vice ver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best to clarify and make s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mmary: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risis is a disturbance resulting from a perceived threat that challenges the person's usual coping mechanisms. Crises are a time of increased vulnerability, but they can also stimulate growth. There are two types of crises: maturational and situation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sis intervention is a brief, active therapy with the goal of returning the individual to a precrisis level of function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assessing a patient the nurse should identify the patient's behaviors, precipitating event, perception of the event, support systems and coping resource, and previous strengths and coping mechanis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xpected outcome of nursing care is that the patient will recover from the crisis event and return to a precrisis level of functioning. Levels of crisis intervention include environmental manipulation, general support, generic approach, and individual approach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urse and patient should consider the following factors in evaluating nursing care: the patient's level of functioning, symptoms, coping resources, coping mechanisms, evidence of adaptive coping responses, and need for referral for further treatmen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sis intervention can be implemented in any setting, including hospitals, clinics, community health centers, and the home. It should be a competency skill of all nurs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alities of crisis intervention include mobile crisis programs, group work, telephone contacts ,disaster response, victim outreach programs, and health educat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finitio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ris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sis is a perception or experiencing of an event or situation as an intolerable difficulty that exceeds the person’s current resources and coping mechanis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James &amp; Gilliland, 200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risis Interven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sis intervention is emergency first aid for mental health &amp; domestic violence. It requires that the person experiencing the crisis receive timely and skillful support to help cope with his/her situation before physical or emotional deterioration occu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sis intervention therefore involves three major componen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ctual crisis – victim’s perception of an unmanageable situatio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ndividual in crisis, 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elper who provides ai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tressful event alone does not constitute a crisis; rather, crisis is determined by the individual’s view of the event and response to it. (Smead, 1988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racteristics of a Cri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 limited: Generally lasting no more than six wee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phas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ditional attempt to problem sol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mpts to try alternative meth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organ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are more open to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portunity to resolve previously unresolved iss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ccessful experie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8458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risis Interven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 is to stabilize the family situation and restore to their pre-crisis level of functio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portunity to develop new ways of perceiving, coping, and problem-solv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ntervention is time limited and fast pac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er must take an active and directive approa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ces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ve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in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ment includes: the stressor event; the person experiencing the crisis; and the meaning of the event to the person in cri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ant to assess risk fact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isk Facto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icide or homic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k of physical or emotional harm to the child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k of break from reality (psychos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k of client fleeing the sit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33:20Z</dcterms:created>
  <dc:creator>RMejia</dc:creator>
  <dc:description/>
  <dc:language>en-US</dc:language>
  <cp:lastModifiedBy>Mastour</cp:lastModifiedBy>
  <dcterms:modified xsi:type="dcterms:W3CDTF">2009-03-25T22:27:08Z</dcterms:modified>
  <cp:revision>4</cp:revision>
  <dc:subject/>
  <dc:title>Crisis Intervention</dc:title>
</cp:coreProperties>
</file>