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7DC-2811-45A7-ABD9-53C10AAF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20E5-4B1D-4D90-A5CC-FF561C85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8E2-44E2-4B4D-A0F9-B14998EB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4EAB-C3D0-4039-A439-E7EFF82D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00F10-89BF-4C28-AAEE-C784815F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C8322-2119-4A89-B759-67A0C67E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08FBB-C6B2-4991-9183-2980BEA4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08155-2DE0-4FC5-B15F-EEDA9B11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BC6A8-FA0E-4BF1-836E-10082506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1E110-FF63-4744-B28A-3B2905AF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F304D-C591-4F4A-852E-A73A2970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853-6773-4652-821F-A410F98F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7F910-81AF-48DC-AA39-EB558A1D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51650-1AA0-4B2E-8F55-82246678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C7515-6216-49DC-AD84-7BCD999C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A8AC1-E148-46EA-A8A2-D2396751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31543-9E84-4F99-9FE5-83F24591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640B-0417-465D-9898-B9C98E91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1AA9-90C7-4D3C-BB46-4411E136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B99-C5B7-41FA-9D6C-B2263D5D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558E-B65B-465E-A039-2901FE6A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C5FB-5E88-4C29-BCA5-6DAE8CEC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FBBA-E4B2-4D6F-9F43-9650590F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2DC-3629-415E-AED0-D2DA55A4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628B-F4F0-48A3-86F2-E97F3A4DAEC3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3F2F-1BF0-4BA2-8FFC-27BCEC6E2A17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rforming the Assess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ucting the inter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tory: personal and familial of risk behav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y means and plans the client may have about carrying out the risk behav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s:  internal and external that are stopping the client from undertaking the risk behavi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ervations during the inter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vel of anxiety; desperation; despair; sense of hopelessness; contact with real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kill and technique most essential at this stage is that of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cus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hile allowing the client to ventilate and express the overwhelming flood of emo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using technique can elicit more coherent information for assessment as well as help the client pull themselves together cognitively and emotional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focused interview can serve as an instrument of both assessment and interven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erventio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ning occurs simultaneously as assessment is made about how much time has elapsed between the occurrence of the stressor event and this initial intervie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uch the crisis has interrupted the person’s lif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ffect of this disruption on others in the famil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vel of functioning prior to crisis and what resources can be mobiliz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oal of intervention is to restore the person to pre-crisis level of equilibrium, not of personality chan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er attempts to mobilize the client’s internal and external resour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ct nature of the intervention will depend on the client’s pre-existing strengths and supports and the worker’s level of creativity and flexibili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ree Approach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fectiv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ression and management of feelings involving techniques of ventilation; psychological support; emotional cathars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gnitiv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lping the client understand the connections between the stressor event and their response.  Techniques include clarifying the problem; identifying and isolating the factors involved; helping the client gain an intellectual understanding of the cri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so involves giving information; discussing alternative coping strategies and changing percept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vironmental modific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lling together needed external, environmental resources (either familial or formal helping agenci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and all three approaches may be used at any time depending where the client is, emotionally and cognitive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oal is to help the client restore pre-crisis levels of functio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rning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ger of misunderstanding the client’s nonverbal behavior as well as spoken words due to cultural differences or the client’s state of disorganiz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erative for the worker not to assume that they understand what the client means by his spoken word or non-verbal behavior and vice ver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best to clarify and make s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mmary: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risis is a disturbance resulting from a perceived threat that challenges the person's usual coping mechanisms. Crises are a time of increased vulnerability, but they can also stimulate growth. There are two types of crises: maturational and situation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sis intervention is a brief, active therapy with the goal of returning the individual to a precrisis level of function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assessing a patient the nurse should identify the patient's behaviors, precipitating event, perception of the event, support systems and coping resource, and previous strengths and coping mechanis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xpected outcome of nursing care is that the patient will recover from the crisis event and return to a precrisis level of functioning. Levels of crisis intervention include environmental manipulation, general support, generic approach, and individual approach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urse and patient should consider the following factors in evaluating nursing care: the patient's level of functioning, symptoms, coping resources, coping mechanisms, evidence of adaptive coping responses, and need for referral for further treatmen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sis intervention can be implemented in any setting, including hospitals, clinics, community health centers, and the home. It should be a competency skill of all nurs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alities of crisis intervention include mobile crisis programs, group work, telephone contacts ,disaster response, victim outreach programs, and health educat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finitio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ris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sis is a perception or experiencing of an event or situation as an intolerable difficulty that exceeds the person’s current resources and coping mechanis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James &amp; Gilliland, 200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risis Interven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sis intervention is emergency first aid for mental health &amp; domestic violence. It requires that the person experiencing the crisis receive timely and skillful support to help cope with his/her situation before physical or emotional deterioration occu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sis intervention therefore involves three major componen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ctual crisis – victim’s perception of an unmanageable situatio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ndividual in crisis, 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elper who provides ai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tressful event alone does not constitute a crisis; rather, crisis is determined by the individual’s view of the event and response to it. (Smead, 1988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racteristics of a Cri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 limited: Generally lasting no more than six wee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phas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ditional attempt to problem sol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mpts to try alternative meth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organ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are more open to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portunity to resolve previously unresolved iss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ccessful experie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8458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risis Interven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 is to stabilize the family situation and restore to their pre-crisis level of functio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portunity to develop new ways of perceiving, coping, and problem-solv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ntervention is time limited and fast pac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er must take an active and directive approa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ces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ve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in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ment includes: the stressor event; the person experiencing the crisis; and the meaning of the event to the person in cri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ant to assess risk fact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isk Facto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icide or homic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k of physical or emotional harm to the child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k of break from reality (psychos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k of client fleeing the sit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33:20Z</dcterms:created>
  <dc:creator>RMejia</dc:creator>
  <dc:description/>
  <dc:language>en-US</dc:language>
  <cp:lastModifiedBy>Mastour</cp:lastModifiedBy>
  <dcterms:modified xsi:type="dcterms:W3CDTF">2009-03-25T22:27:08Z</dcterms:modified>
  <cp:revision>4</cp:revision>
  <dc:subject/>
  <dc:title>Crisis Intervention</dc:title>
</cp:coreProperties>
</file>