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40.png" ContentType="image/png"/>
  <Override PartName="/ppt/media/image32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28.png" ContentType="image/png"/>
  <Override PartName="/ppt/media/image31.jpeg" ContentType="image/jpeg"/>
  <Override PartName="/ppt/media/image39.png" ContentType="image/png"/>
  <Override PartName="/ppt/media/image41.jpeg" ContentType="image/jpeg"/>
  <Override PartName="/ppt/media/image9.jpeg" ContentType="image/jpeg"/>
  <Override PartName="/ppt/media/image11.png" ContentType="image/png"/>
  <Override PartName="/ppt/media/image36.png" ContentType="image/png"/>
  <Override PartName="/ppt/media/image6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1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F5E5-6923-461A-BE58-7F79FF175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5546-D3A6-422B-9AF7-B4DF3B4AC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8BAC-3292-48CB-A9FC-C50ED866A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3921-C0E9-4632-95F2-9F50C0FE0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C487-729C-49D1-8332-009E08D25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3A07-173C-46DC-BF99-A8135717B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B0B1-05B3-4819-BF48-25F1D80B1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C907-A1C4-40DC-B4E7-332116E03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03B6-9AA3-46CE-8CDE-1492AED81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22FE-27CB-4C12-86FB-78CC67F0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EDAD-CEFB-44D9-A95D-24E6AC1F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4257-EB8A-448D-8BF9-7EC7BF66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7F788-BFFE-4B06-8F88-2C69E3BADCD8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0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hyperlink" Target="http://gemologyproject.com/wiki/images/9/9b/Skull-melting2.jpg" TargetMode="External"/><Relationship Id="rId3" Type="http://schemas.openxmlformats.org/officeDocument/2006/relationships/image" Target="../media/image26.jpeg"/><Relationship Id="rId4" Type="http://schemas.openxmlformats.org/officeDocument/2006/relationships/hyperlink" Target="http://gemologyproject.com/wiki/images/e/e4/Cubic_Zirconia_Run_Opening.jpg" TargetMode="External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800" spc="-1" strike="noStrike">
                <a:solidFill>
                  <a:srgbClr val="000000"/>
                </a:solidFill>
                <a:latin typeface="Calibri"/>
              </a:rPr>
              <a:t>Adventures in Crystal Growt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904760"/>
            <a:ext cx="6400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898989"/>
                </a:solidFill>
                <a:latin typeface="Calibri"/>
              </a:rPr>
              <a:t>1/20/2011   NRC Canadian Neutron Beam Centre Semina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ttp://blog.makezine.com/2272827367_c16161a2aa.jpg"/>
          <p:cNvPicPr/>
          <p:nvPr/>
        </p:nvPicPr>
        <p:blipFill>
          <a:blip r:embed="rId1"/>
          <a:stretch/>
        </p:blipFill>
        <p:spPr>
          <a:xfrm>
            <a:off x="4876920" y="297180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ttp://www.physics.mcmaster.ca/brucegaulingroup/images/facilities/crystal.jpg"/>
          <p:cNvPicPr/>
          <p:nvPr/>
        </p:nvPicPr>
        <p:blipFill>
          <a:blip r:embed="rId2"/>
          <a:stretch/>
        </p:blipFill>
        <p:spPr>
          <a:xfrm>
            <a:off x="228600" y="3124080"/>
            <a:ext cx="4114800" cy="27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Crystal Growth from Sol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Simplest case:  aqueous solu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Needs: water-soluble, low temperature reac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Increased temps by applying pressure: “hydrothermal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Organic solvent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More general: flux grow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Effect: by adding flux to material</a:t>
            </a:r>
            <a:br>
              <a:rPr sz="2600"/>
            </a:b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of interest, melting point is</a:t>
            </a:r>
            <a:br>
              <a:rPr sz="2600"/>
            </a:b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lowe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e.g. “eutectic,” “peritectic” poi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Heat until liquid state achieved,</a:t>
            </a:r>
            <a:br>
              <a:rPr sz="2600"/>
            </a:b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then cool very slowl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Goal:  desired material precipitates out (better if homogeneous!), excess flux separated o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http://t3.gstatic.com/images?q=tbn:ANd9GcTHhWZPyrlYFjh14CY8odfIh5Kaqsr0BLHd6A3qum1nm0bx12k3-A"/>
          <p:cNvPicPr/>
          <p:nvPr/>
        </p:nvPicPr>
        <p:blipFill>
          <a:blip r:embed="rId1"/>
          <a:stretch/>
        </p:blipFill>
        <p:spPr>
          <a:xfrm>
            <a:off x="5715000" y="2971800"/>
            <a:ext cx="3429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Flux met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21932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ssemble stoichiometric quantities of desired materials, mix thorough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Choose an appropriate flu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How much? (refer to phase diagrams, if available!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Put sample materials + flux in cruci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pecial choice of atmosphe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Heat to liquid st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Cool </a:t>
            </a:r>
            <a:r>
              <a:rPr b="0" i="1" lang="en-CA" sz="3200" spc="-1" strike="noStrike">
                <a:solidFill>
                  <a:srgbClr val="000000"/>
                </a:solidFill>
                <a:latin typeface="Calibri"/>
              </a:rPr>
              <a:t>very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slow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eparate precipitated sample from flu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Flux Met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09120" y="7621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Choice of flux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Readily dissolves sample materi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Lowers melting point into achievable ran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High boiling point, “low” vapor press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Dissolves sample homogeneously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Commercially available, minimal hazar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Separates from sample material on cool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Typical choices: Ga, In, Sn, Pb, Sb, Bi, low melting halides or oxi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CA" sz="1500" spc="-1" strike="noStrike">
                <a:solidFill>
                  <a:srgbClr val="000000"/>
                </a:solidFill>
                <a:latin typeface="Calibri"/>
              </a:rPr>
              <a:t>Self flux” also commonly used!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Choice of crucib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Very high melting poi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Does not react with samp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Does not react with flu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Typical choices: Al</a:t>
            </a:r>
            <a:r>
              <a:rPr b="0" lang="en-CA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CA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, ZrO</a:t>
            </a:r>
            <a:r>
              <a:rPr b="0" lang="en-CA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, ThO</a:t>
            </a:r>
            <a:r>
              <a:rPr b="0" lang="en-CA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, Pt, Ta, N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Choice of environment / atmosp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What temperatur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What cooling rat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Can it be done in air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If not, seal sample/flux/crucible in quartz tube with desired atmosp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Calibri"/>
              </a:rPr>
              <a:t>Inert?  Reducing?  Oxidizing?  Vacuum?  What pressure?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Flux Met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28600" y="1219320"/>
            <a:ext cx="87631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Advantag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Very good for alloys / intermetallic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Calibri"/>
              </a:rPr>
              <a:t>Including FeAs-based superconductors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Low stress/strai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Good choice of flux lowers required temperat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Reduced need for specialized equip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Disadvantag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Need for extended temperature contr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Usually get many small crystals – poor nucleation contr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Must be able to find suitable flux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Must be able to find suitable crucib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Must remove excess flux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1857240" cy="2590920"/>
          </a:xfrm>
          <a:prstGeom prst="rect">
            <a:avLst/>
          </a:prstGeom>
          <a:ln w="0">
            <a:noFill/>
          </a:ln>
        </p:spPr>
      </p:pic>
      <p:cxnSp>
        <p:nvCxnSpPr>
          <p:cNvPr id="84" name="Straight Arrow Connector 6"/>
          <p:cNvCxnSpPr/>
          <p:nvPr/>
        </p:nvCxnSpPr>
        <p:spPr>
          <a:xfrm flipH="1">
            <a:off x="2209320" y="228600"/>
            <a:ext cx="274392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5" name="Straight Arrow Connector 8"/>
          <p:cNvCxnSpPr>
            <a:stCxn id="86" idx="1"/>
          </p:cNvCxnSpPr>
          <p:nvPr/>
        </p:nvCxnSpPr>
        <p:spPr>
          <a:xfrm flipH="1" flipV="1">
            <a:off x="1980720" y="1294920"/>
            <a:ext cx="3277440" cy="185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7" name="Straight Arrow Connector 10"/>
          <p:cNvCxnSpPr/>
          <p:nvPr/>
        </p:nvCxnSpPr>
        <p:spPr>
          <a:xfrm flipH="1">
            <a:off x="1599480" y="762120"/>
            <a:ext cx="3353400" cy="381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8" name="Straight Arrow Connector 12"/>
          <p:cNvCxnSpPr/>
          <p:nvPr/>
        </p:nvCxnSpPr>
        <p:spPr>
          <a:xfrm flipH="1" flipV="1">
            <a:off x="1751760" y="2133000"/>
            <a:ext cx="3048840" cy="229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9" name="TextBox 13"/>
          <p:cNvSpPr/>
          <p:nvPr/>
        </p:nvSpPr>
        <p:spPr>
          <a:xfrm>
            <a:off x="5193360" y="0"/>
            <a:ext cx="238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Sealed quartz contai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4"/>
          <p:cNvSpPr/>
          <p:nvPr/>
        </p:nvSpPr>
        <p:spPr>
          <a:xfrm>
            <a:off x="5265000" y="129528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Cruci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5"/>
          <p:cNvSpPr/>
          <p:nvPr/>
        </p:nvSpPr>
        <p:spPr>
          <a:xfrm>
            <a:off x="5029200" y="60948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Quartz w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6"/>
          <p:cNvSpPr/>
          <p:nvPr/>
        </p:nvSpPr>
        <p:spPr>
          <a:xfrm>
            <a:off x="4885200" y="2133720"/>
            <a:ext cx="14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Sample + Fl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2819520" y="4191120"/>
            <a:ext cx="3643200" cy="2435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3"/>
          <a:stretch/>
        </p:blipFill>
        <p:spPr>
          <a:xfrm>
            <a:off x="3200400" y="2819520"/>
            <a:ext cx="990720" cy="1463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4"/>
          <a:stretch/>
        </p:blipFill>
        <p:spPr>
          <a:xfrm>
            <a:off x="1371600" y="4267080"/>
            <a:ext cx="1038240" cy="1447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"/>
          <p:cNvPicPr/>
          <p:nvPr/>
        </p:nvPicPr>
        <p:blipFill>
          <a:blip r:embed="rId5"/>
          <a:stretch/>
        </p:blipFill>
        <p:spPr>
          <a:xfrm>
            <a:off x="4495680" y="2971800"/>
            <a:ext cx="1022400" cy="15098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"/>
          <p:cNvPicPr/>
          <p:nvPr/>
        </p:nvPicPr>
        <p:blipFill>
          <a:blip r:embed="rId6"/>
          <a:stretch/>
        </p:blipFill>
        <p:spPr>
          <a:xfrm>
            <a:off x="5715000" y="3200400"/>
            <a:ext cx="1022400" cy="1509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"/>
          <p:cNvPicPr/>
          <p:nvPr/>
        </p:nvPicPr>
        <p:blipFill>
          <a:blip r:embed="rId7"/>
          <a:stretch/>
        </p:blipFill>
        <p:spPr>
          <a:xfrm>
            <a:off x="7391520" y="3276720"/>
            <a:ext cx="1366560" cy="1218960"/>
          </a:xfrm>
          <a:prstGeom prst="rect">
            <a:avLst/>
          </a:prstGeom>
          <a:ln w="0">
            <a:noFill/>
          </a:ln>
        </p:spPr>
      </p:pic>
      <p:cxnSp>
        <p:nvCxnSpPr>
          <p:cNvPr id="98" name="Straight Arrow Connector 28"/>
          <p:cNvCxnSpPr/>
          <p:nvPr/>
        </p:nvCxnSpPr>
        <p:spPr>
          <a:xfrm>
            <a:off x="2409840" y="4991040"/>
            <a:ext cx="867600" cy="87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30"/>
          <p:cNvCxnSpPr/>
          <p:nvPr/>
        </p:nvCxnSpPr>
        <p:spPr>
          <a:xfrm>
            <a:off x="3694680" y="4282560"/>
            <a:ext cx="191160" cy="21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32"/>
          <p:cNvCxnSpPr/>
          <p:nvPr/>
        </p:nvCxnSpPr>
        <p:spPr>
          <a:xfrm flipH="1">
            <a:off x="4723560" y="4481640"/>
            <a:ext cx="283320" cy="396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Straight Arrow Connector 34"/>
          <p:cNvCxnSpPr/>
          <p:nvPr/>
        </p:nvCxnSpPr>
        <p:spPr>
          <a:xfrm flipH="1">
            <a:off x="5409360" y="4710240"/>
            <a:ext cx="816840" cy="319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2" name="Straight Arrow Connector 36"/>
          <p:cNvCxnSpPr/>
          <p:nvPr/>
        </p:nvCxnSpPr>
        <p:spPr>
          <a:xfrm flipH="1">
            <a:off x="6247800" y="4038120"/>
            <a:ext cx="1143720" cy="1753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3" name="Straight Arrow Connector 41"/>
          <p:cNvCxnSpPr>
            <a:stCxn id="86" idx="1"/>
          </p:cNvCxnSpPr>
          <p:nvPr/>
        </p:nvCxnSpPr>
        <p:spPr>
          <a:xfrm flipH="1">
            <a:off x="1980720" y="1479600"/>
            <a:ext cx="3277440" cy="426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104" name="Picture 7" descr=""/>
          <p:cNvPicPr/>
          <p:nvPr/>
        </p:nvPicPr>
        <p:blipFill>
          <a:blip r:embed="rId8"/>
          <a:stretch/>
        </p:blipFill>
        <p:spPr>
          <a:xfrm>
            <a:off x="5715000" y="3200400"/>
            <a:ext cx="1054080" cy="15145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46"/>
          <p:cNvSpPr/>
          <p:nvPr/>
        </p:nvSpPr>
        <p:spPr>
          <a:xfrm>
            <a:off x="3505320" y="4419720"/>
            <a:ext cx="533160" cy="1600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7"/>
          <p:cNvSpPr/>
          <p:nvPr/>
        </p:nvSpPr>
        <p:spPr>
          <a:xfrm>
            <a:off x="4038480" y="4495680"/>
            <a:ext cx="1067040" cy="1600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8"/>
          <p:cNvSpPr/>
          <p:nvPr/>
        </p:nvSpPr>
        <p:spPr>
          <a:xfrm>
            <a:off x="5105520" y="4800600"/>
            <a:ext cx="380880" cy="1295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9"/>
          <p:cNvSpPr/>
          <p:nvPr/>
        </p:nvSpPr>
        <p:spPr>
          <a:xfrm>
            <a:off x="5486400" y="5105520"/>
            <a:ext cx="91440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" descr=""/>
          <p:cNvPicPr/>
          <p:nvPr/>
        </p:nvPicPr>
        <p:blipFill>
          <a:blip r:embed="rId9"/>
          <a:stretch/>
        </p:blipFill>
        <p:spPr>
          <a:xfrm>
            <a:off x="7848720" y="152280"/>
            <a:ext cx="685800" cy="3029040"/>
          </a:xfrm>
          <a:prstGeom prst="rect">
            <a:avLst/>
          </a:prstGeom>
          <a:ln w="0">
            <a:noFill/>
          </a:ln>
        </p:spPr>
      </p:pic>
      <p:pic>
        <p:nvPicPr>
          <p:cNvPr id="110" name="TextBox 29" descr=""/>
          <p:cNvPicPr/>
          <p:nvPr/>
        </p:nvPicPr>
        <p:blipFill>
          <a:blip r:embed="rId10"/>
          <a:stretch/>
        </p:blipFill>
        <p:spPr>
          <a:xfrm>
            <a:off x="8547120" y="92160"/>
            <a:ext cx="341280" cy="2249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"/>
          <p:cNvPicPr/>
          <p:nvPr/>
        </p:nvPicPr>
        <p:blipFill>
          <a:blip r:embed="rId11"/>
          <a:stretch/>
        </p:blipFill>
        <p:spPr>
          <a:xfrm>
            <a:off x="3733920" y="2362320"/>
            <a:ext cx="2361960" cy="37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6" dur="3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3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6" dur="3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3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6" dur="3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3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10800000">
                                      <p:cBhvr>
                                        <p:cTn id="48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0" dur="3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3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Crystal Growth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1.  Growth from s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Idea: 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homogeneous soln -&gt; solid xtals + solv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3200" spc="-1" strike="noStrike">
                <a:solidFill>
                  <a:srgbClr val="ff0000"/>
                </a:solidFill>
                <a:latin typeface="Calibri"/>
              </a:rPr>
              <a:t>2.  Growth from gas (vapor) ph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800" spc="-1" strike="noStrike">
                <a:solidFill>
                  <a:srgbClr val="ff0000"/>
                </a:solidFill>
                <a:latin typeface="Calibri"/>
              </a:rPr>
              <a:t>Idea:</a:t>
            </a:r>
            <a:br>
              <a:rPr sz="2800"/>
            </a:br>
            <a:r>
              <a:rPr b="1" i="1" lang="en-CA" sz="2800" spc="-1" strike="noStrike">
                <a:solidFill>
                  <a:srgbClr val="ff0000"/>
                </a:solidFill>
                <a:latin typeface="Calibri"/>
              </a:rPr>
              <a:t>Evaporate powder, deposit vapor onto see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3.  Growth from liquid (melt) ph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Idea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Melt polyxtals of desired materials, slowly co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Crystal Growth from Vapor Ph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523880"/>
            <a:ext cx="82296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ubli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Chemical Vapor Trans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Pulsed Laser De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Metal-Organic Chemical Vapor De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1" descr=""/>
          <p:cNvPicPr/>
          <p:nvPr/>
        </p:nvPicPr>
        <p:blipFill>
          <a:blip r:embed="rId1"/>
          <a:stretch/>
        </p:blipFill>
        <p:spPr>
          <a:xfrm>
            <a:off x="2514600" y="3962520"/>
            <a:ext cx="4657680" cy="2670120"/>
          </a:xfrm>
          <a:prstGeom prst="rect">
            <a:avLst/>
          </a:prstGeom>
          <a:ln w="0">
            <a:noFill/>
          </a:ln>
        </p:spPr>
      </p:pic>
      <p:cxnSp>
        <p:nvCxnSpPr>
          <p:cNvPr id="117" name="Straight Arrow Connector 5"/>
          <p:cNvCxnSpPr/>
          <p:nvPr/>
        </p:nvCxnSpPr>
        <p:spPr>
          <a:xfrm>
            <a:off x="1676520" y="5638680"/>
            <a:ext cx="137232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7"/>
          <p:cNvCxnSpPr/>
          <p:nvPr/>
        </p:nvCxnSpPr>
        <p:spPr>
          <a:xfrm>
            <a:off x="1523880" y="4038120"/>
            <a:ext cx="991440" cy="229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9" name="Straight Arrow Connector 10"/>
          <p:cNvCxnSpPr/>
          <p:nvPr/>
        </p:nvCxnSpPr>
        <p:spPr>
          <a:xfrm flipH="1">
            <a:off x="5181120" y="4037400"/>
            <a:ext cx="2743920" cy="686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0" name="Straight Arrow Connector 12"/>
          <p:cNvCxnSpPr/>
          <p:nvPr/>
        </p:nvCxnSpPr>
        <p:spPr>
          <a:xfrm flipH="1" flipV="1">
            <a:off x="6323760" y="6095160"/>
            <a:ext cx="1296360" cy="381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1" name="TextBox 13"/>
          <p:cNvSpPr/>
          <p:nvPr/>
        </p:nvSpPr>
        <p:spPr>
          <a:xfrm>
            <a:off x="385920" y="38098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Contai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4"/>
          <p:cNvSpPr/>
          <p:nvPr/>
        </p:nvSpPr>
        <p:spPr>
          <a:xfrm>
            <a:off x="537120" y="5334120"/>
            <a:ext cx="96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Sta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5"/>
          <p:cNvSpPr/>
          <p:nvPr/>
        </p:nvSpPr>
        <p:spPr>
          <a:xfrm>
            <a:off x="8000280" y="380988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Vap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6"/>
          <p:cNvSpPr/>
          <p:nvPr/>
        </p:nvSpPr>
        <p:spPr>
          <a:xfrm>
            <a:off x="7620840" y="621180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Substrate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Seed Crys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2"/>
          <a:stretch/>
        </p:blipFill>
        <p:spPr>
          <a:xfrm>
            <a:off x="4132440" y="914400"/>
            <a:ext cx="501156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Crystal Growth from Vapor Ph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Useful for growing epitaxial thin film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Issu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Need high vapor pressure / ability to evapo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Need substrate/seed onto which to grow crystal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Often quite sl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Will vapor react with containe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Need for specialized equi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Crystal Growth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1.  Growth from s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Idea: 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homogeneous soln -&gt; solid xtals + solv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2.  Growth from gas (vapor) ph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Idea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Evaporate powder, deposit vapor onto see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3200" spc="-1" strike="noStrike">
                <a:solidFill>
                  <a:srgbClr val="ff0000"/>
                </a:solidFill>
                <a:latin typeface="Calibri"/>
              </a:rPr>
              <a:t>3.  Growth from liquid (melt) ph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800" spc="-1" strike="noStrike">
                <a:solidFill>
                  <a:srgbClr val="ff0000"/>
                </a:solidFill>
                <a:latin typeface="Calibri"/>
              </a:rPr>
              <a:t>Idea:</a:t>
            </a:r>
            <a:br>
              <a:rPr sz="2800"/>
            </a:br>
            <a:r>
              <a:rPr b="1" i="1" lang="en-CA" sz="2800" spc="-1" strike="noStrike">
                <a:solidFill>
                  <a:srgbClr val="ff0000"/>
                </a:solidFill>
                <a:latin typeface="Calibri"/>
              </a:rPr>
              <a:t>Melt polyxtals of desired materials, slowly co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Crystal Growth from Liquid (Melt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Idea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Prepare polycrystalline samp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Heat to above melting poi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Cool very slow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C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CA" sz="1800" spc="-1" strike="noStrike">
                <a:solidFill>
                  <a:srgbClr val="000000"/>
                </a:solidFill>
                <a:latin typeface="Calibri"/>
              </a:rPr>
              <a:t>***Lots of “tricks” to do this!***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Advantag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Can grow large crystals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Usually better control over nucle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Usually better control over shape of final produ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Good control over growth ra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Issu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Melting pt can be very high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Special atmosphere or vacuum needed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Xtals may grow with significant stress/stra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Does it evaporate too quickly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Will it react with crucible / container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May not grow at all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May grow different phase from expected!</a:t>
            </a:r>
            <a:br>
              <a:rPr sz="1800"/>
            </a:b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2" descr="http://images.bookbyte.com/isbn.aspx?isbn=9780471309321"/>
          <p:cNvPicPr/>
          <p:nvPr/>
        </p:nvPicPr>
        <p:blipFill>
          <a:blip r:embed="rId1"/>
          <a:stretch/>
        </p:blipFill>
        <p:spPr>
          <a:xfrm>
            <a:off x="6400800" y="1371600"/>
            <a:ext cx="228600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0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Why grow crystal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Crystal Growth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Crystal Growth from Liquid (Melt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Variety of techniques (“tricks”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Verneuil (“flame fusion”) ~early 1900’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Czochralski (“pulling”) ~1910’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Kyropoulos (“top seeding”) ~1920’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Bridgman (“directional solidification”) ~1940’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Skull Melting ~1970’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Laser-heated pedestal growth ~1990’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Micropulling ~1990’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Floating Zone (incl. image furnace) ~1990’s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Verneuil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657600" y="1143000"/>
            <a:ext cx="5105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First used ~1902-1910 for large-scale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sapphire / ruby growth (Al</a:t>
            </a:r>
            <a:r>
              <a:rPr b="0" lang="en-CA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CA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CA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 + Al</a:t>
            </a:r>
            <a:r>
              <a:rPr b="0" lang="en-CA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CA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 inl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CA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 + H</a:t>
            </a:r>
            <a:r>
              <a:rPr b="0" lang="en-CA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 mix and ignite, T &gt; 2000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Molten drops fall onto “pedestal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xtal forms &amp; grow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Example of Al</a:t>
            </a:r>
            <a:r>
              <a:rPr b="0" lang="en-CA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CA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 xtal (right en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3143520" cy="47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Czochralski met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876920" y="1219320"/>
            <a:ext cx="4038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Developed 1917, Jan Czochralsk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Start w/ seed xt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Dip seed into mel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Slowly raise seed as it rotat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Used for industrial 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SC’s:  Si, 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metals:  Pd, Pt, Ag, Au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Some sal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0" y="1447920"/>
            <a:ext cx="48783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Bridgman-Stockbarger met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8006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Bridgman, 1940’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Idea: use temperature gradient to influence direction of xtal grow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Requires 2-zone furnace, accurate position / temperature contr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Can grow some xtals with fewer impurities than Czochralsk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e.g. Ga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0" y="1600200"/>
            <a:ext cx="4562640" cy="3990960"/>
          </a:xfrm>
          <a:prstGeom prst="rect">
            <a:avLst/>
          </a:prstGeom>
          <a:ln w="0">
            <a:noFill/>
          </a:ln>
        </p:spPr>
      </p:pic>
      <p:cxnSp>
        <p:nvCxnSpPr>
          <p:cNvPr id="144" name="Straight Arrow Connector 14"/>
          <p:cNvCxnSpPr/>
          <p:nvPr/>
        </p:nvCxnSpPr>
        <p:spPr>
          <a:xfrm flipH="1">
            <a:off x="3885840" y="3428640"/>
            <a:ext cx="2160" cy="762840"/>
          </a:xfrm>
          <a:prstGeom prst="straightConnector1">
            <a:avLst/>
          </a:prstGeom>
          <a:ln w="73080">
            <a:solidFill>
              <a:srgbClr val="00b050"/>
            </a:solidFill>
            <a:miter/>
            <a:tailEnd len="med" type="triangle" w="med"/>
          </a:ln>
        </p:spPr>
      </p:cxnSp>
      <p:cxnSp>
        <p:nvCxnSpPr>
          <p:cNvPr id="145" name="Straight Arrow Connector 15"/>
          <p:cNvCxnSpPr/>
          <p:nvPr/>
        </p:nvCxnSpPr>
        <p:spPr>
          <a:xfrm flipH="1" flipV="1">
            <a:off x="228240" y="2894760"/>
            <a:ext cx="1829520" cy="2520"/>
          </a:xfrm>
          <a:prstGeom prst="straightConnector1">
            <a:avLst/>
          </a:prstGeom>
          <a:ln w="73080">
            <a:solidFill>
              <a:srgbClr val="00b050"/>
            </a:solidFill>
            <a:miter/>
            <a:tailEnd len="med" type="triangle" w="med"/>
          </a:ln>
        </p:spPr>
      </p:cxnSp>
      <p:sp>
        <p:nvSpPr>
          <p:cNvPr id="146" name="TextBox 16"/>
          <p:cNvSpPr/>
          <p:nvPr/>
        </p:nvSpPr>
        <p:spPr>
          <a:xfrm>
            <a:off x="2446560" y="3657600"/>
            <a:ext cx="14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4f6228"/>
                </a:solidFill>
                <a:latin typeface="Calibri"/>
              </a:rPr>
              <a:t>Bridg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7"/>
          <p:cNvSpPr/>
          <p:nvPr/>
        </p:nvSpPr>
        <p:spPr>
          <a:xfrm>
            <a:off x="460440" y="281952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4f6228"/>
                </a:solidFill>
                <a:latin typeface="Calibri"/>
              </a:rPr>
              <a:t>Stockbar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Skull Mel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4286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Idea:  MP too high for any cruci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Make sample act as own crucible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Make large cylinder of desired materi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Interior heated by RF indu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Cool exterior with flowing H</a:t>
            </a:r>
            <a:r>
              <a:rPr b="0" lang="en-CA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O in “fingers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Remove xtals from inside “skull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Very large samples!  ~kg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Typical use:  ZrO</a:t>
            </a:r>
            <a:r>
              <a:rPr b="0" lang="en-CA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380880" y="3962520"/>
            <a:ext cx="2995560" cy="2286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http://gemologyproject.com/wiki/images/thumb/9/9b/Skull-melting2.jpg/449px-Skull-melting2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920" y="228600"/>
            <a:ext cx="2666880" cy="3564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http://gemologyproject.com/wiki/images/thumb/e/e4/Cubic_Zirconia_Run_Opening.jpg/800px-Cubic_Zirconia_Run_Opening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990720" y="1143000"/>
            <a:ext cx="533376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304920" y="3978360"/>
            <a:ext cx="4800600" cy="287964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Optical Floating Zone (Image) metho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486400" y="1294920"/>
            <a:ext cx="32004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Idea: use optical focusing to create floating “hot zone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By slowly advancing feed rod through zone, crystal grows on seed r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Can achieve very high temperatures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up to ~2800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1" descr=""/>
          <p:cNvPicPr/>
          <p:nvPr/>
        </p:nvPicPr>
        <p:blipFill>
          <a:blip r:embed="rId2"/>
          <a:stretch/>
        </p:blipFill>
        <p:spPr>
          <a:xfrm>
            <a:off x="762120" y="990720"/>
            <a:ext cx="4038480" cy="30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Optical Floating Zone (Image) metho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0" y="2057400"/>
            <a:ext cx="7343640" cy="41814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"/>
          <p:cNvPicPr/>
          <p:nvPr/>
        </p:nvPicPr>
        <p:blipFill>
          <a:blip r:embed="rId2"/>
          <a:stretch/>
        </p:blipFill>
        <p:spPr>
          <a:xfrm>
            <a:off x="1905120" y="1371600"/>
            <a:ext cx="4081320" cy="3614760"/>
          </a:xfrm>
          <a:prstGeom prst="rect">
            <a:avLst/>
          </a:prstGeom>
          <a:ln w="0">
            <a:noFill/>
          </a:ln>
        </p:spPr>
      </p:pic>
      <p:sp>
        <p:nvSpPr>
          <p:cNvPr id="160" name="TextBox 8"/>
          <p:cNvSpPr/>
          <p:nvPr/>
        </p:nvSpPr>
        <p:spPr>
          <a:xfrm>
            <a:off x="1916280" y="1066680"/>
            <a:ext cx="32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400" spc="-1" strike="noStrike">
                <a:solidFill>
                  <a:srgbClr val="000000"/>
                </a:solidFill>
                <a:latin typeface="Calibri"/>
              </a:rPr>
              <a:t>Photo credit: G. Balakrishnan, U. Warwi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3"/>
          <a:stretch/>
        </p:blipFill>
        <p:spPr>
          <a:xfrm>
            <a:off x="6705720" y="990720"/>
            <a:ext cx="1371600" cy="40021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" descr=""/>
          <p:cNvPicPr/>
          <p:nvPr/>
        </p:nvPicPr>
        <p:blipFill>
          <a:blip r:embed="rId4"/>
          <a:stretch/>
        </p:blipFill>
        <p:spPr>
          <a:xfrm>
            <a:off x="6248520" y="990720"/>
            <a:ext cx="1981080" cy="4086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"/>
          <p:cNvPicPr/>
          <p:nvPr/>
        </p:nvPicPr>
        <p:blipFill>
          <a:blip r:embed="rId5"/>
          <a:stretch/>
        </p:blipFill>
        <p:spPr>
          <a:xfrm>
            <a:off x="5791320" y="1523880"/>
            <a:ext cx="3352680" cy="3846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"/>
          <p:cNvPicPr/>
          <p:nvPr/>
        </p:nvPicPr>
        <p:blipFill>
          <a:blip r:embed="rId6"/>
          <a:stretch/>
        </p:blipFill>
        <p:spPr>
          <a:xfrm>
            <a:off x="5638680" y="1523880"/>
            <a:ext cx="3438720" cy="4038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"/>
          <p:cNvPicPr/>
          <p:nvPr/>
        </p:nvPicPr>
        <p:blipFill>
          <a:blip r:embed="rId7"/>
          <a:stretch/>
        </p:blipFill>
        <p:spPr>
          <a:xfrm>
            <a:off x="5638680" y="1066680"/>
            <a:ext cx="3353040" cy="5016600"/>
          </a:xfrm>
          <a:prstGeom prst="rect">
            <a:avLst/>
          </a:prstGeom>
          <a:ln w="0">
            <a:noFill/>
          </a:ln>
        </p:spPr>
      </p:pic>
      <p:sp>
        <p:nvSpPr>
          <p:cNvPr id="166" name="Straight Connector 14"/>
          <p:cNvSpPr/>
          <p:nvPr/>
        </p:nvSpPr>
        <p:spPr>
          <a:xfrm>
            <a:off x="4876920" y="2971800"/>
            <a:ext cx="1904760" cy="685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traight Connector 15"/>
          <p:cNvSpPr/>
          <p:nvPr/>
        </p:nvSpPr>
        <p:spPr>
          <a:xfrm flipV="1">
            <a:off x="4876920" y="3809880"/>
            <a:ext cx="1904760" cy="76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traight Connector 16"/>
          <p:cNvSpPr/>
          <p:nvPr/>
        </p:nvSpPr>
        <p:spPr>
          <a:xfrm flipV="1">
            <a:off x="4876920" y="3886200"/>
            <a:ext cx="1981080" cy="3808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traight Connector 17"/>
          <p:cNvSpPr/>
          <p:nvPr/>
        </p:nvSpPr>
        <p:spPr>
          <a:xfrm>
            <a:off x="4800600" y="3429000"/>
            <a:ext cx="1981080" cy="30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18"/>
          <p:cNvSpPr/>
          <p:nvPr/>
        </p:nvSpPr>
        <p:spPr>
          <a:xfrm flipH="1">
            <a:off x="7238880" y="3124080"/>
            <a:ext cx="182880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19"/>
          <p:cNvSpPr/>
          <p:nvPr/>
        </p:nvSpPr>
        <p:spPr>
          <a:xfrm flipH="1" flipV="1">
            <a:off x="7238880" y="3809880"/>
            <a:ext cx="1905120" cy="152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traight Connector 20"/>
          <p:cNvSpPr/>
          <p:nvPr/>
        </p:nvSpPr>
        <p:spPr>
          <a:xfrm flipH="1" flipV="1">
            <a:off x="7315200" y="3886200"/>
            <a:ext cx="1828800" cy="3808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traight Connector 21"/>
          <p:cNvSpPr/>
          <p:nvPr/>
        </p:nvSpPr>
        <p:spPr>
          <a:xfrm flipH="1">
            <a:off x="7238880" y="3581280"/>
            <a:ext cx="1905120" cy="152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0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Examples of Float-Zone cryst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6912000" cy="4852800"/>
          </a:xfrm>
          <a:prstGeom prst="rect">
            <a:avLst/>
          </a:prstGeom>
          <a:ln w="0">
            <a:noFill/>
          </a:ln>
        </p:spPr>
      </p:pic>
      <p:sp>
        <p:nvSpPr>
          <p:cNvPr id="176" name="TextBox 7"/>
          <p:cNvSpPr/>
          <p:nvPr/>
        </p:nvSpPr>
        <p:spPr>
          <a:xfrm>
            <a:off x="1088280" y="5867280"/>
            <a:ext cx="311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600" spc="-1" strike="noStrike">
                <a:solidFill>
                  <a:srgbClr val="000000"/>
                </a:solidFill>
                <a:latin typeface="Calibri"/>
              </a:rPr>
              <a:t>courtesy K. Conder, PSI / ETH-Zur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Growth example:  YBa</a:t>
            </a:r>
            <a:r>
              <a:rPr b="0" lang="en-CA" sz="4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Cu</a:t>
            </a:r>
            <a:r>
              <a:rPr b="0" lang="en-CA" sz="4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CA" sz="4400" spc="-1" strike="noStrike" baseline="-25000">
                <a:solidFill>
                  <a:srgbClr val="000000"/>
                </a:solidFill>
                <a:latin typeface="Calibri"/>
              </a:rPr>
              <a:t>7-</a:t>
            </a:r>
            <a:r>
              <a:rPr b="0" lang="en-CA" sz="4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-228600" y="1733400"/>
            <a:ext cx="6924600" cy="51246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" descr=""/>
          <p:cNvPicPr/>
          <p:nvPr/>
        </p:nvPicPr>
        <p:blipFill>
          <a:blip r:embed="rId2"/>
          <a:stretch/>
        </p:blipFill>
        <p:spPr>
          <a:xfrm>
            <a:off x="6095880" y="4013280"/>
            <a:ext cx="3048120" cy="28447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" descr=""/>
          <p:cNvPicPr/>
          <p:nvPr/>
        </p:nvPicPr>
        <p:blipFill>
          <a:blip r:embed="rId3"/>
          <a:stretch/>
        </p:blipFill>
        <p:spPr>
          <a:xfrm>
            <a:off x="6400800" y="2133720"/>
            <a:ext cx="2371680" cy="18316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"/>
          <p:cNvPicPr/>
          <p:nvPr/>
        </p:nvPicPr>
        <p:blipFill>
          <a:blip r:embed="rId4"/>
          <a:stretch/>
        </p:blipFill>
        <p:spPr>
          <a:xfrm>
            <a:off x="990720" y="2286000"/>
            <a:ext cx="3585960" cy="3124080"/>
          </a:xfrm>
          <a:prstGeom prst="rect">
            <a:avLst/>
          </a:prstGeom>
          <a:ln w="0">
            <a:noFill/>
          </a:ln>
        </p:spPr>
      </p:pic>
      <p:sp>
        <p:nvSpPr>
          <p:cNvPr id="182" name="TextBox 9"/>
          <p:cNvSpPr/>
          <p:nvPr/>
        </p:nvSpPr>
        <p:spPr>
          <a:xfrm>
            <a:off x="1457640" y="114300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00000"/>
                </a:solidFill>
                <a:latin typeface="Calibri"/>
              </a:rPr>
              <a:t>R. Liang, U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10"/>
          <p:cNvSpPr/>
          <p:nvPr/>
        </p:nvSpPr>
        <p:spPr>
          <a:xfrm>
            <a:off x="6944760" y="1447920"/>
            <a:ext cx="18252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Crucible materi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BaZrO</a:t>
            </a:r>
            <a:r>
              <a:rPr b="0" lang="en-CA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1"/>
          <p:cNvSpPr/>
          <p:nvPr/>
        </p:nvSpPr>
        <p:spPr>
          <a:xfrm>
            <a:off x="457200" y="1523880"/>
            <a:ext cx="4800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Starting materials: Y</a:t>
            </a:r>
            <a:r>
              <a:rPr b="0" lang="en-CA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CA" sz="2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 + BaCO</a:t>
            </a:r>
            <a:r>
              <a:rPr b="0" lang="en-CA" sz="2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 + CuO 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91404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re are many ways to skin a cat…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is is both a blessing and a curs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ubstantial progress in recent ye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vailability of high-quality crystals = Ability to extract high-quality scientific result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1" dur="indefinite" restart="never" nodeType="tmRoot">
          <p:childTnLst>
            <p:seq>
              <p:cTn id="902" dur="indefinite" nodeType="mainSeq">
                <p:childTnLst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Single Cryst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Macroscopic samples with long-r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alignment of periodic atomic struc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cf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powder” samples – many randomly 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oriented microscopic “crystallites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liquid” / amorphous - no long-range 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6477120" y="1295280"/>
            <a:ext cx="1495440" cy="1509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2"/>
          <a:stretch/>
        </p:blipFill>
        <p:spPr>
          <a:xfrm>
            <a:off x="7696080" y="3048120"/>
            <a:ext cx="1160640" cy="1604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3"/>
          <a:stretch/>
        </p:blipFill>
        <p:spPr>
          <a:xfrm>
            <a:off x="6934320" y="4800600"/>
            <a:ext cx="11458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Why grow crystal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6840" y="1447920"/>
            <a:ext cx="84582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nisotropic properties / direction depend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Easy/hard magnetization ax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Anisotropic transport proper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Determine crystal, magnetic structure, Fermi surf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ab plane vs. c-axis properties in layered materi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Minimize effects of grain bound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Minimize effects of long-range disor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Rejection of impurity phases / off-stoichiome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y’re pretty to look a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Why grow crystal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pecific to neutron / x-ray scatte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In powders/liquids, signals are spread into con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Only direction-averaged |Q| avail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Loss of information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Direction-dependent signal of 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interest spread out &amp; convolved 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with uninteresting signals from 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other directions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5943600" y="2743200"/>
            <a:ext cx="2800440" cy="2225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685800" y="4876920"/>
            <a:ext cx="3505320" cy="1768320"/>
          </a:xfrm>
          <a:prstGeom prst="rect">
            <a:avLst/>
          </a:prstGeom>
          <a:ln w="0">
            <a:noFill/>
          </a:ln>
        </p:spPr>
      </p:pic>
      <p:cxnSp>
        <p:nvCxnSpPr>
          <p:cNvPr id="58" name="Straight Arrow Connector 6"/>
          <p:cNvCxnSpPr/>
          <p:nvPr/>
        </p:nvCxnSpPr>
        <p:spPr>
          <a:xfrm flipV="1">
            <a:off x="1752480" y="5485680"/>
            <a:ext cx="991440" cy="153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9" name="Straight Arrow Connector 8"/>
          <p:cNvCxnSpPr/>
          <p:nvPr/>
        </p:nvCxnSpPr>
        <p:spPr>
          <a:xfrm flipV="1">
            <a:off x="1752120" y="5562000"/>
            <a:ext cx="1296360" cy="76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Straight Arrow Connector 10"/>
          <p:cNvCxnSpPr/>
          <p:nvPr/>
        </p:nvCxnSpPr>
        <p:spPr>
          <a:xfrm>
            <a:off x="1752480" y="5638680"/>
            <a:ext cx="1524960" cy="76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1" name="Straight Arrow Connector 12"/>
          <p:cNvCxnSpPr/>
          <p:nvPr/>
        </p:nvCxnSpPr>
        <p:spPr>
          <a:xfrm>
            <a:off x="1676520" y="5638320"/>
            <a:ext cx="1753200" cy="229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2" name="Straight Arrow Connector 14"/>
          <p:cNvCxnSpPr/>
          <p:nvPr/>
        </p:nvCxnSpPr>
        <p:spPr>
          <a:xfrm>
            <a:off x="1676520" y="5638680"/>
            <a:ext cx="182952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Straight Arrow Connector 16"/>
          <p:cNvCxnSpPr/>
          <p:nvPr/>
        </p:nvCxnSpPr>
        <p:spPr>
          <a:xfrm>
            <a:off x="1676160" y="5638680"/>
            <a:ext cx="1905480" cy="610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64" name="Picture 6" descr=""/>
          <p:cNvPicPr/>
          <p:nvPr/>
        </p:nvPicPr>
        <p:blipFill>
          <a:blip r:embed="rId3"/>
          <a:stretch/>
        </p:blipFill>
        <p:spPr>
          <a:xfrm>
            <a:off x="5257800" y="4952880"/>
            <a:ext cx="3151080" cy="1609920"/>
          </a:xfrm>
          <a:prstGeom prst="rect">
            <a:avLst/>
          </a:prstGeom>
          <a:ln w="0">
            <a:noFill/>
          </a:ln>
        </p:spPr>
      </p:pic>
      <p:cxnSp>
        <p:nvCxnSpPr>
          <p:cNvPr id="65" name="Straight Arrow Connector 23"/>
          <p:cNvCxnSpPr/>
          <p:nvPr/>
        </p:nvCxnSpPr>
        <p:spPr>
          <a:xfrm>
            <a:off x="6095880" y="5562360"/>
            <a:ext cx="1524960" cy="153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Why </a:t>
            </a:r>
            <a:r>
              <a:rPr b="0" i="1" lang="en-CA" sz="4400" spc="-1" strike="noStrike">
                <a:solidFill>
                  <a:srgbClr val="000000"/>
                </a:solidFill>
                <a:latin typeface="Calibri"/>
              </a:rPr>
              <a:t>wouldn’t</a:t>
            </a: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 you grow crystal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Calibri"/>
              </a:rPr>
              <a:t>Very time consuming, labor intensiv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Calibri"/>
              </a:rPr>
              <a:t>Powders are much easier to make!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Calibri"/>
              </a:rPr>
              <a:t>Lots of variables in “recipe” to be determin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Calibri"/>
              </a:rPr>
              <a:t>Method to use, temperature, pressure, atmosphere, cooling rate, crucible material, choice of flux / solvent, choice of starting compounds, control oxygen content, doping levels, size/shape of starting materials, optimize for desired crystal size / orientation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500" spc="-1" strike="noStrike">
                <a:solidFill>
                  <a:srgbClr val="000000"/>
                </a:solidFill>
                <a:latin typeface="Calibri"/>
              </a:rPr>
              <a:t>Can it even be grown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Calibri"/>
              </a:rPr>
              <a:t>Requires specialized equip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Calibri"/>
              </a:rPr>
              <a:t>Special furnaces, characterization lab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Calibri"/>
              </a:rPr>
              <a:t>May not be able to reach necessary tempera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Calibri"/>
              </a:rPr>
              <a:t>May not be able to reach necessary press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Calibri"/>
              </a:rPr>
              <a:t>May crack / evaporate / decompose / incorporate H</a:t>
            </a:r>
            <a:r>
              <a:rPr b="0" lang="en-CA" sz="2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CA" sz="2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Calibri"/>
              </a:rPr>
              <a:t>Special atmospheres may be need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Calibri"/>
              </a:rPr>
              <a:t>May form other phases inste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Calibri"/>
              </a:rPr>
              <a:t>May have large stress/strain, def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Basic pl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9903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961920" indent="-50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0.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Decide what to mak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1920" indent="-50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en-CA" sz="2000" spc="-1" strike="noStrike">
                <a:solidFill>
                  <a:srgbClr val="000000"/>
                </a:solidFill>
                <a:latin typeface="Calibri"/>
              </a:rPr>
              <a:t>Educated guess:  Can it be grown?  Is it worth the effor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1920" indent="-50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Make powder sample of desired mater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57560" indent="-50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Calibri"/>
              </a:rPr>
              <a:t>Solid state reaction in furnac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57560" indent="-50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Calibri"/>
              </a:rPr>
              <a:t>Wet chemistry method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1920" indent="-50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Characterize pow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57560" indent="-50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Calibri"/>
              </a:rPr>
              <a:t>XRD, resistivity, susceptibility, TGA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1920" indent="-50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If powder’s good, make crystal from 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57560" indent="-50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Calibri"/>
              </a:rPr>
              <a:t>What method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57560" indent="-50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Calibri"/>
              </a:rPr>
              <a:t>Start with small “pilot” sampl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57560" indent="-50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Calibri"/>
              </a:rPr>
              <a:t>Optimize reci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1920" indent="-50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Characterize cryst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57560" indent="-50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Calibri"/>
              </a:rPr>
              <a:t>Optical, XRD, resistivity, susceptibility, TGA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57560" indent="-50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Calibri"/>
              </a:rPr>
              <a:t>Make bigger sampl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1920" indent="-50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Definitive measur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57560" indent="-50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Calibri"/>
              </a:rPr>
              <a:t>Synchrotron, neutrons, muons, NMR, ARPES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1920" indent="-50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Publish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Crystal Growth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1.  Growth from s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Idea: 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homogeneous soln -&gt; solid xtals + solv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2.  Growth from gas (vapor) ph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Idea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Evaporate powder, deposit vapor onto see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3.  Growth from liquid (melt) ph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Idea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Melt polyxtals of desired materials, slowly co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Crystal Growth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3200" spc="-1" strike="noStrike">
                <a:solidFill>
                  <a:srgbClr val="ff0000"/>
                </a:solidFill>
                <a:latin typeface="Calibri"/>
              </a:rPr>
              <a:t>1.  Growth from s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800" spc="-1" strike="noStrike">
                <a:solidFill>
                  <a:srgbClr val="ff0000"/>
                </a:solidFill>
                <a:latin typeface="Calibri"/>
              </a:rPr>
              <a:t>Idea: </a:t>
            </a:r>
            <a:br>
              <a:rPr sz="2800"/>
            </a:br>
            <a:r>
              <a:rPr b="1" i="1" lang="en-CA" sz="2800" spc="-1" strike="noStrike">
                <a:solidFill>
                  <a:srgbClr val="ff0000"/>
                </a:solidFill>
                <a:latin typeface="Calibri"/>
              </a:rPr>
              <a:t>homogeneous soln -&gt; solid xtals + solv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2.  Growth from gas (vapor) ph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Idea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Evaporate powder, deposit vapor onto see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3.  Growth from liquid (melt) ph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Idea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Melt polyxtals of desired materials, slowly co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18:05:57Z</dcterms:created>
  <dc:creator>Jeremy Carlo</dc:creator>
  <dc:description/>
  <dc:language>en-US</dc:language>
  <cp:lastModifiedBy>ksu</cp:lastModifiedBy>
  <dcterms:modified xsi:type="dcterms:W3CDTF">2011-10-12T21:51:52Z</dcterms:modified>
  <cp:revision>620</cp:revision>
  <dc:subject/>
  <dc:title>Adventures in Crystal Growth</dc:title>
</cp:coreProperties>
</file>