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40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39.png" ContentType="image/png"/>
  <Override PartName="/ppt/media/image41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E81-2EDC-4F32-A7B4-130B196A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4D7-C168-4D1A-9153-0BFB5F8F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E0C-B039-48AC-A675-B95B8631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5C3-AFCB-444C-B2CF-5F9BA54A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2E2-5D75-4C13-A0F9-1D5F6C53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96F-8F7B-447D-88DC-E32AAB5D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CE4-FD71-40BF-AB23-342C5979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5BE-51E3-4BE3-960C-8F73C3CE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D63-5B46-4FEB-A99E-4197CB22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3D3-4337-4C23-934B-B00C4B5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F1A-7B77-4AE4-A82F-AED64509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C97-065F-46E4-AE87-1399155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7180-371F-4C51-98CB-E17B0FEC0FB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gemologyproject.com/wiki/images/9/9b/Skull-melting2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gemologyproject.com/wiki/images/e/e4/Cubic_Zirconia_Run_Opening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Calibri"/>
              </a:rPr>
              <a:t>Adventures in Crystal Grow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898989"/>
                </a:solidFill>
                <a:latin typeface="Calibri"/>
              </a:rPr>
              <a:t>1/20/2011   NRC Canadian Neutron Beam Centre Semin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blog.makezine.com/2272827367_c16161a2aa.jpg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physics.mcmaster.ca/brucegaulingroup/images/facilities/crystal.jpg"/>
          <p:cNvPicPr/>
          <p:nvPr/>
        </p:nvPicPr>
        <p:blipFill>
          <a:blip r:embed="rId2"/>
          <a:stretch/>
        </p:blipFill>
        <p:spPr>
          <a:xfrm>
            <a:off x="228600" y="3124080"/>
            <a:ext cx="41148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implest case:  aqueous s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Needs: water-soluble, low temperature re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Increased temps by applying pressure: “hydrothermal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rganic solv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ore general: flux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ffect: by adding flux to material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of interest, melting point is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owe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.g. “eutectic,” “peritectic” p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Heat until liquid state achieved,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n cool very slow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Goal:  desired material precipitates out (better if homogeneous!), excess flux separated 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t3.gstatic.com/images?q=tbn:ANd9GcTHhWZPyrlYFjh14CY8odfIh5Kaqsr0BLHd6A3qum1nm0bx12k3-A"/>
          <p:cNvPicPr/>
          <p:nvPr/>
        </p:nvPicPr>
        <p:blipFill>
          <a:blip r:embed="rId1"/>
          <a:stretch/>
        </p:blipFill>
        <p:spPr>
          <a:xfrm>
            <a:off x="5715000" y="2971800"/>
            <a:ext cx="342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semble stoichiometric quantities of desired materials, mix thorough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oose an appropriate fl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w much? (refer to phase diagrams, if availab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t sample materials + flux in cruc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pecial choice of atmosp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t to liquid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ol 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very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slow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parate precipitated sample from fl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12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flu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Readily dissolves sample 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Lowers melting point into achievable r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igh boiling point, “low” vapor pres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issolves sample homogeneous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mmercially available, minimal haz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parates from sample material on coo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ypical choices: Ga, In, Sn, Pb, Sb, Bi, low melting halides or ox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Self flux” also commonly used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cruci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Very high melting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not react with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not react with fl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ypical choices: Al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Zr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Th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Pt, Ta, N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environment /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tempera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cooling ra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an it be done in ai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If not, seal sample/flux/crucible in quartz tube with desired 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Inert?  Reducing?  Oxidizing?  Vacuum?  What pressure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ery good for alloys / intermetall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Including FeAs-based superconductor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ow stress/str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Good choice of flux lowers required temper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Reduced need for specialized equi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Need for extended temperature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Usually get many small crystals – poor nucleation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be able to find suitable fl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be able to find suitable cruc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remove excess fl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57240" cy="259092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6"/>
          <p:cNvCxnSpPr/>
          <p:nvPr/>
        </p:nvCxnSpPr>
        <p:spPr>
          <a:xfrm flipH="1">
            <a:off x="2209320" y="228600"/>
            <a:ext cx="27439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8"/>
          <p:cNvCxnSpPr>
            <a:stCxn id="86" idx="1"/>
          </p:cNvCxnSpPr>
          <p:nvPr/>
        </p:nvCxnSpPr>
        <p:spPr>
          <a:xfrm flipH="1" flipV="1">
            <a:off x="1980720" y="1294920"/>
            <a:ext cx="327744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10"/>
          <p:cNvCxnSpPr/>
          <p:nvPr/>
        </p:nvCxnSpPr>
        <p:spPr>
          <a:xfrm flipH="1">
            <a:off x="1599480" y="762120"/>
            <a:ext cx="33534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12"/>
          <p:cNvCxnSpPr/>
          <p:nvPr/>
        </p:nvCxnSpPr>
        <p:spPr>
          <a:xfrm flipH="1" flipV="1">
            <a:off x="1751760" y="2133000"/>
            <a:ext cx="304884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13"/>
          <p:cNvSpPr/>
          <p:nvPr/>
        </p:nvSpPr>
        <p:spPr>
          <a:xfrm>
            <a:off x="5193360" y="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aled quartz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265000" y="12952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ruc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029200" y="60948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Quartz w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4885200" y="2133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ample +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2819520" y="4191120"/>
            <a:ext cx="3643200" cy="243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3200400" y="2819520"/>
            <a:ext cx="990720" cy="14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1371600" y="42670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5"/>
          <a:stretch/>
        </p:blipFill>
        <p:spPr>
          <a:xfrm>
            <a:off x="4495680" y="2971800"/>
            <a:ext cx="10224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5715000" y="3200400"/>
            <a:ext cx="1022400" cy="15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7391520" y="3276720"/>
            <a:ext cx="1366560" cy="121896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28"/>
          <p:cNvCxnSpPr/>
          <p:nvPr/>
        </p:nvCxnSpPr>
        <p:spPr>
          <a:xfrm>
            <a:off x="2409840" y="4991040"/>
            <a:ext cx="867600" cy="87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30"/>
          <p:cNvCxnSpPr/>
          <p:nvPr/>
        </p:nvCxnSpPr>
        <p:spPr>
          <a:xfrm>
            <a:off x="3694680" y="4282560"/>
            <a:ext cx="191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32"/>
          <p:cNvCxnSpPr/>
          <p:nvPr/>
        </p:nvCxnSpPr>
        <p:spPr>
          <a:xfrm flipH="1">
            <a:off x="4723560" y="4481640"/>
            <a:ext cx="2833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34"/>
          <p:cNvCxnSpPr/>
          <p:nvPr/>
        </p:nvCxnSpPr>
        <p:spPr>
          <a:xfrm flipH="1">
            <a:off x="5409360" y="4710240"/>
            <a:ext cx="8168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Straight Arrow Connector 36"/>
          <p:cNvCxnSpPr/>
          <p:nvPr/>
        </p:nvCxnSpPr>
        <p:spPr>
          <a:xfrm flipH="1">
            <a:off x="6247800" y="4038120"/>
            <a:ext cx="1143720" cy="175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Straight Arrow Connector 41"/>
          <p:cNvCxnSpPr>
            <a:stCxn id="86" idx="1"/>
          </p:cNvCxnSpPr>
          <p:nvPr/>
        </p:nvCxnSpPr>
        <p:spPr>
          <a:xfrm flipH="1">
            <a:off x="1980720" y="1479600"/>
            <a:ext cx="3277440" cy="42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4" name="Picture 7" descr=""/>
          <p:cNvPicPr/>
          <p:nvPr/>
        </p:nvPicPr>
        <p:blipFill>
          <a:blip r:embed="rId8"/>
          <a:stretch/>
        </p:blipFill>
        <p:spPr>
          <a:xfrm>
            <a:off x="5715000" y="3200400"/>
            <a:ext cx="1054080" cy="1514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6"/>
          <p:cNvSpPr/>
          <p:nvPr/>
        </p:nvSpPr>
        <p:spPr>
          <a:xfrm>
            <a:off x="3505320" y="4419720"/>
            <a:ext cx="53316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4038480" y="4495680"/>
            <a:ext cx="106704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8"/>
          <p:cNvSpPr/>
          <p:nvPr/>
        </p:nvSpPr>
        <p:spPr>
          <a:xfrm>
            <a:off x="5105520" y="4800600"/>
            <a:ext cx="3808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5486400" y="5105520"/>
            <a:ext cx="9144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9"/>
          <a:stretch/>
        </p:blipFill>
        <p:spPr>
          <a:xfrm>
            <a:off x="7848720" y="152280"/>
            <a:ext cx="68580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29" descr=""/>
          <p:cNvPicPr/>
          <p:nvPr/>
        </p:nvPicPr>
        <p:blipFill>
          <a:blip r:embed="rId10"/>
          <a:stretch/>
        </p:blipFill>
        <p:spPr>
          <a:xfrm>
            <a:off x="8547120" y="92160"/>
            <a:ext cx="341280" cy="224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11"/>
          <a:stretch/>
        </p:blipFill>
        <p:spPr>
          <a:xfrm>
            <a:off x="3733920" y="2362320"/>
            <a:ext cx="2361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6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Vapor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li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emical Vapor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lsed Laser D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tal-Organic Chemical Vapor D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4657680" cy="2670120"/>
          </a:xfrm>
          <a:prstGeom prst="rect">
            <a:avLst/>
          </a:prstGeom>
          <a:ln w="0">
            <a:noFill/>
          </a:ln>
        </p:spPr>
      </p:pic>
      <p:cxnSp>
        <p:nvCxnSpPr>
          <p:cNvPr id="117" name="Straight Arrow Connector 5"/>
          <p:cNvCxnSpPr/>
          <p:nvPr/>
        </p:nvCxnSpPr>
        <p:spPr>
          <a:xfrm>
            <a:off x="1676520" y="5638680"/>
            <a:ext cx="1372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7"/>
          <p:cNvCxnSpPr/>
          <p:nvPr/>
        </p:nvCxnSpPr>
        <p:spPr>
          <a:xfrm>
            <a:off x="1523880" y="4038120"/>
            <a:ext cx="99144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10"/>
          <p:cNvCxnSpPr/>
          <p:nvPr/>
        </p:nvCxnSpPr>
        <p:spPr>
          <a:xfrm flipH="1">
            <a:off x="5181120" y="4037400"/>
            <a:ext cx="274392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12"/>
          <p:cNvCxnSpPr/>
          <p:nvPr/>
        </p:nvCxnSpPr>
        <p:spPr>
          <a:xfrm flipH="1" flipV="1">
            <a:off x="6323760" y="6095160"/>
            <a:ext cx="129636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TextBox 13"/>
          <p:cNvSpPr/>
          <p:nvPr/>
        </p:nvSpPr>
        <p:spPr>
          <a:xfrm>
            <a:off x="385920" y="38098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537120" y="53341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t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8000280" y="38098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7620840" y="62118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ubstrat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ed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132440" y="914400"/>
            <a:ext cx="50115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Vapor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seful for growing epitaxial thin fil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high vapor pressure / ability to evap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substrate/seed onto which to grow cryst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ften quite s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ill vapor react with contain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for specialized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Liquid (Me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Prepare polycrystalline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eat to above melting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ol very slow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***Lots of “tricks” to do this!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an grow large crystal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ually better control over nucl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ually better control over shape of fina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Good control over growth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elting pt can be very hig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pecial atmosphere or vacuum need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Xtals may grow with significant stress/s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it evaporate too quick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ill it react with crucible / contain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y not grow at all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y grow different phase from expected!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images.bookbyte.com/isbn.aspx?isbn=9780471309321"/>
          <p:cNvPicPr/>
          <p:nvPr/>
        </p:nvPicPr>
        <p:blipFill>
          <a:blip r:embed="rId1"/>
          <a:stretch/>
        </p:blipFill>
        <p:spPr>
          <a:xfrm>
            <a:off x="6400800" y="1371600"/>
            <a:ext cx="2286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Liquid (Me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ariety of techniques (“tricks”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Verneuil (“flame fusion”) ~early 190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zochralski (“pulling”) ~191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Kyropoulos (“top seeding”) ~192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idgman (“directional solidification”) ~194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kull Melting ~197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aser-heated pedestal growth ~199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icropulling ~199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loating Zone (incl. image furnace) ~1990’s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Verneuil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57600" y="114300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irst used ~1902-1910 for large-scale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apphire / ruby growth (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+ 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in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mix and ignite, T &gt; 2000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olten drops fall onto “pedesta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xtal forms &amp; g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xample of 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xtal (right en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143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zochralski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9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eveloped 1917, Jan Czochral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art w/ seed x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p seed into me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lowly raise seed as it ro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Used for industrial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C’s:  Si, 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etals:  Pd, Pt, Ag, A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ome sa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4878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ridgman-Stockbarger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00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ridgman, 1940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dea: use temperature gradient to influence direction of xtal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quires 2-zone furnace, accurate position / temperature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an grow some xtals with fewer impurities than Czochral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.g. G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562640" cy="3990960"/>
          </a:xfrm>
          <a:prstGeom prst="rect">
            <a:avLst/>
          </a:prstGeom>
          <a:ln w="0">
            <a:noFill/>
          </a:ln>
        </p:spPr>
      </p:pic>
      <p:cxnSp>
        <p:nvCxnSpPr>
          <p:cNvPr id="144" name="Straight Arrow Connector 14"/>
          <p:cNvCxnSpPr/>
          <p:nvPr/>
        </p:nvCxnSpPr>
        <p:spPr>
          <a:xfrm flipH="1">
            <a:off x="3885840" y="3428640"/>
            <a:ext cx="2160" cy="762840"/>
          </a:xfrm>
          <a:prstGeom prst="straightConnector1">
            <a:avLst/>
          </a:prstGeom>
          <a:ln w="73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45" name="Straight Arrow Connector 15"/>
          <p:cNvCxnSpPr/>
          <p:nvPr/>
        </p:nvCxnSpPr>
        <p:spPr>
          <a:xfrm flipH="1" flipV="1">
            <a:off x="228240" y="2894760"/>
            <a:ext cx="1829520" cy="2520"/>
          </a:xfrm>
          <a:prstGeom prst="straightConnector1">
            <a:avLst/>
          </a:prstGeom>
          <a:ln w="730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46" name="TextBox 16"/>
          <p:cNvSpPr/>
          <p:nvPr/>
        </p:nvSpPr>
        <p:spPr>
          <a:xfrm>
            <a:off x="2446560" y="36576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f6228"/>
                </a:solidFill>
                <a:latin typeface="Calibri"/>
              </a:rPr>
              <a:t>Bridg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60440" y="28195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f6228"/>
                </a:solidFill>
                <a:latin typeface="Calibri"/>
              </a:rPr>
              <a:t>Stockb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kull Mel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dea:  MP too high for any cruc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ke sample act as own crucibl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ke large cylinder of desir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nterior heated by RF in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ool exterior with flowing H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 in “finger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move xtals from inside “skul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ery large samples!  ~k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ypical use:  Zr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99556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http://gemologyproject.com/wiki/images/thumb/9/9b/Skull-melting2.jpg/449px-Skull-melting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28600"/>
            <a:ext cx="266688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http://gemologyproject.com/wiki/images/thumb/e/e4/Cubic_Zirconia_Run_Opening.jpg/800px-Cubic_Zirconia_Run_Openin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11430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04920" y="3978360"/>
            <a:ext cx="48006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ptical Floating Zone (Image)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486400" y="1294920"/>
            <a:ext cx="3200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dea: use optical focusing to create floating “hot zo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y slowly advancing feed rod through zone, crystal grows on seed 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an achieve very high temperatures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up to ~2800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84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ptical Floating Zone (Image)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7343640" cy="4181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4081320" cy="3614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1916280" y="106668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libri"/>
              </a:rPr>
              <a:t>Photo credit: G. Balakrishnan, U. Warw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6705720" y="990720"/>
            <a:ext cx="1371600" cy="4002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4"/>
          <a:stretch/>
        </p:blipFill>
        <p:spPr>
          <a:xfrm>
            <a:off x="6248520" y="990720"/>
            <a:ext cx="1981080" cy="40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5791320" y="1523880"/>
            <a:ext cx="3352680" cy="3846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6"/>
          <a:stretch/>
        </p:blipFill>
        <p:spPr>
          <a:xfrm>
            <a:off x="5638680" y="1523880"/>
            <a:ext cx="3438720" cy="403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7"/>
          <a:stretch/>
        </p:blipFill>
        <p:spPr>
          <a:xfrm>
            <a:off x="5638680" y="1066680"/>
            <a:ext cx="3353040" cy="501660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14"/>
          <p:cNvSpPr/>
          <p:nvPr/>
        </p:nvSpPr>
        <p:spPr>
          <a:xfrm>
            <a:off x="4876920" y="2971800"/>
            <a:ext cx="19047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5"/>
          <p:cNvSpPr/>
          <p:nvPr/>
        </p:nvSpPr>
        <p:spPr>
          <a:xfrm flipV="1">
            <a:off x="4876920" y="3809880"/>
            <a:ext cx="1904760" cy="7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6"/>
          <p:cNvSpPr/>
          <p:nvPr/>
        </p:nvSpPr>
        <p:spPr>
          <a:xfrm flipV="1">
            <a:off x="4876920" y="3886200"/>
            <a:ext cx="198108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7"/>
          <p:cNvSpPr/>
          <p:nvPr/>
        </p:nvSpPr>
        <p:spPr>
          <a:xfrm>
            <a:off x="4800600" y="3429000"/>
            <a:ext cx="198108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8"/>
          <p:cNvSpPr/>
          <p:nvPr/>
        </p:nvSpPr>
        <p:spPr>
          <a:xfrm flipH="1">
            <a:off x="7238880" y="3124080"/>
            <a:ext cx="182880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9"/>
          <p:cNvSpPr/>
          <p:nvPr/>
        </p:nvSpPr>
        <p:spPr>
          <a:xfrm flipH="1" flipV="1">
            <a:off x="7238880" y="3809880"/>
            <a:ext cx="190512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20"/>
          <p:cNvSpPr/>
          <p:nvPr/>
        </p:nvSpPr>
        <p:spPr>
          <a:xfrm flipH="1" flipV="1">
            <a:off x="7315200" y="3886200"/>
            <a:ext cx="182880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1"/>
          <p:cNvSpPr/>
          <p:nvPr/>
        </p:nvSpPr>
        <p:spPr>
          <a:xfrm flipH="1">
            <a:off x="7238880" y="3581280"/>
            <a:ext cx="190512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s of Float-Zone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912000" cy="4852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1088280" y="5867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Calibri"/>
              </a:rPr>
              <a:t>courtesy K. Conder, PSI / ETH-Zu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rowth example:  YBa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7-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-228600" y="1733400"/>
            <a:ext cx="6924600" cy="512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6095880" y="4013280"/>
            <a:ext cx="3048120" cy="284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2371680" cy="1831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990720" y="2286000"/>
            <a:ext cx="3585960" cy="31240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1457640" y="1143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alibri"/>
              </a:rPr>
              <a:t>R. Liang, U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6944760" y="1447920"/>
            <a:ext cx="1825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rucible 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aZr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457200" y="152388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Starting materials: Y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+ BaC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+ CuO 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many ways to skin a cat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s both a blessing and a cu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stantial progress in recent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ailability of high-quality crystals = Ability to extract high-quality scientific resul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ingle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croscopic samples with long-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lignment of periodic atomic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owder” samples – many randomly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riented microscopic “crystallit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liquid” / amorphous - no long-range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1495440" cy="15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7696080" y="3048120"/>
            <a:ext cx="116064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6934320" y="4800600"/>
            <a:ext cx="114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4479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isotropic properties / direction 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asy/hard magnetization a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isotropic transport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termine crystal, magnetic structure, Fermi su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b plane vs. c-axis properties in layered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ize effects of grain bound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ize effects of long-range dis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jection of impurity phases / off-stoichio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’re pretty to look 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pecific to neutron / x-ray scat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powders/liquids, signals are spread into c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nly direction-averaged |Q|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Loss of informa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irection-dependent signal of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nterest spread out &amp; convolved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ith uninteresting signals from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ther direction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800440" cy="222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85800" y="4876920"/>
            <a:ext cx="3505320" cy="1768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1752480" y="5485680"/>
            <a:ext cx="99144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8"/>
          <p:cNvCxnSpPr/>
          <p:nvPr/>
        </p:nvCxnSpPr>
        <p:spPr>
          <a:xfrm flipV="1">
            <a:off x="1752120" y="5562000"/>
            <a:ext cx="12963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>
            <a:off x="1752480" y="5638680"/>
            <a:ext cx="15249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/>
          <p:nvPr/>
        </p:nvCxnSpPr>
        <p:spPr>
          <a:xfrm>
            <a:off x="1676520" y="5638320"/>
            <a:ext cx="17532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4"/>
          <p:cNvCxnSpPr/>
          <p:nvPr/>
        </p:nvCxnSpPr>
        <p:spPr>
          <a:xfrm>
            <a:off x="1676520" y="5638680"/>
            <a:ext cx="18295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16"/>
          <p:cNvCxnSpPr/>
          <p:nvPr/>
        </p:nvCxnSpPr>
        <p:spPr>
          <a:xfrm>
            <a:off x="1676160" y="5638680"/>
            <a:ext cx="190548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5257800" y="4952880"/>
            <a:ext cx="3151080" cy="160992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23"/>
          <p:cNvCxnSpPr/>
          <p:nvPr/>
        </p:nvCxnSpPr>
        <p:spPr>
          <a:xfrm>
            <a:off x="6095880" y="5562360"/>
            <a:ext cx="15249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</a:t>
            </a:r>
            <a:r>
              <a:rPr b="0" i="1" lang="en-CA" sz="4400" spc="-1" strike="noStrike">
                <a:solidFill>
                  <a:srgbClr val="000000"/>
                </a:solidFill>
                <a:latin typeface="Calibri"/>
              </a:rPr>
              <a:t>wouldn’t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 you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Very time consuming, labor inten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Powders are much easier to make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Lots of variables in “recipe” to be determ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Method to use, temperature, pressure, atmosphere, cooling rate, crucible material, choice of flux / solvent, choice of starting compounds, control oxygen content, doping levels, size/shape of starting materials, optimize for desired crystal size / orient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Calibri"/>
              </a:rPr>
              <a:t>Can it even be grow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Requires specialized equi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Special furnaces, characterization la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not be able to reach necessary temper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not be able to reach necessary press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crack / evaporate / decompose / incorporate H</a:t>
            </a:r>
            <a:r>
              <a:rPr b="0" lang="en-CA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Special atmospheres may be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form other phases inst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have large stress/strain, def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asic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0.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cide what to 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Educated guess:  Can it be grown?  Is it worth the effor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ke powder sample of desired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olid state reaction in furna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Wet chemistry metho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haracterize pow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XRD, resistivity, susceptibility, TG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f powder’s good, make crystal from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What metho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tart with small “pilot” sa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Optimize reci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haracterize crys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Optical, XRD, resistivity, susceptibility, TG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Make bigger sa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finitive measu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ynchrotron, neutrons, muons, NMR, ARP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ublish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 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8:05:57Z</dcterms:created>
  <dc:creator>Jeremy Carlo</dc:creator>
  <dc:description/>
  <dc:language>en-US</dc:language>
  <cp:lastModifiedBy>ksu</cp:lastModifiedBy>
  <dcterms:modified xsi:type="dcterms:W3CDTF">2011-10-12T21:51:52Z</dcterms:modified>
  <cp:revision>620</cp:revision>
  <dc:subject/>
  <dc:title>Adventures in Crystal Growth</dc:title>
</cp:coreProperties>
</file>