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40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1.jpeg" ContentType="image/jpeg"/>
  <Override PartName="/ppt/media/image39.png" ContentType="image/png"/>
  <Override PartName="/ppt/media/image41.jpeg" ContentType="image/jpeg"/>
  <Override PartName="/ppt/media/image9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FAF2-8AAC-4405-BD38-B840B534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7C9C-8AAB-4D88-998D-1D6F555E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36C2-0E84-4016-90BD-8E84CB8B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6E8F-7433-4CD0-B5CC-B99B5048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95C6-EB29-4DCD-BF70-C2056BDF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D9C2-F60E-400D-AF46-C1459DD4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6256-8D0A-4F9F-A89E-0589489A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EF49-31F2-4732-962B-B2CACA19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F8D1-9EF3-404B-8530-D418E672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3E8C-5685-4D07-B412-93CA4BDE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D355-44A4-4AC6-AF96-6ED8AAE7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8341-896C-4877-8057-63275162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3108-94BB-437B-A432-92ABA717A05D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gemologyproject.com/wiki/images/9/9b/Skull-melting2.jpg" TargetMode="External"/><Relationship Id="rId3" Type="http://schemas.openxmlformats.org/officeDocument/2006/relationships/image" Target="../media/image26.jpeg"/><Relationship Id="rId4" Type="http://schemas.openxmlformats.org/officeDocument/2006/relationships/hyperlink" Target="http://gemologyproject.com/wiki/images/e/e4/Cubic_Zirconia_Run_Opening.jpg" TargetMode="External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000000"/>
                </a:solidFill>
                <a:latin typeface="Calibri"/>
              </a:rPr>
              <a:t>Adventures in Crystal Growt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898989"/>
                </a:solidFill>
                <a:latin typeface="Calibri"/>
              </a:rPr>
              <a:t>1/20/2011   NRC Canadian Neutron Beam Centre Semina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blog.makezine.com/2272827367_c16161a2aa.jpg"/>
          <p:cNvPicPr/>
          <p:nvPr/>
        </p:nvPicPr>
        <p:blipFill>
          <a:blip r:embed="rId1"/>
          <a:stretch/>
        </p:blipFill>
        <p:spPr>
          <a:xfrm>
            <a:off x="4876920" y="29718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physics.mcmaster.ca/brucegaulingroup/images/facilities/crystal.jpg"/>
          <p:cNvPicPr/>
          <p:nvPr/>
        </p:nvPicPr>
        <p:blipFill>
          <a:blip r:embed="rId2"/>
          <a:stretch/>
        </p:blipFill>
        <p:spPr>
          <a:xfrm>
            <a:off x="228600" y="3124080"/>
            <a:ext cx="411480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from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Simplest case:  aqueous sol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Needs: water-soluble, low temperature rea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Increased temps by applying pressure: “hydrothermal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Organic solvent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More general: flux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Effect: by adding flux to material</a:t>
            </a:r>
            <a:br>
              <a:rPr sz="2600"/>
            </a:b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of interest, melting point is</a:t>
            </a:r>
            <a:br>
              <a:rPr sz="2600"/>
            </a:b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lowe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e.g. “eutectic,” “peritectic” poi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Heat until liquid state achieved,</a:t>
            </a:r>
            <a:br>
              <a:rPr sz="2600"/>
            </a:b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then cool very slow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Goal:  desired material precipitates out (better if homogeneous!), excess flux separated 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t3.gstatic.com/images?q=tbn:ANd9GcTHhWZPyrlYFjh14CY8odfIh5Kaqsr0BLHd6A3qum1nm0bx12k3-A"/>
          <p:cNvPicPr/>
          <p:nvPr/>
        </p:nvPicPr>
        <p:blipFill>
          <a:blip r:embed="rId1"/>
          <a:stretch/>
        </p:blipFill>
        <p:spPr>
          <a:xfrm>
            <a:off x="5715000" y="2971800"/>
            <a:ext cx="3429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Flux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193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ssemble stoichiometric quantities of desired materials, mix thorough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hoose an appropriate fl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How much? (refer to phase diagrams, if available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ut sample materials + flux in cruc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pecial choice of atmosp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eat to liquid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ol </a:t>
            </a:r>
            <a:r>
              <a:rPr b="0" i="1" lang="en-CA" sz="3200" spc="-1" strike="noStrike">
                <a:solidFill>
                  <a:srgbClr val="000000"/>
                </a:solidFill>
                <a:latin typeface="Calibri"/>
              </a:rPr>
              <a:t>very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slow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eparate precipitated sample from fl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Flux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09120" y="7621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Choice of flux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Readily dissolves sample mate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Lowers melting point into achievable r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High boiling point, “low” vapor press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Dissolves sample homogeneousl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ommercially available, minimal haz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eparates from sample material on coo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Typical choices: Ga, In, Sn, Pb, Sb, Bi, low melting halides or oxi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CA" sz="1500" spc="-1" strike="noStrike">
                <a:solidFill>
                  <a:srgbClr val="000000"/>
                </a:solidFill>
                <a:latin typeface="Calibri"/>
              </a:rPr>
              <a:t>Self flux” also commonly used!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Choice of crucib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Very high melting 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Does not react with sam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Does not react with flu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Typical choices: Al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, ZrO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, ThO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, Pt, Ta, N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Choice of environment / atmosp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What temperatu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What cooling rat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an it be done in ai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If not, seal sample/flux/crucible in quartz tube with desired atm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alibri"/>
              </a:rPr>
              <a:t>Inert?  Reducing?  Oxidizing?  Vacuum?  What pressure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Flux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Very good for alloys / intermetallic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Including FeAs-based superconductors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Low stress/str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Good choice of flux lowers required temper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Reduced need for specialized equi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Disadvantag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Need for extended temperature contr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Usually get many small crystals – poor nucleation contr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Must be able to find suitable flu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Must be able to find suitable cruci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Must remove excess flu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1857240" cy="2590920"/>
          </a:xfrm>
          <a:prstGeom prst="rect">
            <a:avLst/>
          </a:prstGeom>
          <a:ln w="0">
            <a:noFill/>
          </a:ln>
        </p:spPr>
      </p:pic>
      <p:cxnSp>
        <p:nvCxnSpPr>
          <p:cNvPr id="84" name="Straight Arrow Connector 6"/>
          <p:cNvCxnSpPr/>
          <p:nvPr/>
        </p:nvCxnSpPr>
        <p:spPr>
          <a:xfrm flipH="1">
            <a:off x="2209320" y="228600"/>
            <a:ext cx="27439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Straight Arrow Connector 8"/>
          <p:cNvCxnSpPr>
            <a:stCxn id="86" idx="1"/>
          </p:cNvCxnSpPr>
          <p:nvPr/>
        </p:nvCxnSpPr>
        <p:spPr>
          <a:xfrm flipH="1" flipV="1">
            <a:off x="1980720" y="1294920"/>
            <a:ext cx="3277440" cy="185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Straight Arrow Connector 10"/>
          <p:cNvCxnSpPr/>
          <p:nvPr/>
        </p:nvCxnSpPr>
        <p:spPr>
          <a:xfrm flipH="1">
            <a:off x="1599480" y="762120"/>
            <a:ext cx="335340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Straight Arrow Connector 12"/>
          <p:cNvCxnSpPr/>
          <p:nvPr/>
        </p:nvCxnSpPr>
        <p:spPr>
          <a:xfrm flipH="1" flipV="1">
            <a:off x="1751760" y="2133000"/>
            <a:ext cx="304884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TextBox 13"/>
          <p:cNvSpPr/>
          <p:nvPr/>
        </p:nvSpPr>
        <p:spPr>
          <a:xfrm>
            <a:off x="5193360" y="0"/>
            <a:ext cx="23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ealed quartz conta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5265000" y="12952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ruc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5029200" y="60948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Quartz w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4885200" y="213372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ample + 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2819520" y="4191120"/>
            <a:ext cx="3643200" cy="2435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3200400" y="2819520"/>
            <a:ext cx="990720" cy="1463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4"/>
          <a:stretch/>
        </p:blipFill>
        <p:spPr>
          <a:xfrm>
            <a:off x="1371600" y="4267080"/>
            <a:ext cx="1038240" cy="1447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5"/>
          <a:stretch/>
        </p:blipFill>
        <p:spPr>
          <a:xfrm>
            <a:off x="4495680" y="2971800"/>
            <a:ext cx="10224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6"/>
          <a:stretch/>
        </p:blipFill>
        <p:spPr>
          <a:xfrm>
            <a:off x="5715000" y="3200400"/>
            <a:ext cx="1022400" cy="150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7"/>
          <a:stretch/>
        </p:blipFill>
        <p:spPr>
          <a:xfrm>
            <a:off x="7391520" y="3276720"/>
            <a:ext cx="1366560" cy="121896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28"/>
          <p:cNvCxnSpPr/>
          <p:nvPr/>
        </p:nvCxnSpPr>
        <p:spPr>
          <a:xfrm>
            <a:off x="2409840" y="4991040"/>
            <a:ext cx="867600" cy="87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30"/>
          <p:cNvCxnSpPr/>
          <p:nvPr/>
        </p:nvCxnSpPr>
        <p:spPr>
          <a:xfrm>
            <a:off x="3694680" y="4282560"/>
            <a:ext cx="191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32"/>
          <p:cNvCxnSpPr/>
          <p:nvPr/>
        </p:nvCxnSpPr>
        <p:spPr>
          <a:xfrm flipH="1">
            <a:off x="4723560" y="4481640"/>
            <a:ext cx="283320" cy="39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Straight Arrow Connector 34"/>
          <p:cNvCxnSpPr/>
          <p:nvPr/>
        </p:nvCxnSpPr>
        <p:spPr>
          <a:xfrm flipH="1">
            <a:off x="5409360" y="4710240"/>
            <a:ext cx="816840" cy="3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Straight Arrow Connector 36"/>
          <p:cNvCxnSpPr/>
          <p:nvPr/>
        </p:nvCxnSpPr>
        <p:spPr>
          <a:xfrm flipH="1">
            <a:off x="6247800" y="4038120"/>
            <a:ext cx="1143720" cy="175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3" name="Straight Arrow Connector 41"/>
          <p:cNvCxnSpPr>
            <a:stCxn id="86" idx="1"/>
          </p:cNvCxnSpPr>
          <p:nvPr/>
        </p:nvCxnSpPr>
        <p:spPr>
          <a:xfrm flipH="1">
            <a:off x="1980720" y="1479600"/>
            <a:ext cx="3277440" cy="42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04" name="Picture 7" descr=""/>
          <p:cNvPicPr/>
          <p:nvPr/>
        </p:nvPicPr>
        <p:blipFill>
          <a:blip r:embed="rId8"/>
          <a:stretch/>
        </p:blipFill>
        <p:spPr>
          <a:xfrm>
            <a:off x="5715000" y="3200400"/>
            <a:ext cx="1054080" cy="15145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6"/>
          <p:cNvSpPr/>
          <p:nvPr/>
        </p:nvSpPr>
        <p:spPr>
          <a:xfrm>
            <a:off x="3505320" y="4419720"/>
            <a:ext cx="53316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7"/>
          <p:cNvSpPr/>
          <p:nvPr/>
        </p:nvSpPr>
        <p:spPr>
          <a:xfrm>
            <a:off x="4038480" y="4495680"/>
            <a:ext cx="106704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8"/>
          <p:cNvSpPr/>
          <p:nvPr/>
        </p:nvSpPr>
        <p:spPr>
          <a:xfrm>
            <a:off x="5105520" y="4800600"/>
            <a:ext cx="38088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9"/>
          <p:cNvSpPr/>
          <p:nvPr/>
        </p:nvSpPr>
        <p:spPr>
          <a:xfrm>
            <a:off x="5486400" y="5105520"/>
            <a:ext cx="91440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9"/>
          <a:stretch/>
        </p:blipFill>
        <p:spPr>
          <a:xfrm>
            <a:off x="7848720" y="152280"/>
            <a:ext cx="685800" cy="3029040"/>
          </a:xfrm>
          <a:prstGeom prst="rect">
            <a:avLst/>
          </a:prstGeom>
          <a:ln w="0">
            <a:noFill/>
          </a:ln>
        </p:spPr>
      </p:pic>
      <p:pic>
        <p:nvPicPr>
          <p:cNvPr id="110" name="TextBox 29" descr=""/>
          <p:cNvPicPr/>
          <p:nvPr/>
        </p:nvPicPr>
        <p:blipFill>
          <a:blip r:embed="rId10"/>
          <a:stretch/>
        </p:blipFill>
        <p:spPr>
          <a:xfrm>
            <a:off x="8547120" y="92160"/>
            <a:ext cx="341280" cy="2249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11"/>
          <a:stretch/>
        </p:blipFill>
        <p:spPr>
          <a:xfrm>
            <a:off x="3733920" y="2362320"/>
            <a:ext cx="236196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3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3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3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6" dur="3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0800000">
                                      <p:cBhvr>
                                        <p:cTn id="4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3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3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1.  Growth from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 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homogeneous soln -&gt; solid xtals + solv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0000"/>
                </a:solidFill>
                <a:latin typeface="Calibri"/>
              </a:rPr>
              <a:t>2.  Growth from gas (vapor)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0000"/>
                </a:solidFill>
                <a:latin typeface="Calibri"/>
              </a:rPr>
              <a:t>Idea:</a:t>
            </a:r>
            <a:br>
              <a:rPr sz="2800"/>
            </a:br>
            <a:r>
              <a:rPr b="1" i="1" lang="en-CA" sz="2800" spc="-1" strike="noStrike">
                <a:solidFill>
                  <a:srgbClr val="ff0000"/>
                </a:solidFill>
                <a:latin typeface="Calibri"/>
              </a:rPr>
              <a:t>Evaporate powder, deposit vapor onto s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3.  Growth from liquid (melt)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Melt polyxtals of desired materials, slowly c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from Vapor 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238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ubli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hemical Vapor Trans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ulsed Laser De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etal-Organic Chemical Vapor De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2514600" y="3962520"/>
            <a:ext cx="4657680" cy="2670120"/>
          </a:xfrm>
          <a:prstGeom prst="rect">
            <a:avLst/>
          </a:prstGeom>
          <a:ln w="0">
            <a:noFill/>
          </a:ln>
        </p:spPr>
      </p:pic>
      <p:cxnSp>
        <p:nvCxnSpPr>
          <p:cNvPr id="117" name="Straight Arrow Connector 5"/>
          <p:cNvCxnSpPr/>
          <p:nvPr/>
        </p:nvCxnSpPr>
        <p:spPr>
          <a:xfrm>
            <a:off x="1676520" y="5638680"/>
            <a:ext cx="13723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7"/>
          <p:cNvCxnSpPr/>
          <p:nvPr/>
        </p:nvCxnSpPr>
        <p:spPr>
          <a:xfrm>
            <a:off x="1523880" y="4038120"/>
            <a:ext cx="99144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9" name="Straight Arrow Connector 10"/>
          <p:cNvCxnSpPr/>
          <p:nvPr/>
        </p:nvCxnSpPr>
        <p:spPr>
          <a:xfrm flipH="1">
            <a:off x="5181120" y="4037400"/>
            <a:ext cx="274392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0" name="Straight Arrow Connector 12"/>
          <p:cNvCxnSpPr/>
          <p:nvPr/>
        </p:nvCxnSpPr>
        <p:spPr>
          <a:xfrm flipH="1" flipV="1">
            <a:off x="6323760" y="6095160"/>
            <a:ext cx="1296360" cy="381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1" name="TextBox 13"/>
          <p:cNvSpPr/>
          <p:nvPr/>
        </p:nvSpPr>
        <p:spPr>
          <a:xfrm>
            <a:off x="385920" y="38098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onta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537120" y="533412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t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8000280" y="38098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Va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6"/>
          <p:cNvSpPr/>
          <p:nvPr/>
        </p:nvSpPr>
        <p:spPr>
          <a:xfrm>
            <a:off x="7620840" y="62118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ubstrate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eed Cry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4132440" y="914400"/>
            <a:ext cx="501156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from Vapor 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Useful for growing epitaxial thin film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ss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Need high vapor pressure / ability to evapo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Need substrate/seed onto which to grow crysta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Often quite s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Will vapor react with contain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Need for specialized equi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1.  Growth from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 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homogeneous soln -&gt; solid xtals + solv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2.  Growth from gas (vapor)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vaporate powder, deposit vapor onto s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0000"/>
                </a:solidFill>
                <a:latin typeface="Calibri"/>
              </a:rPr>
              <a:t>3.  Growth from liquid (melt)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0000"/>
                </a:solidFill>
                <a:latin typeface="Calibri"/>
              </a:rPr>
              <a:t>Idea:</a:t>
            </a:r>
            <a:br>
              <a:rPr sz="2800"/>
            </a:br>
            <a:r>
              <a:rPr b="1" i="1" lang="en-CA" sz="2800" spc="-1" strike="noStrike">
                <a:solidFill>
                  <a:srgbClr val="ff0000"/>
                </a:solidFill>
                <a:latin typeface="Calibri"/>
              </a:rPr>
              <a:t>Melt polyxtals of desired materials, slowly c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from Liquid (Mel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Ide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Prepare polycrystalline sam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Heat to above melting 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ool very slow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C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CA" sz="1800" spc="-1" strike="noStrike">
                <a:solidFill>
                  <a:srgbClr val="000000"/>
                </a:solidFill>
                <a:latin typeface="Calibri"/>
              </a:rPr>
              <a:t>***Lots of “tricks” to do this!**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an grow large crystals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Usually better control over nucl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Usually better control over shape of final produ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Good control over growth r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Issu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Melting pt can be very high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pecial atmosphere or vacuum neede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Xtals may grow with significant stress/str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Does it evaporate too quickl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Will it react with crucible / contain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May not grow at all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May grow different phase from expected!</a:t>
            </a:r>
            <a:br>
              <a:rPr sz="1800"/>
            </a:b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http://images.bookbyte.com/isbn.aspx?isbn=9780471309321"/>
          <p:cNvPicPr/>
          <p:nvPr/>
        </p:nvPicPr>
        <p:blipFill>
          <a:blip r:embed="rId1"/>
          <a:stretch/>
        </p:blipFill>
        <p:spPr>
          <a:xfrm>
            <a:off x="6400800" y="1371600"/>
            <a:ext cx="22860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y grow crystal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from Liquid (Mel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Variety of techniques (“tricks”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Verneuil (“flame fusion”) ~early 1900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Czochralski (“pulling”) ~1910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Kyropoulos (“top seeding”) ~1920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Bridgman (“directional solidification”) ~1940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kull Melting ~1970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Laser-heated pedestal growth ~1990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Micropulling ~1990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Floating Zone (incl. image furnace) ~1990’s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Verneuil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657600" y="1143000"/>
            <a:ext cx="5105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First used ~1902-1910 for large-scale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sapphire / ruby growth (Al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+ Al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inl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mix and ignite, T &gt; 2000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Molten drops fall onto “pedestal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xtal forms &amp; gr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Example of Al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xtal (right en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1435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zochralski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876920" y="121932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Developed 1917, Jan Czochralsk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Start w/ seed xt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Dip seed into mel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Slowly raise seed as it rot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Used for industrial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SC’s:  Si, 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metals:  Pd, Pt, Ag, A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Some sal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1447920"/>
            <a:ext cx="4878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Bridgman-Stockbarger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8006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Bridgman, 1940’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Idea: use temperature gradient to influence direction of xtal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Requires 2-zone furnace, accurate position / temperature cont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an grow some xtals with fewer impurities than Czochral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e.g. Ga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4562640" cy="3990960"/>
          </a:xfrm>
          <a:prstGeom prst="rect">
            <a:avLst/>
          </a:prstGeom>
          <a:ln w="0">
            <a:noFill/>
          </a:ln>
        </p:spPr>
      </p:pic>
      <p:cxnSp>
        <p:nvCxnSpPr>
          <p:cNvPr id="144" name="Straight Arrow Connector 14"/>
          <p:cNvCxnSpPr/>
          <p:nvPr/>
        </p:nvCxnSpPr>
        <p:spPr>
          <a:xfrm flipH="1">
            <a:off x="3885840" y="3428640"/>
            <a:ext cx="2160" cy="762840"/>
          </a:xfrm>
          <a:prstGeom prst="straightConnector1">
            <a:avLst/>
          </a:prstGeom>
          <a:ln w="730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145" name="Straight Arrow Connector 15"/>
          <p:cNvCxnSpPr/>
          <p:nvPr/>
        </p:nvCxnSpPr>
        <p:spPr>
          <a:xfrm flipH="1" flipV="1">
            <a:off x="228240" y="2894760"/>
            <a:ext cx="1829520" cy="2520"/>
          </a:xfrm>
          <a:prstGeom prst="straightConnector1">
            <a:avLst/>
          </a:prstGeom>
          <a:ln w="7308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146" name="TextBox 16"/>
          <p:cNvSpPr/>
          <p:nvPr/>
        </p:nvSpPr>
        <p:spPr>
          <a:xfrm>
            <a:off x="2446560" y="3657600"/>
            <a:ext cx="14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4f6228"/>
                </a:solidFill>
                <a:latin typeface="Calibri"/>
              </a:rPr>
              <a:t>Bridg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7"/>
          <p:cNvSpPr/>
          <p:nvPr/>
        </p:nvSpPr>
        <p:spPr>
          <a:xfrm>
            <a:off x="460440" y="28195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4f6228"/>
                </a:solidFill>
                <a:latin typeface="Calibri"/>
              </a:rPr>
              <a:t>Stockba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kull Mel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428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Idea:  MP too high for any cruc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Make sample act as own crucibl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Make large cylinder of desired mater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Interior heated by RF in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Cool exterior with flowing H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O in “fingers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Remove xtals from inside “skull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Very large samples!  ~k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Typical use:  ZrO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380880" y="3962520"/>
            <a:ext cx="2995560" cy="2286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http://gemologyproject.com/wiki/images/thumb/9/9b/Skull-melting2.jpg/449px-Skull-melting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228600"/>
            <a:ext cx="266688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http://gemologyproject.com/wiki/images/thumb/e/e4/Cubic_Zirconia_Run_Opening.jpg/800px-Cubic_Zirconia_Run_Opening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90720" y="114300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304920" y="3978360"/>
            <a:ext cx="4800600" cy="28796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Optical Floating Zone (Image) meth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486400" y="1294920"/>
            <a:ext cx="32004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Idea: use optical focusing to create floating “hot zon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By slowly advancing feed rod through zone, crystal grows on seed r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an achieve very high temperatures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up to ~2800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403848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Optical Floating Zone (Image) meth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2057400"/>
            <a:ext cx="7343640" cy="4181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1905120" y="1371600"/>
            <a:ext cx="4081320" cy="36147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8"/>
          <p:cNvSpPr/>
          <p:nvPr/>
        </p:nvSpPr>
        <p:spPr>
          <a:xfrm>
            <a:off x="1916280" y="1066680"/>
            <a:ext cx="32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Calibri"/>
              </a:rPr>
              <a:t>Photo credit: G. Balakrishnan, U. Warw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3"/>
          <a:stretch/>
        </p:blipFill>
        <p:spPr>
          <a:xfrm>
            <a:off x="6705720" y="990720"/>
            <a:ext cx="1371600" cy="4002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4"/>
          <a:stretch/>
        </p:blipFill>
        <p:spPr>
          <a:xfrm>
            <a:off x="6248520" y="990720"/>
            <a:ext cx="1981080" cy="4086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5"/>
          <a:stretch/>
        </p:blipFill>
        <p:spPr>
          <a:xfrm>
            <a:off x="5791320" y="1523880"/>
            <a:ext cx="3352680" cy="3846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6"/>
          <a:stretch/>
        </p:blipFill>
        <p:spPr>
          <a:xfrm>
            <a:off x="5638680" y="1523880"/>
            <a:ext cx="3438720" cy="4038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7"/>
          <a:stretch/>
        </p:blipFill>
        <p:spPr>
          <a:xfrm>
            <a:off x="5638680" y="1066680"/>
            <a:ext cx="3353040" cy="5016600"/>
          </a:xfrm>
          <a:prstGeom prst="rect">
            <a:avLst/>
          </a:prstGeom>
          <a:ln w="0">
            <a:noFill/>
          </a:ln>
        </p:spPr>
      </p:pic>
      <p:sp>
        <p:nvSpPr>
          <p:cNvPr id="166" name="Straight Connector 14"/>
          <p:cNvSpPr/>
          <p:nvPr/>
        </p:nvSpPr>
        <p:spPr>
          <a:xfrm>
            <a:off x="4876920" y="2971800"/>
            <a:ext cx="190476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5"/>
          <p:cNvSpPr/>
          <p:nvPr/>
        </p:nvSpPr>
        <p:spPr>
          <a:xfrm flipV="1">
            <a:off x="4876920" y="3809880"/>
            <a:ext cx="1904760" cy="76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6"/>
          <p:cNvSpPr/>
          <p:nvPr/>
        </p:nvSpPr>
        <p:spPr>
          <a:xfrm flipV="1">
            <a:off x="4876920" y="3886200"/>
            <a:ext cx="1981080" cy="380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17"/>
          <p:cNvSpPr/>
          <p:nvPr/>
        </p:nvSpPr>
        <p:spPr>
          <a:xfrm>
            <a:off x="4800600" y="3429000"/>
            <a:ext cx="198108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18"/>
          <p:cNvSpPr/>
          <p:nvPr/>
        </p:nvSpPr>
        <p:spPr>
          <a:xfrm flipH="1">
            <a:off x="7238880" y="3124080"/>
            <a:ext cx="182880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9"/>
          <p:cNvSpPr/>
          <p:nvPr/>
        </p:nvSpPr>
        <p:spPr>
          <a:xfrm flipH="1" flipV="1">
            <a:off x="7238880" y="3809880"/>
            <a:ext cx="1905120" cy="152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20"/>
          <p:cNvSpPr/>
          <p:nvPr/>
        </p:nvSpPr>
        <p:spPr>
          <a:xfrm flipH="1" flipV="1">
            <a:off x="7315200" y="3886200"/>
            <a:ext cx="1828800" cy="380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21"/>
          <p:cNvSpPr/>
          <p:nvPr/>
        </p:nvSpPr>
        <p:spPr>
          <a:xfrm flipH="1">
            <a:off x="7238880" y="3581280"/>
            <a:ext cx="1905120" cy="152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xamples of Float-Zone cryst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6912000" cy="48528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7"/>
          <p:cNvSpPr/>
          <p:nvPr/>
        </p:nvSpPr>
        <p:spPr>
          <a:xfrm>
            <a:off x="1088280" y="5867280"/>
            <a:ext cx="31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600" spc="-1" strike="noStrike">
                <a:solidFill>
                  <a:srgbClr val="000000"/>
                </a:solidFill>
                <a:latin typeface="Calibri"/>
              </a:rPr>
              <a:t>courtesy K. Conder, PSI / ETH-Zu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Growth example:  YBa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u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Calibri"/>
              </a:rPr>
              <a:t>7-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-228600" y="1733400"/>
            <a:ext cx="6924600" cy="5124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6095880" y="4013280"/>
            <a:ext cx="3048120" cy="2844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3"/>
          <a:stretch/>
        </p:blipFill>
        <p:spPr>
          <a:xfrm>
            <a:off x="6400800" y="2133720"/>
            <a:ext cx="2371680" cy="1831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4"/>
          <a:stretch/>
        </p:blipFill>
        <p:spPr>
          <a:xfrm>
            <a:off x="990720" y="2286000"/>
            <a:ext cx="3585960" cy="31240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9"/>
          <p:cNvSpPr/>
          <p:nvPr/>
        </p:nvSpPr>
        <p:spPr>
          <a:xfrm>
            <a:off x="1457640" y="11430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Calibri"/>
              </a:rPr>
              <a:t>R. Liang, U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0"/>
          <p:cNvSpPr/>
          <p:nvPr/>
        </p:nvSpPr>
        <p:spPr>
          <a:xfrm>
            <a:off x="6944760" y="1447920"/>
            <a:ext cx="1825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rucible mater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BaZrO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1"/>
          <p:cNvSpPr/>
          <p:nvPr/>
        </p:nvSpPr>
        <p:spPr>
          <a:xfrm>
            <a:off x="457200" y="1523880"/>
            <a:ext cx="480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Starting materials: Y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 + BaCO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 + CuO 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re are many ways to skin a cat…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s is both a blessing and a curs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ubstantial progress in recent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vailability of high-quality crystals = Ability to extract high-quality scientific result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ingle Cryst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Macroscopic samples with long-r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alignment of periodic atomic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f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powder” samples – many randomly 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oriented microscopic “crystallit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liquid” / amorphous - no long-range 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6477120" y="1295280"/>
            <a:ext cx="1495440" cy="1509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7696080" y="3048120"/>
            <a:ext cx="1160640" cy="1604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6934320" y="4800600"/>
            <a:ext cx="1145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y grow crystal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4479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isotropic properties / direction depend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Easy/hard magnetization a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Anisotropic transport proper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Determine crystal, magnetic structure, Fermi surf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ab plane vs. c-axis properties in layered mater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inimize effects of grain bound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inimize effects of long-range dis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jection of impurity phases / off-stoichio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y’re pretty to look a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y grow crystal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pecific to neutron / x-ray scatt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n powders/liquids, signals are spread into c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Only direction-averaged |Q|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Loss of informatio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Direction-dependent signal of 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interest spread out &amp; convolved 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with uninteresting signals from 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other direction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943600" y="2743200"/>
            <a:ext cx="2800440" cy="222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685800" y="4876920"/>
            <a:ext cx="3505320" cy="176832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6"/>
          <p:cNvCxnSpPr/>
          <p:nvPr/>
        </p:nvCxnSpPr>
        <p:spPr>
          <a:xfrm flipV="1">
            <a:off x="1752480" y="5485680"/>
            <a:ext cx="99144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Straight Arrow Connector 8"/>
          <p:cNvCxnSpPr/>
          <p:nvPr/>
        </p:nvCxnSpPr>
        <p:spPr>
          <a:xfrm flipV="1">
            <a:off x="1752120" y="5562000"/>
            <a:ext cx="129636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Straight Arrow Connector 10"/>
          <p:cNvCxnSpPr/>
          <p:nvPr/>
        </p:nvCxnSpPr>
        <p:spPr>
          <a:xfrm>
            <a:off x="1752480" y="5638680"/>
            <a:ext cx="152496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Straight Arrow Connector 12"/>
          <p:cNvCxnSpPr/>
          <p:nvPr/>
        </p:nvCxnSpPr>
        <p:spPr>
          <a:xfrm>
            <a:off x="1676520" y="5638320"/>
            <a:ext cx="175320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Straight Arrow Connector 14"/>
          <p:cNvCxnSpPr/>
          <p:nvPr/>
        </p:nvCxnSpPr>
        <p:spPr>
          <a:xfrm>
            <a:off x="1676520" y="5638680"/>
            <a:ext cx="18295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Straight Arrow Connector 16"/>
          <p:cNvCxnSpPr/>
          <p:nvPr/>
        </p:nvCxnSpPr>
        <p:spPr>
          <a:xfrm>
            <a:off x="1676160" y="5638680"/>
            <a:ext cx="1905480" cy="610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5257800" y="4952880"/>
            <a:ext cx="3151080" cy="1609920"/>
          </a:xfrm>
          <a:prstGeom prst="rect">
            <a:avLst/>
          </a:prstGeom>
          <a:ln w="0">
            <a:noFill/>
          </a:ln>
        </p:spPr>
      </p:pic>
      <p:cxnSp>
        <p:nvCxnSpPr>
          <p:cNvPr id="65" name="Straight Arrow Connector 23"/>
          <p:cNvCxnSpPr/>
          <p:nvPr/>
        </p:nvCxnSpPr>
        <p:spPr>
          <a:xfrm>
            <a:off x="6095880" y="5562360"/>
            <a:ext cx="152496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y </a:t>
            </a:r>
            <a:r>
              <a:rPr b="0" i="1" lang="en-CA" sz="4400" spc="-1" strike="noStrike">
                <a:solidFill>
                  <a:srgbClr val="000000"/>
                </a:solidFill>
                <a:latin typeface="Calibri"/>
              </a:rPr>
              <a:t>wouldn’t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 you grow crystal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Very time consuming, labor intens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Powders are much easier to make!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Lots of variables in “recipe” to be determ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Method to use, temperature, pressure, atmosphere, cooling rate, crucible material, choice of flux / solvent, choice of starting compounds, control oxygen content, doping levels, size/shape of starting materials, optimize for desired crystal size / orientatio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Calibri"/>
              </a:rPr>
              <a:t>Can it even be grown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Requires specialized equip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Special furnaces, characterization lab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May not be able to reach necessary tempera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May not be able to reach necessary press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May crack / evaporate / decompose / incorporate H</a:t>
            </a:r>
            <a:r>
              <a:rPr b="0" lang="en-CA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Special atmospheres may be need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May form other phases inste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May have large stress/strain, def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Basic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61920" indent="-50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0.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Decide what to ma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Educated guess:  Can it be grown?  Is it worth the effor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Make powder sample of desired mate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Solid state reaction in furna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Wet chemistry method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haracterize pow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XRD, resistivity, susceptibility, TGA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If powder’s good, make crystal from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What metho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Start with small “pilot” sampl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Optimize reci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haracterize crys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Optical, XRD, resistivity, susceptibility, TGA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Make bigger sampl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Definitive measu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Synchrotron, neutrons, muons, NMR, ARPE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Publish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1.  Growth from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 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homogeneous soln -&gt; solid xtals + solv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2.  Growth from gas (vapor)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vaporate powder, deposit vapor onto s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3.  Growth from liquid (melt)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Melt polyxtals of desired materials, slowly c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0000"/>
                </a:solidFill>
                <a:latin typeface="Calibri"/>
              </a:rPr>
              <a:t>1.  Growth from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0000"/>
                </a:solidFill>
                <a:latin typeface="Calibri"/>
              </a:rPr>
              <a:t>Idea: </a:t>
            </a:r>
            <a:br>
              <a:rPr sz="2800"/>
            </a:br>
            <a:r>
              <a:rPr b="1" i="1" lang="en-CA" sz="2800" spc="-1" strike="noStrike">
                <a:solidFill>
                  <a:srgbClr val="ff0000"/>
                </a:solidFill>
                <a:latin typeface="Calibri"/>
              </a:rPr>
              <a:t>homogeneous soln -&gt; solid xtals + solv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2.  Growth from gas (vapor)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vaporate powder, deposit vapor onto s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3.  Growth from liquid (melt)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Melt polyxtals of desired materials, slowly c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8:05:57Z</dcterms:created>
  <dc:creator>Jeremy Carlo</dc:creator>
  <dc:description/>
  <dc:language>en-US</dc:language>
  <cp:lastModifiedBy>ksu</cp:lastModifiedBy>
  <dcterms:modified xsi:type="dcterms:W3CDTF">2011-10-12T21:51:52Z</dcterms:modified>
  <cp:revision>620</cp:revision>
  <dc:subject/>
  <dc:title>Adventures in Crystal Growth</dc:title>
</cp:coreProperties>
</file>