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2.jpeg" ContentType="image/jpeg"/>
  <Override PartName="/ppt/media/image42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.png" ContentType="image/png"/>
  <Override PartName="/ppt/media/image26.png" ContentType="image/png"/>
  <Override PartName="/ppt/media/image3.png" ContentType="image/png"/>
  <Override PartName="/ppt/media/image28.wmf" ContentType="image/x-wmf"/>
  <Override PartName="/ppt/media/image5.wmf" ContentType="image/x-wmf"/>
  <Override PartName="/ppt/media/image35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3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36.png" ContentType="image/png"/>
  <Override PartName="/ppt/media/image47.wmf" ContentType="image/x-wmf"/>
  <Override PartName="/ppt/media/image13.wmf" ContentType="image/x-wmf"/>
  <Override PartName="/ppt/media/image10.jpeg" ContentType="image/jpeg"/>
  <Override PartName="/ppt/media/image41.wmf" ContentType="image/x-wmf"/>
  <Override PartName="/ppt/media/image8.jpeg" ContentType="image/jpeg"/>
  <Override PartName="/ppt/media/image40.png" ContentType="image/png"/>
  <Override PartName="/ppt/media/image38.wmf" ContentType="image/x-wmf"/>
  <Override PartName="/ppt/media/image48.wmf" ContentType="image/x-wmf"/>
  <Override PartName="/ppt/media/image50.png" ContentType="image/png"/>
  <Override PartName="/ppt/media/image33.wmf" ContentType="image/x-wmf"/>
  <Override PartName="/ppt/media/image37.wmf" ContentType="image/x-wmf"/>
  <Override PartName="/ppt/media/image49.wmf" ContentType="image/x-wmf"/>
  <Override PartName="/ppt/media/image32.wmf" ContentType="image/x-wmf"/>
  <Override PartName="/ppt/media/image12.png" ContentType="image/png"/>
  <Override PartName="/ppt/media/image30.wmf" ContentType="image/x-wmf"/>
  <Override PartName="/ppt/media/image6.wmf" ContentType="image/x-wmf"/>
  <Override PartName="/ppt/media/image19.jpeg" ContentType="image/jpeg"/>
  <Override PartName="/ppt/media/image29.wmf" ContentType="image/x-wmf"/>
  <Override PartName="/ppt/media/image7.jpeg" ContentType="image/jpeg"/>
  <Override PartName="/ppt/media/image3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0B54-C020-4C82-ADFC-6154969C0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BBDB-96B6-4530-986A-A55D6B2A32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FDB0-56A1-402E-BA81-69945AC5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F83-73A6-45B9-B583-342E1791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397-35F5-46BF-9E2B-4123CEBE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FEB7-66C4-48F0-8A43-A1B806E9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8FB3-33BE-476E-9F24-0B1ADF2F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2D86-0FF3-48FD-897E-54FA275D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D2DC-89AD-4953-911B-C7296C4A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873C-7E90-4C22-85DC-E49611F7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B160-9FF4-4BF7-842A-DBC713D9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86E6-93D8-403E-94F2-05CAB04A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2A49-E32B-4412-8B94-D147DF86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4F4A-9E75-49C0-BA51-34A7F114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637A-D0EE-429F-836A-267FFD03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13EA-8C58-427F-A27E-D82C930A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853D-975C-47C9-941E-6AFA3081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BE1A-569E-4123-B3F4-380ACA84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5ED5-26E2-438D-87D5-65048A16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019EE-2991-45A7-9148-99D42F48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0774F-87B8-4BC5-91F7-5D870BFB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27FBB-4C3E-4EBD-BD57-EB48CA0E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9115F-3B9E-4764-A9FA-426F220C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BAB21-F321-437E-A025-54B6E952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1CB3-3771-4591-B412-E3132339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1547D-8027-4249-83CF-71FD952A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CA0AB-0689-49D6-80D1-3B4E78C7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19F1A-1898-4FA4-96AC-EF43AD33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FF55E-9C88-4ED9-99EF-BA1B3A4F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D39D4-A0E4-422E-AD97-60EA4552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CCCA2-767D-4F1B-BFF7-E0E8D386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B5EAA-713C-46DC-B131-90451D42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EEE20-700C-4E9D-84ED-4C8C171D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43CEB-627E-467F-85CE-47BCC5C4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E7380-AACA-42A1-9F51-1CA97A57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646-C783-4F90-9E9E-F5794C97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FD498-CE83-49BC-BACB-48EAED43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24F3D-F83C-41B6-85B8-AAFF3545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872BE-5680-4831-BEBE-B4FF8093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864A3-3D83-4B0D-A3FA-9E2430AA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35B58-1FDE-4FB0-8E5E-567406A9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358B6-918A-4B93-9282-B1921084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67104-E9F0-4629-B6FB-58E28A85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101F8-5963-404C-9068-8DDF52E5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D574A-1D75-4C69-8AF4-319935B9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9A2C-0DC3-4673-B9BE-CEED597A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B50C-4FC3-489C-8F68-31E0FEB2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2A4C-5980-46FE-ADF6-EA12327D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9596-7456-4532-B7BB-A58E706A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6B5A-A7B0-421F-80EC-4704C406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404E-5A3B-4D34-BC58-33CB4BB52442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3319-A273-46CD-88F9-0AA7A358795B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284B-9A36-43A5-95EE-C6D1576FD883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0A13-F802-4C8D-A693-B77F30FF2C45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24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5000" spc="-1" strike="noStrike">
              <a:solidFill>
                <a:srgbClr val="eeece1"/>
              </a:solidFill>
              <a:latin typeface="Calibri"/>
              <a:ea typeface="Traditional Arabic"/>
            </a:endParaRPr>
          </a:p>
        </p:txBody>
      </p:sp>
      <p:sp>
        <p:nvSpPr>
          <p:cNvPr id="203" name="WordArt 3"/>
          <p:cNvSpPr txBox="1"/>
          <p:nvPr/>
        </p:nvSpPr>
        <p:spPr>
          <a:xfrm>
            <a:off x="228600" y="1143000"/>
            <a:ext cx="8039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ultural Diversity in Health Car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04" name="Picture 6" descr="E:\PFiles\MSOffice\Clipart\standard\stddir1\BD00115_.WMF"/>
          <p:cNvPicPr/>
          <p:nvPr/>
        </p:nvPicPr>
        <p:blipFill>
          <a:blip r:embed="rId1"/>
          <a:stretch/>
        </p:blipFill>
        <p:spPr>
          <a:xfrm>
            <a:off x="7466040" y="4343400"/>
            <a:ext cx="1287360" cy="1447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E:\PFiles\MSOffice\Clipart\standard\stddir2\BD07786_.WMF"/>
          <p:cNvPicPr/>
          <p:nvPr/>
        </p:nvPicPr>
        <p:blipFill>
          <a:blip r:embed="rId2"/>
          <a:stretch/>
        </p:blipFill>
        <p:spPr>
          <a:xfrm>
            <a:off x="2286000" y="2895480"/>
            <a:ext cx="982800" cy="1524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c:\Program Files\Microsoft Office\Clipart\Pub60Cor\SO01568_.wmf"/>
          <p:cNvPicPr/>
          <p:nvPr/>
        </p:nvPicPr>
        <p:blipFill>
          <a:blip r:embed="rId3"/>
          <a:stretch/>
        </p:blipFill>
        <p:spPr>
          <a:xfrm>
            <a:off x="533520" y="5029200"/>
            <a:ext cx="1527120" cy="1486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E:\PFiles\MSOffice\Clipart\standard\stddir4\PH02944J.jpg"/>
          <p:cNvPicPr/>
          <p:nvPr/>
        </p:nvPicPr>
        <p:blipFill>
          <a:blip r:embed="rId4"/>
          <a:stretch/>
        </p:blipFill>
        <p:spPr>
          <a:xfrm>
            <a:off x="3886200" y="2133720"/>
            <a:ext cx="1731960" cy="2590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E:\PFiles\MSOffice\Clipart\standard\stddir4\PH01577J.jpg"/>
          <p:cNvPicPr/>
          <p:nvPr/>
        </p:nvPicPr>
        <p:blipFill>
          <a:blip r:embed="rId5"/>
          <a:stretch/>
        </p:blipFill>
        <p:spPr>
          <a:xfrm>
            <a:off x="6499080" y="2209680"/>
            <a:ext cx="1413000" cy="2133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E:\PFiles\MSOffice\Clipart\standard\stddir4\PH01850J.jpg"/>
          <p:cNvPicPr/>
          <p:nvPr/>
        </p:nvPicPr>
        <p:blipFill>
          <a:blip r:embed="rId6"/>
          <a:stretch/>
        </p:blipFill>
        <p:spPr>
          <a:xfrm>
            <a:off x="228600" y="2133720"/>
            <a:ext cx="1563840" cy="2361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E:\PFiles\MSOffice\Clipart\standard\stddir4\PH01861J.jpg"/>
          <p:cNvPicPr/>
          <p:nvPr/>
        </p:nvPicPr>
        <p:blipFill>
          <a:blip r:embed="rId7"/>
          <a:stretch/>
        </p:blipFill>
        <p:spPr>
          <a:xfrm>
            <a:off x="2286000" y="5029200"/>
            <a:ext cx="2362320" cy="1558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E:\PFiles\MSOffice\Clipart\standard\stddir4\PH01650J.jpg"/>
          <p:cNvPicPr/>
          <p:nvPr/>
        </p:nvPicPr>
        <p:blipFill>
          <a:blip r:embed="rId8"/>
          <a:stretch/>
        </p:blipFill>
        <p:spPr>
          <a:xfrm>
            <a:off x="5867280" y="4495680"/>
            <a:ext cx="1408320" cy="213372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1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140C-C198-4EF8-8F5A-8995790814A8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World Health Organizatio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tate of complete physical, mental, and social well-being, not merely the absence of disea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Picture 4" descr="E:\PFiles\MSOffice\Clipart\smbusbas\PE07292_.WMF"/>
          <p:cNvPicPr/>
          <p:nvPr/>
        </p:nvPicPr>
        <p:blipFill>
          <a:blip r:embed="rId1"/>
          <a:stretch/>
        </p:blipFill>
        <p:spPr>
          <a:xfrm>
            <a:off x="3124080" y="3733920"/>
            <a:ext cx="2970360" cy="2552760"/>
          </a:xfrm>
          <a:prstGeom prst="rect">
            <a:avLst/>
          </a:prstGeom>
          <a:ln w="0">
            <a:noFill/>
          </a:ln>
        </p:spPr>
      </p:pic>
      <p:sp>
        <p:nvSpPr>
          <p:cNvPr id="241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3BDA-AADA-4633-84E3-0D014A580881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South Africa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rmony with nat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rmony of mind, body, and spiri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4" name="Picture 4" descr="E:\PFiles\MSOffice\Clipart\standard\stddir2\DD01044_.wmf"/>
          <p:cNvPicPr/>
          <p:nvPr/>
        </p:nvPicPr>
        <p:blipFill>
          <a:blip r:embed="rId1"/>
          <a:stretch/>
        </p:blipFill>
        <p:spPr>
          <a:xfrm>
            <a:off x="2362320" y="3429000"/>
            <a:ext cx="4197240" cy="3002040"/>
          </a:xfrm>
          <a:prstGeom prst="rect">
            <a:avLst/>
          </a:prstGeom>
          <a:ln w="0">
            <a:noFill/>
          </a:ln>
        </p:spPr>
      </p:pic>
      <p:sp>
        <p:nvSpPr>
          <p:cNvPr id="245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66F8-BD2B-438E-92FF-2AC5F5BA745C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Asia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hysical and spiritual harmony with nat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alance of yin and ya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1447920" y="4343400"/>
            <a:ext cx="1884240" cy="19051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E:\PFiles\MSOffice\Clipart\corpbas\BD05824_.WMF"/>
          <p:cNvPicPr/>
          <p:nvPr/>
        </p:nvPicPr>
        <p:blipFill>
          <a:blip r:embed="rId2"/>
          <a:stretch/>
        </p:blipFill>
        <p:spPr>
          <a:xfrm>
            <a:off x="4343400" y="4191120"/>
            <a:ext cx="1969920" cy="1957320"/>
          </a:xfrm>
          <a:prstGeom prst="rect">
            <a:avLst/>
          </a:prstGeom>
          <a:ln w="0">
            <a:noFill/>
          </a:ln>
        </p:spPr>
      </p:pic>
      <p:sp>
        <p:nvSpPr>
          <p:cNvPr id="250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82E2-A7F2-4F33-B01A-83409B481F9F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Europea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ersonal responsibility with diet, rest, exercise, and preven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Picture 4" descr="E:\PFiles\MSOffice\Clipart\standard\stddir2\BL00539_.wmf"/>
          <p:cNvPicPr/>
          <p:nvPr/>
        </p:nvPicPr>
        <p:blipFill>
          <a:blip r:embed="rId1"/>
          <a:stretch/>
        </p:blipFill>
        <p:spPr>
          <a:xfrm>
            <a:off x="3581280" y="3276720"/>
            <a:ext cx="1419480" cy="24778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E:\PFiles\MSOffice\Clipart\standard\stddir3\FD00805_.wmf"/>
          <p:cNvPicPr/>
          <p:nvPr/>
        </p:nvPicPr>
        <p:blipFill>
          <a:blip r:embed="rId2"/>
          <a:stretch/>
        </p:blipFill>
        <p:spPr>
          <a:xfrm>
            <a:off x="609480" y="3505320"/>
            <a:ext cx="2438640" cy="2376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E:\PFiles\MSOffice\Clipart\standard\stddir4\PH02045J.jpg"/>
          <p:cNvPicPr/>
          <p:nvPr/>
        </p:nvPicPr>
        <p:blipFill>
          <a:blip r:embed="rId3"/>
          <a:stretch/>
        </p:blipFill>
        <p:spPr>
          <a:xfrm>
            <a:off x="6248520" y="3276720"/>
            <a:ext cx="1815840" cy="274320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FC1A-E141-4863-AED9-5914E0CAAE59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ispanic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od luc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ward from Go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alance between hot and cold forc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Picture 4" descr="E:\PFiles\MSOffice\Clipart\standard\stddir1\AN01950_.wmf"/>
          <p:cNvPicPr/>
          <p:nvPr/>
        </p:nvPicPr>
        <p:blipFill>
          <a:blip r:embed="rId1"/>
          <a:stretch/>
        </p:blipFill>
        <p:spPr>
          <a:xfrm>
            <a:off x="609480" y="4267080"/>
            <a:ext cx="2286000" cy="1609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E:\PFiles\MSOffice\Clipart\standard\stddir3\FD01237_.wmf"/>
          <p:cNvPicPr/>
          <p:nvPr/>
        </p:nvPicPr>
        <p:blipFill>
          <a:blip r:embed="rId2"/>
          <a:stretch/>
        </p:blipFill>
        <p:spPr>
          <a:xfrm>
            <a:off x="3352680" y="4073400"/>
            <a:ext cx="2168640" cy="20052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E:\PFiles\MSOffice\Clipart\standard\stddir4\PH02565J.jpg"/>
          <p:cNvPicPr/>
          <p:nvPr/>
        </p:nvPicPr>
        <p:blipFill>
          <a:blip r:embed="rId3"/>
          <a:stretch/>
        </p:blipFill>
        <p:spPr>
          <a:xfrm>
            <a:off x="6019920" y="4343400"/>
            <a:ext cx="2743200" cy="1809720"/>
          </a:xfrm>
          <a:prstGeom prst="rect">
            <a:avLst/>
          </a:prstGeom>
          <a:ln w="0">
            <a:noFill/>
          </a:ln>
        </p:spPr>
      </p:pic>
      <p:sp>
        <p:nvSpPr>
          <p:cNvPr id="262" name="Slide Number Placeholder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89AD-1926-431A-8E82-A95F70F7B455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Middle Eastern/Arabic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piritual Cau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eanline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Picture 4" descr="c:\Program Files\Microsoft Office\Clipart\Pub60Cor\SO01568_.wmf"/>
          <p:cNvPicPr/>
          <p:nvPr/>
        </p:nvPicPr>
        <p:blipFill>
          <a:blip r:embed="rId1"/>
          <a:stretch/>
        </p:blipFill>
        <p:spPr>
          <a:xfrm>
            <a:off x="3124080" y="3809880"/>
            <a:ext cx="1908360" cy="1857600"/>
          </a:xfrm>
          <a:prstGeom prst="rect">
            <a:avLst/>
          </a:prstGeom>
          <a:ln w="0">
            <a:noFill/>
          </a:ln>
        </p:spPr>
      </p:pic>
      <p:sp>
        <p:nvSpPr>
          <p:cNvPr id="266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9C47-242B-4A83-B1FA-4469F02899E3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ealthful Hints from Long Ago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assafras root carried in the pocket guards against illness.” (superstition of Old Saint Simon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afetida worn on a string around the neck protects a child from many diseases, and a buckeye carried in the pocket protects against rheumatism.” (Blue Ridge and Great Smokey Mts.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D3F7-0BE0-4933-8839-F66405C1C52D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5000" spc="-1" strike="noStrike">
              <a:solidFill>
                <a:srgbClr val="eeece1"/>
              </a:solidFill>
              <a:latin typeface="Calibri"/>
              <a:ea typeface="Traditional Arabic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single, pierced nutmeg, worn around the neck on a string, will protect you from boils, croup, body lice, and various lung diseases.” (New England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well-ventilated bedroom will prevent morning headaches and lassitude.” (1914 Almanac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8FC7-C9FE-447A-B95E-2F89E7E1500D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Illnes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bnormal functioning of a body’s system or system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uses vary based on cultural/ethnic backgroun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Picture 4" descr="c:\Program Files\Microsoft Office\Clipart\Pub60Cor\PE04050_.wmf"/>
          <p:cNvPicPr/>
          <p:nvPr/>
        </p:nvPicPr>
        <p:blipFill>
          <a:blip r:embed="rId1"/>
          <a:stretch/>
        </p:blipFill>
        <p:spPr>
          <a:xfrm>
            <a:off x="4191120" y="4324320"/>
            <a:ext cx="2133360" cy="16398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E:\PFiles\MSOffice\Clipart\standard\stddir3\HM00158_.wmf"/>
          <p:cNvPicPr/>
          <p:nvPr/>
        </p:nvPicPr>
        <p:blipFill>
          <a:blip r:embed="rId2"/>
          <a:stretch/>
        </p:blipFill>
        <p:spPr>
          <a:xfrm>
            <a:off x="762120" y="4648320"/>
            <a:ext cx="2712960" cy="1533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E:\PFiles\MSOffice\Clipart\corpbas\BD05753_.WMF"/>
          <p:cNvPicPr/>
          <p:nvPr/>
        </p:nvPicPr>
        <p:blipFill>
          <a:blip r:embed="rId3"/>
          <a:stretch/>
        </p:blipFill>
        <p:spPr>
          <a:xfrm>
            <a:off x="6553080" y="4114800"/>
            <a:ext cx="2132280" cy="2133720"/>
          </a:xfrm>
          <a:prstGeom prst="rect">
            <a:avLst/>
          </a:prstGeom>
          <a:ln w="0">
            <a:noFill/>
          </a:ln>
        </p:spPr>
      </p:pic>
      <p:sp>
        <p:nvSpPr>
          <p:cNvPr id="278" name="Slide Number Placeholder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C171-CDC2-4EC0-97FF-3B594CDD94A6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South Africa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pirits/dem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nflicts in lif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d’s punish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1" name="Picture 4" descr="E:\PFiles\MSOffice\Clipart\WebArt\NA01488A.gif"/>
          <p:cNvPicPr/>
          <p:nvPr/>
        </p:nvPicPr>
        <p:blipFill>
          <a:blip r:embed="rId1"/>
          <a:stretch/>
        </p:blipFill>
        <p:spPr>
          <a:xfrm>
            <a:off x="1600200" y="3979800"/>
            <a:ext cx="2209680" cy="1700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E:\PFiles\MSOffice\Clipart\standard\stddir4\SY01038_.wmf"/>
          <p:cNvPicPr/>
          <p:nvPr/>
        </p:nvPicPr>
        <p:blipFill>
          <a:blip r:embed="rId2"/>
          <a:stretch/>
        </p:blipFill>
        <p:spPr>
          <a:xfrm>
            <a:off x="5257800" y="3124080"/>
            <a:ext cx="2532240" cy="3048120"/>
          </a:xfrm>
          <a:prstGeom prst="rect">
            <a:avLst/>
          </a:prstGeom>
          <a:ln w="0">
            <a:noFill/>
          </a:ln>
        </p:spPr>
      </p:pic>
      <p:sp>
        <p:nvSpPr>
          <p:cNvPr id="283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D152-D27E-48FB-98C3-F5BF5785C2BC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ulture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t of values, beliefs, attitudes, languages, symbols, rituals, behaviors, customs of a group of peop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earned and shar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ynamic and chang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5342-92E7-4A28-B22D-E2E338C9ABFD}" type="slidenum">
              <a:rPr b="0" lang="en-US" sz="18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Asia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mbalance of yin and ya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pernatural forc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nhealthy environme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6" name="Picture 4" descr="E:\PFiles\MSOffice\Clipart\standard\stddir2\BS00385_.wmf"/>
          <p:cNvPicPr/>
          <p:nvPr/>
        </p:nvPicPr>
        <p:blipFill>
          <a:blip r:embed="rId1"/>
          <a:stretch/>
        </p:blipFill>
        <p:spPr>
          <a:xfrm>
            <a:off x="1219320" y="4267080"/>
            <a:ext cx="1820880" cy="1662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E:\PFiles\MSOffice\Clipart\standard\stddir3\NA01606_.wmf"/>
          <p:cNvPicPr/>
          <p:nvPr/>
        </p:nvPicPr>
        <p:blipFill>
          <a:blip r:embed="rId2"/>
          <a:stretch/>
        </p:blipFill>
        <p:spPr>
          <a:xfrm>
            <a:off x="5029200" y="4181400"/>
            <a:ext cx="2209680" cy="1674720"/>
          </a:xfrm>
          <a:prstGeom prst="rect">
            <a:avLst/>
          </a:prstGeom>
          <a:ln w="0">
            <a:noFill/>
          </a:ln>
        </p:spPr>
      </p:pic>
      <p:sp>
        <p:nvSpPr>
          <p:cNvPr id="288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1458-F7E5-4EB2-B5D6-7A77C278D811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Europea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utside sources: microorganisms, toxi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1" name="Picture 4" descr="c:\Program Files\Common Files\Microsoft Shared\Clipart\cagcat50\BD08208_.WMF"/>
          <p:cNvPicPr/>
          <p:nvPr/>
        </p:nvPicPr>
        <p:blipFill>
          <a:blip r:embed="rId1"/>
          <a:stretch/>
        </p:blipFill>
        <p:spPr>
          <a:xfrm>
            <a:off x="685800" y="3962520"/>
            <a:ext cx="1674720" cy="1801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E:\PFiles\MSOffice\Clipart\standard\stddir3\HM00158_.wmf"/>
          <p:cNvPicPr/>
          <p:nvPr/>
        </p:nvPicPr>
        <p:blipFill>
          <a:blip r:embed="rId2"/>
          <a:stretch/>
        </p:blipFill>
        <p:spPr>
          <a:xfrm>
            <a:off x="2819520" y="4038480"/>
            <a:ext cx="2712960" cy="15336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E:\PFiles\MSOffice\Clipart\standard\stddir4\SY01064_.wmf"/>
          <p:cNvPicPr/>
          <p:nvPr/>
        </p:nvPicPr>
        <p:blipFill>
          <a:blip r:embed="rId3"/>
          <a:stretch/>
        </p:blipFill>
        <p:spPr>
          <a:xfrm>
            <a:off x="5791320" y="3581280"/>
            <a:ext cx="2963880" cy="265140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F92F-34AE-4F94-8028-032B79E51431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ispanic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igh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vil Ey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nv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mbalance between hot and col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7" name="Picture 4" descr="E:\PFiles\MSOffice\Clipart\standard\stddir4\SY01038_.wmf"/>
          <p:cNvPicPr/>
          <p:nvPr/>
        </p:nvPicPr>
        <p:blipFill>
          <a:blip r:embed="rId1"/>
          <a:stretch/>
        </p:blipFill>
        <p:spPr>
          <a:xfrm>
            <a:off x="4876920" y="914400"/>
            <a:ext cx="2881080" cy="3468600"/>
          </a:xfrm>
          <a:prstGeom prst="rect">
            <a:avLst/>
          </a:prstGeom>
          <a:ln w="0">
            <a:noFill/>
          </a:ln>
        </p:spPr>
      </p:pic>
      <p:sp>
        <p:nvSpPr>
          <p:cNvPr id="298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A5F4-6FD7-4888-9D50-741E5E7E5DA3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Middle Eastern/Arab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vil Ey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piritual cau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1" name="Picture 4" descr="E:\PFiles\MSOffice\Clipart\standard\stddir1\BD05662_.WMF"/>
          <p:cNvPicPr/>
          <p:nvPr/>
        </p:nvPicPr>
        <p:blipFill>
          <a:blip r:embed="rId1"/>
          <a:stretch/>
        </p:blipFill>
        <p:spPr>
          <a:xfrm>
            <a:off x="4191120" y="2666880"/>
            <a:ext cx="3868560" cy="344340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5AF7-4BDC-42A1-8063-AF2A2EBFB57B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Native America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upernatural forc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iolation of a tabo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mbalance between man and nat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5" name="Picture 4" descr="E:\PFiles\MSOffice\Clipart\standard\stddir1\BD06437_.WMF"/>
          <p:cNvPicPr/>
          <p:nvPr/>
        </p:nvPicPr>
        <p:blipFill>
          <a:blip r:embed="rId1"/>
          <a:stretch/>
        </p:blipFill>
        <p:spPr>
          <a:xfrm>
            <a:off x="3124080" y="4495680"/>
            <a:ext cx="2667240" cy="19256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E:\PFiles\MSOffice\Clipart\standard\stddir1\AN03316_.wmf"/>
          <p:cNvPicPr/>
          <p:nvPr/>
        </p:nvPicPr>
        <p:blipFill>
          <a:blip r:embed="rId2"/>
          <a:stretch/>
        </p:blipFill>
        <p:spPr>
          <a:xfrm>
            <a:off x="304920" y="4572000"/>
            <a:ext cx="2819160" cy="18730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E:\PFiles\MSOffice\Clipart\standard\stddir3\NA01672_.wmf"/>
          <p:cNvPicPr/>
          <p:nvPr/>
        </p:nvPicPr>
        <p:blipFill>
          <a:blip r:embed="rId3"/>
          <a:stretch/>
        </p:blipFill>
        <p:spPr>
          <a:xfrm>
            <a:off x="6172200" y="4038480"/>
            <a:ext cx="2428920" cy="2478240"/>
          </a:xfrm>
          <a:prstGeom prst="rect">
            <a:avLst/>
          </a:prstGeom>
          <a:ln w="0">
            <a:noFill/>
          </a:ln>
        </p:spPr>
      </p:pic>
      <p:sp>
        <p:nvSpPr>
          <p:cNvPr id="308" name="Slide Number Placeholder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15C7-A15F-4B65-8C70-1EBF5FBF92CD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Folk Remedie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eliefs and practices ethnically simi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ligion plays a role in perception of, interpretation of, and behavior in health and illne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omen are usually the prime caregiv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n create delay in seeking professional hel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1797-947D-449F-9DF0-2F890AFD1B24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Prevention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ewish: camphor around the neck in winter in a small cloth bag to prevent measles and scarlet fev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lack and Native Americans: blackstrap molas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lack Africans (Ethiopia): eat hot &amp; sour foods i.e. lemons, fresh garlic, pepp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A020-86C3-4176-91A0-06D5C750C405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Prevention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ermans: no sweets at meals, drink glass of water at meals, cod-liver oil, plenty of milk, spring tonic (sulfured molasse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slam: dress properly for the season &amp; weather, keep feet from getting wet in the rai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76A3-E7BF-484A-81C7-342FA82B110B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Preventions: Irish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ean out bowels with senna for 8 day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pring tonic of sulfured molas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ions under the bed to keep nasal passages cle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ag of camphor around the neck during flu seas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B4CD-93F1-4AA8-9063-EC3EF469C94E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Preventions: Irish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ver go to bed with wet hai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on’t look in the mirror at night &amp; close closet doors (prevents evil spirits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at lots of oily foo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ake Father John’s Medicine every so ofte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C0D9-4908-45F8-98F7-12D314815A6D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Ethnicity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assification of people based on national origin or cult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amples: African American, Asian American, European American, Hispanic American, Middle Eastern/Arabic American, Native America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9B0D-D9AA-45EA-9ACD-B9469B629D0E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Preventions: Italia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arlic cloves strung on a piece of string around neck of infants and children to prevent colds and “evil” star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d ribbon around neck of infant does the same th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ver wash or bathe during perio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4E55-095D-44C3-999F-31965CE5574A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Preventions: Italia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ver wash hair before going outdoors or at nigh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eep a pair of open scissors under mattress of crib to prevent “evil” in newbor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rap a bandage around the baby from the waist to the feet for 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s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6 months to prevent bowleg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251A-D8D5-4619-87F9-9F193AD29A4C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ome Treatments: Jewish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re throat: find salted herring, wrap it in a towel, put it around the neck, let it stay there overnight, gargle with salt wat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oils: fry chopped onions, make a compress and apply to the infectio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C746-5CA9-4331-938E-DC66F3CB0EE1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eece1"/>
                </a:solidFill>
                <a:latin typeface="Calibri"/>
              </a:rPr>
              <a:t>Home Treatments: Blacks/Native Americans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loody nose: place keys on chain around nec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re throat: suck yolks out of egg shell, honey and lemon, baking soda, salt , warm water, onions around the nec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F23D-6ECF-409D-BC65-2B6C1B13E49D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eece1"/>
                </a:solidFill>
                <a:latin typeface="Calibri"/>
              </a:rPr>
              <a:t>Home Treatments: Black African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vil Eye: put some kind of plant root on fire and make the man who has the evil eye smile and the man talks about his illne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B482-B5AC-43F0-9E31-272777AF40CB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ome Treatments: German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ughs: honey &amp; vinegar; boiled onion water, honey, &amp; lemon; hot water &amp; Vick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wollen glands/mumps: put pepper on salt pork and tie around the nec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arache: few drops of warm milk in the ear, laxatives when neede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0C1E-909E-4B3A-A385-9BF0BCD3A837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ome Treatments: German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y: cold tea-leaf compres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ever: mix whiskey, water, &amp; lemon juice to drink before bed (causes person to sweat and break fever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nstipation: Ivory soap suppositor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FCA2-F1EA-4AF9-B9F2-D810CF7310A8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ome Treatments: Islam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re throat: gargle with vinegar and wat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digestion: baking soda and wat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re muscles: alcohol and wat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ashes: apply corn starc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CCAE-EBED-4D7E-9298-653DAC14376E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ome Treatments: Irish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964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e doctor only in an emergenc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arache: heat salt, put in stocking behind e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ever: spirits of niter on a dry sugar cub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lds: hot lemonade and a tablespoon of whiskey; egg whites; ipeca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EE8B-9126-4ED6-B231-806A6CD9631B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ome Treatments: Irish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ughs: linseed poultice on chest; flaxseed poultice on back; red flannel cloth soaked in hot water and placed on chest all nigh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nstrual cramps: hot milk sprinkled with ginger, glass of warm wine, hot-water bottle on stomac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BBD8-41A6-4B12-9E89-BE947BE9C6B2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Race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assification of people based on physical or biological characteristic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volves multiple cultures and ethnic group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8608-7F90-472D-B909-14793BF588BC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ome Treatments: Irish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ausea:  castor oil, hot ginger ale, cup of hot boiled wat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re throat: paint throat with iodine, honey and lemon, Karo syrup; paint with kerosene oil with rag then tie sock around the neck; paint with iodine or Mercurochrome and gargle with salt water, honey melted Vick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BDB2-497B-4C0C-BD5C-234A6B505144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ome Treatments: Italia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icken soup for everyth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oils: cooked oatmeal wrapped in a cloth (steaming hot) and applied to drain pu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adache: kerchief with ice in it wrapped around the hea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ramps: crème de menth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5FF6-C818-4D73-B7F8-7D9419AA385C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ome Treatments: Italian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cne: apply baby’s urin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o build up blood: eggnog with brandy; Marsala wine and milk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Backache: place a silver dollar on the sore area and light a match to it, while the match is burning put a glass over the silver dollar and slightly lift the glass, this causes suction which lifts the pain ou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2195-CC0B-4641-8521-DF2EB4380290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55440" y="1255680"/>
            <a:ext cx="8339400" cy="20113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Cultural Diversity in Health and Illnes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, Second Edition, p.7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5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B2CD-E590-4198-8FC9-8BC643BD12A7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Belief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tandardized definitions of health and illnes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omnipotence of technology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8" name="Picture 5" descr="c:\Program Files\Common Files\Microsoft Shared\Clipart\cagcat50\BD06639_.WMF"/>
          <p:cNvPicPr/>
          <p:nvPr/>
        </p:nvPicPr>
        <p:blipFill>
          <a:blip r:embed="rId1"/>
          <a:stretch/>
        </p:blipFill>
        <p:spPr>
          <a:xfrm>
            <a:off x="5632560" y="3284640"/>
            <a:ext cx="1841400" cy="184140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314C-08BC-4EDB-887C-63113365420A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Practice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maintenance of health and the prevention of disease through such mechanisms as the avoidance of stress and the use of immunizations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nual physical examinations and diagnostic procedures such as Pap smears”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2" name="Picture 5" descr="c:\Program Files\Common Files\Microsoft Shared\Clipart\cagcat50\HM00163_.wmf"/>
          <p:cNvPicPr/>
          <p:nvPr/>
        </p:nvPicPr>
        <p:blipFill>
          <a:blip r:embed="rId1"/>
          <a:stretch/>
        </p:blipFill>
        <p:spPr>
          <a:xfrm>
            <a:off x="3492360" y="836640"/>
            <a:ext cx="1771920" cy="1251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E:\PFiles\MSOffice\Clipart\standard\stddir3\HM00314_.wmf"/>
          <p:cNvPicPr/>
          <p:nvPr/>
        </p:nvPicPr>
        <p:blipFill>
          <a:blip r:embed="rId2"/>
          <a:stretch/>
        </p:blipFill>
        <p:spPr>
          <a:xfrm>
            <a:off x="3573360" y="5257800"/>
            <a:ext cx="1365480" cy="1411200"/>
          </a:xfrm>
          <a:prstGeom prst="rect">
            <a:avLst/>
          </a:prstGeom>
          <a:ln w="0">
            <a:noFill/>
          </a:ln>
        </p:spPr>
      </p:pic>
      <p:sp>
        <p:nvSpPr>
          <p:cNvPr id="374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1D21-AEF2-4FF7-A7F7-28FB4B94EB9D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abit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376" name="Picture 5" descr="E:\PFiles\MSOffice\Clipart\WebArt\SY00966A.gif"/>
          <p:cNvPicPr/>
          <p:nvPr/>
        </p:nvPicPr>
        <p:blipFill>
          <a:blip r:embed="rId1"/>
          <a:stretch/>
        </p:blipFill>
        <p:spPr>
          <a:xfrm>
            <a:off x="2104920" y="371952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4796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harting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constant use of jargon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“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Use of a systematic approach and problem-solving methodology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2F9E-A423-41A8-872B-30EB8696B8CA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Like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mptness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atness and organization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pliance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81" name="Picture 6" descr="E:\PFiles\MSOffice\Clipart\standard\stddir1\BD06505_.WMF"/>
          <p:cNvPicPr/>
          <p:nvPr/>
        </p:nvPicPr>
        <p:blipFill>
          <a:blip r:embed="rId1"/>
          <a:stretch/>
        </p:blipFill>
        <p:spPr>
          <a:xfrm>
            <a:off x="6324480" y="4267080"/>
            <a:ext cx="1779840" cy="1760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E:\PFiles\MSOffice\Clipart\standard\stddir1\BD06515_.WMF"/>
          <p:cNvPicPr/>
          <p:nvPr/>
        </p:nvPicPr>
        <p:blipFill>
          <a:blip r:embed="rId2"/>
          <a:stretch/>
        </p:blipFill>
        <p:spPr>
          <a:xfrm>
            <a:off x="457200" y="4267080"/>
            <a:ext cx="1752480" cy="17892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E:\PFiles\MSOffice\Clipart\corpbas\BD19824_.WMF"/>
          <p:cNvPicPr/>
          <p:nvPr/>
        </p:nvPicPr>
        <p:blipFill>
          <a:blip r:embed="rId3"/>
          <a:stretch/>
        </p:blipFill>
        <p:spPr>
          <a:xfrm>
            <a:off x="3962520" y="1143000"/>
            <a:ext cx="1373040" cy="144144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175D-2C7E-45E4-B993-ED03B76715D5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Dislike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ardiness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isorderliness and disorganization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87" name="Picture 5" descr="E:\PFiles\MSOffice\Clipart\standard\stddir2\BS02014_.WMF"/>
          <p:cNvPicPr/>
          <p:nvPr/>
        </p:nvPicPr>
        <p:blipFill>
          <a:blip r:embed="rId1"/>
          <a:stretch/>
        </p:blipFill>
        <p:spPr>
          <a:xfrm>
            <a:off x="5881680" y="3108240"/>
            <a:ext cx="1343160" cy="2193840"/>
          </a:xfrm>
          <a:prstGeom prst="rect">
            <a:avLst/>
          </a:prstGeom>
          <a:ln w="0">
            <a:noFill/>
          </a:ln>
        </p:spPr>
      </p:pic>
      <p:sp>
        <p:nvSpPr>
          <p:cNvPr id="38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97D8-762E-42E2-A996-8E40476982FF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ustom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fessional deference and adherence to the ‘pecking order’ found in autocratic and bureaucratic system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1" name="Picture 5" descr="c:\Program Files\Common Files\Microsoft Shared\Clipart\cagcat50\BD05515_.WMF"/>
          <p:cNvPicPr/>
          <p:nvPr/>
        </p:nvPicPr>
        <p:blipFill>
          <a:blip r:embed="rId1"/>
          <a:stretch/>
        </p:blipFill>
        <p:spPr>
          <a:xfrm>
            <a:off x="2971800" y="3581280"/>
            <a:ext cx="2825640" cy="3038760"/>
          </a:xfrm>
          <a:prstGeom prst="rect">
            <a:avLst/>
          </a:prstGeom>
          <a:ln w="0">
            <a:noFill/>
          </a:ln>
        </p:spPr>
      </p:pic>
      <p:sp>
        <p:nvSpPr>
          <p:cNvPr id="392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A267-DB87-48F6-8942-BBBF6422A3AE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ultural Diversity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fferences based on cultural, ethnic, and racial facto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st be considered when providing health car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althcare providers must recognize and appreciate the characteristics of all pati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E89F-E01C-46BF-A371-E2FE14DBEE29}" type="slidenum">
              <a:rPr b="0" lang="en-US" sz="24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ustom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ndwashing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5" name="Picture 4" descr="E:\PFiles\MSOffice\Clipart\smbusbas\BD20109_.WMF"/>
          <p:cNvPicPr/>
          <p:nvPr/>
        </p:nvPicPr>
        <p:blipFill>
          <a:blip r:embed="rId1"/>
          <a:stretch/>
        </p:blipFill>
        <p:spPr>
          <a:xfrm>
            <a:off x="4114800" y="1600200"/>
            <a:ext cx="3035160" cy="3583080"/>
          </a:xfrm>
          <a:prstGeom prst="rect">
            <a:avLst/>
          </a:prstGeom>
          <a:ln w="0">
            <a:noFill/>
          </a:ln>
        </p:spPr>
      </p:pic>
      <p:sp>
        <p:nvSpPr>
          <p:cNvPr id="396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476E-5DEE-4BCF-9E2C-42930AD6780C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ustom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mployment of certain procedures attending birth and death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9" name="Picture 4" descr="E:\PFiles\MSOffice\Clipart\smbusbas\BD20125_.WMF"/>
          <p:cNvPicPr/>
          <p:nvPr/>
        </p:nvPicPr>
        <p:blipFill>
          <a:blip r:embed="rId1"/>
          <a:stretch/>
        </p:blipFill>
        <p:spPr>
          <a:xfrm>
            <a:off x="1905120" y="3352680"/>
            <a:ext cx="5181480" cy="2882880"/>
          </a:xfrm>
          <a:prstGeom prst="rect">
            <a:avLst/>
          </a:prstGeom>
          <a:ln w="0">
            <a:noFill/>
          </a:ln>
        </p:spPr>
      </p:pic>
      <p:sp>
        <p:nvSpPr>
          <p:cNvPr id="400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165E-4F7D-4E67-8B0D-EC2BEFE146BE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Ritual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physical examination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surgical procedure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70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Limiting visitors and visiting hours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3" name="Picture 5" descr="E:\PFiles\MSOffice\Clipart\smbusbas\BD20074_.WMF"/>
          <p:cNvPicPr/>
          <p:nvPr/>
        </p:nvPicPr>
        <p:blipFill>
          <a:blip r:embed="rId1"/>
          <a:stretch/>
        </p:blipFill>
        <p:spPr>
          <a:xfrm>
            <a:off x="4648320" y="1981080"/>
            <a:ext cx="3962160" cy="3741840"/>
          </a:xfrm>
          <a:prstGeom prst="rect">
            <a:avLst/>
          </a:prstGeom>
          <a:ln w="0">
            <a:noFill/>
          </a:ln>
        </p:spPr>
      </p:pic>
      <p:sp>
        <p:nvSpPr>
          <p:cNvPr id="404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569F-A888-4032-84F2-7E2E905FEFFB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eece1"/>
                </a:solidFill>
                <a:latin typeface="Calibri"/>
              </a:rPr>
              <a:t>Cultural Beliefs Concerning Epidemiology and Pain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dical culture is in direct opposition sometim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acteria/viruses/carcinogens/pollutants versus “soul loss”/”spirit possession”/voodoo/witchcraf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ree, open expression of feelings versus never revealing true feeling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974A-B928-4ED7-9A6D-5FA57F64FC96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ealthcare Providers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st change to accommodate other cultural beliefs and behaviors towards health and illne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0" name="Picture 4" descr="c:\Program Files\Common Files\Microsoft Shared\Clipart\cagcat50\BD06662_.WMF"/>
          <p:cNvPicPr/>
          <p:nvPr/>
        </p:nvPicPr>
        <p:blipFill>
          <a:blip r:embed="rId1"/>
          <a:stretch/>
        </p:blipFill>
        <p:spPr>
          <a:xfrm>
            <a:off x="2971800" y="3886200"/>
            <a:ext cx="2286000" cy="2022480"/>
          </a:xfrm>
          <a:prstGeom prst="rect">
            <a:avLst/>
          </a:prstGeom>
          <a:ln w="0">
            <a:noFill/>
          </a:ln>
        </p:spPr>
      </p:pic>
      <p:sp>
        <p:nvSpPr>
          <p:cNvPr id="411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B771-1E64-4B92-B975-2F2966C68C07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22400" y="-60480"/>
            <a:ext cx="8802360" cy="33213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mbrace Diversity in Medicine. Teach Tolerance to Healthcare Providers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BA3D-B7F4-4E8F-9E05-8A8BDEEE9AC9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Holistic Care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st be developed to include cultural diversity of Americ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ddresses 3 aspects of well-being: mental/emotional, physical, and soci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2F57-2D21-4D15-84E0-410EF9F3F877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Areas of Cultural Diversity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amily organiz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nguag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ersonal spa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uch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ye contac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estur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alth care belief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piritual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lig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9C18-764C-494B-A156-6D4E786A265F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eeece1"/>
                </a:solidFill>
                <a:latin typeface="Calibri"/>
              </a:rPr>
              <a:t>Cultural Diversity Impacts Beliefs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irt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at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alt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llne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alth Ca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5E51-6B5F-47A3-BDE8-E0C3952DCF9A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Rectangle 2" descr=""/>
          <p:cNvPicPr/>
          <p:nvPr/>
        </p:nvPicPr>
        <p:blipFill>
          <a:blip r:embed="rId1"/>
          <a:stretch/>
        </p:blipFill>
        <p:spPr>
          <a:xfrm>
            <a:off x="66600" y="1481040"/>
            <a:ext cx="8334360" cy="19018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Varies Based on Cultural Backgroun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552E-99B7-42A3-9F33-FBB1A3C65D86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0T06:37:59Z</dcterms:created>
  <dc:creator>Valued Gateway Client</dc:creator>
  <dc:description/>
  <dc:language>en-US</dc:language>
  <cp:lastModifiedBy>admin</cp:lastModifiedBy>
  <dcterms:modified xsi:type="dcterms:W3CDTF">2013-08-01T21:38:54Z</dcterms:modified>
  <cp:revision>17</cp:revision>
  <dc:subject/>
  <dc:title>PowerPoint Presentation</dc:title>
</cp:coreProperties>
</file>