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40.png" ContentType="image/png"/>
  <Override PartName="/ppt/media/image38.wmf" ContentType="image/x-wmf"/>
  <Override PartName="/ppt/media/image48.wmf" ContentType="image/x-wmf"/>
  <Override PartName="/ppt/media/image50.png" ContentType="image/png"/>
  <Override PartName="/ppt/media/image33.wmf" ContentType="image/x-wmf"/>
  <Override PartName="/ppt/media/image37.wmf" ContentType="image/x-wmf"/>
  <Override PartName="/ppt/media/image49.wmf" ContentType="image/x-wmf"/>
  <Override PartName="/ppt/media/image32.wmf" ContentType="image/x-wmf"/>
  <Override PartName="/ppt/media/image12.png" ContentType="image/png"/>
  <Override PartName="/ppt/media/image30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7.jpeg" ContentType="image/jpeg"/>
  <Override PartName="/ppt/media/image3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0AA-639C-42CD-B629-78C728C1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F743-51C6-4959-B4DB-63947387C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F66-28A2-4251-A8E0-7227175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100-02D2-4856-BCB7-20EFC8C8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44B-890B-4B18-918F-3E13E6A5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BA5-4185-48F3-9C1C-B83E9124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9EC-D2EF-4585-87FB-6A1B9FC8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0B4-365F-4D89-9509-4689879F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D132-E7A0-479C-9825-7FE19B2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19CF-9CEE-4671-A91A-ADA1E5EF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F838-C3DA-4223-AACD-E07DE9F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9D4B-B37E-4D12-BB7E-E0E0EF0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59B-7224-41E0-903C-BC51086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9D1-D7CD-49D4-8B36-26CC3E4C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D632-7CC5-4E18-B66A-0F55273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FB7C-ACAF-42E1-9B89-B419F46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BCDE-4854-487C-A7DF-3487734C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CE5D-C0B4-4F02-92C4-296C11B8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DDC-6C4E-4A27-9A60-BBF31EC7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530C-321B-4A4F-BA93-33BFA761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F0A6-5E59-4E5D-B65D-7601776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3BA6-7490-49BC-B02F-B7CA86DD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484C-BD37-427F-8F8D-7563CCB1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971B-6020-4DF7-93AD-3257B90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C74-2703-4D27-8BFD-D3EC4F6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9632-A26F-406A-A152-7C63B5B1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8FE2-BF69-49EF-AB2C-6B5C139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36FD-B303-4284-948C-F07081F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B309-4F07-4DD1-B835-EDF5148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BEE8-1E1A-4863-9BDB-40F7819A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59E6-5129-4A59-B721-71F96C50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C402-014E-4EAF-9ECD-E195B31F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148D-3DF5-465A-8880-C1694A86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D435-BFCC-42C1-8D4F-C24BDD4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6185-6E63-4E2D-91C3-89FEC48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933-CF54-4F37-94D5-D8ED83B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BAB1-9800-4913-8CB2-3E5DCB3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979C-B91A-40F5-A835-34D1D06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C6E6-4DDC-41A8-B5EA-BB1D780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75F6-6D4A-4D74-82DC-DB3F803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9947-6AFB-48C9-9BFA-28FE6EC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F9EB-A6C9-4674-A39F-803F351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84BB-396B-4FC5-82FF-07346F5F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953B-A6D1-4DA8-A9A9-7825D2A8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33F9-DA76-4D3D-BCF9-A9FF6E6A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0A6-1E41-4EA7-81E0-67621091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16A-C9C4-4636-B3BF-9962E5A7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8DB-06D7-4334-ABAE-17C51671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FAE-F969-4D7F-9B84-7E933E1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08D-8642-452E-96C0-B135D3F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FE66-4EF8-4B4A-A06A-1D81D7D84AC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3433-FBCD-46E2-9C56-A8E5AF0802F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A01-71A1-4222-B32D-F11D7BC5884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ECF-B2A6-47E8-BE34-3B0A1E29AA3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4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eeece1"/>
              </a:solidFill>
              <a:latin typeface="Calibri"/>
              <a:ea typeface="Traditional Arabic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228600" y="1143000"/>
            <a:ext cx="803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ultural Diversity in Health Ca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4" name="Picture 6" descr="E:\PFiles\MSOffice\Clipart\standard\stddir1\BD00115_.WMF"/>
          <p:cNvPicPr/>
          <p:nvPr/>
        </p:nvPicPr>
        <p:blipFill>
          <a:blip r:embed="rId1"/>
          <a:stretch/>
        </p:blipFill>
        <p:spPr>
          <a:xfrm>
            <a:off x="7466040" y="4343400"/>
            <a:ext cx="1287360" cy="144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E:\PFiles\MSOffice\Clipart\standard\stddir2\BD07786_.WMF"/>
          <p:cNvPicPr/>
          <p:nvPr/>
        </p:nvPicPr>
        <p:blipFill>
          <a:blip r:embed="rId2"/>
          <a:stretch/>
        </p:blipFill>
        <p:spPr>
          <a:xfrm>
            <a:off x="2286000" y="2895480"/>
            <a:ext cx="982800" cy="152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Program Files\Microsoft Office\Clipart\Pub60Cor\SO01568_.wmf"/>
          <p:cNvPicPr/>
          <p:nvPr/>
        </p:nvPicPr>
        <p:blipFill>
          <a:blip r:embed="rId3"/>
          <a:stretch/>
        </p:blipFill>
        <p:spPr>
          <a:xfrm>
            <a:off x="533520" y="5029200"/>
            <a:ext cx="1527120" cy="14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E:\PFiles\MSOffice\Clipart\standard\stddir4\PH02944J.jpg"/>
          <p:cNvPicPr/>
          <p:nvPr/>
        </p:nvPicPr>
        <p:blipFill>
          <a:blip r:embed="rId4"/>
          <a:stretch/>
        </p:blipFill>
        <p:spPr>
          <a:xfrm>
            <a:off x="3886200" y="2133720"/>
            <a:ext cx="1731960" cy="259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E:\PFiles\MSOffice\Clipart\standard\stddir4\PH01577J.jpg"/>
          <p:cNvPicPr/>
          <p:nvPr/>
        </p:nvPicPr>
        <p:blipFill>
          <a:blip r:embed="rId5"/>
          <a:stretch/>
        </p:blipFill>
        <p:spPr>
          <a:xfrm>
            <a:off x="6499080" y="2209680"/>
            <a:ext cx="141300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E:\PFiles\MSOffice\Clipart\standard\stddir4\PH01850J.jpg"/>
          <p:cNvPicPr/>
          <p:nvPr/>
        </p:nvPicPr>
        <p:blipFill>
          <a:blip r:embed="rId6"/>
          <a:stretch/>
        </p:blipFill>
        <p:spPr>
          <a:xfrm>
            <a:off x="228600" y="2133720"/>
            <a:ext cx="1563840" cy="2361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E:\PFiles\MSOffice\Clipart\standard\stddir4\PH01861J.jpg"/>
          <p:cNvPicPr/>
          <p:nvPr/>
        </p:nvPicPr>
        <p:blipFill>
          <a:blip r:embed="rId7"/>
          <a:stretch/>
        </p:blipFill>
        <p:spPr>
          <a:xfrm>
            <a:off x="2286000" y="5029200"/>
            <a:ext cx="2362320" cy="155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E:\PFiles\MSOffice\Clipart\standard\stddir4\PH01650J.jpg"/>
          <p:cNvPicPr/>
          <p:nvPr/>
        </p:nvPicPr>
        <p:blipFill>
          <a:blip r:embed="rId8"/>
          <a:stretch/>
        </p:blipFill>
        <p:spPr>
          <a:xfrm>
            <a:off x="5867280" y="4495680"/>
            <a:ext cx="1408320" cy="21337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1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397-02AC-4A79-9C55-E46E03DA678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World Health Organizatio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te of complete physical, mental, and social well-being, not merely the absence of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4" descr="E:\PFiles\MSOffice\Clipart\smbusbas\PE07292_.WMF"/>
          <p:cNvPicPr/>
          <p:nvPr/>
        </p:nvPicPr>
        <p:blipFill>
          <a:blip r:embed="rId1"/>
          <a:stretch/>
        </p:blipFill>
        <p:spPr>
          <a:xfrm>
            <a:off x="3124080" y="3733920"/>
            <a:ext cx="2970360" cy="255276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ED7-7345-478C-A631-0553E4D6EB3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South Af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rmony with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rmony of mind, body, and spiri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4" name="Picture 4" descr="E:\PFiles\MSOffice\Clipart\standard\stddir2\DD01044_.wmf"/>
          <p:cNvPicPr/>
          <p:nvPr/>
        </p:nvPicPr>
        <p:blipFill>
          <a:blip r:embed="rId1"/>
          <a:stretch/>
        </p:blipFill>
        <p:spPr>
          <a:xfrm>
            <a:off x="2362320" y="3429000"/>
            <a:ext cx="4197240" cy="300204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0B3-746A-4483-A654-C54750FD75F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s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ysical and spiritual harmony with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lance of yin and ya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88424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E:\PFiles\MSOffice\Clipart\corpbas\BD05824_.WMF"/>
          <p:cNvPicPr/>
          <p:nvPr/>
        </p:nvPicPr>
        <p:blipFill>
          <a:blip r:embed="rId2"/>
          <a:stretch/>
        </p:blipFill>
        <p:spPr>
          <a:xfrm>
            <a:off x="4343400" y="4191120"/>
            <a:ext cx="1969920" cy="19573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41D-E811-4AA7-A094-B46239E88DB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urope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onal responsibility with diet, rest, exercise, and preven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4" descr="E:\PFiles\MSOffice\Clipart\standard\stddir2\BL00539_.wmf"/>
          <p:cNvPicPr/>
          <p:nvPr/>
        </p:nvPicPr>
        <p:blipFill>
          <a:blip r:embed="rId1"/>
          <a:stretch/>
        </p:blipFill>
        <p:spPr>
          <a:xfrm>
            <a:off x="3581280" y="3276720"/>
            <a:ext cx="1419480" cy="2477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E:\PFiles\MSOffice\Clipart\standard\stddir3\FD00805_.wmf"/>
          <p:cNvPicPr/>
          <p:nvPr/>
        </p:nvPicPr>
        <p:blipFill>
          <a:blip r:embed="rId2"/>
          <a:stretch/>
        </p:blipFill>
        <p:spPr>
          <a:xfrm>
            <a:off x="609480" y="3505320"/>
            <a:ext cx="2438640" cy="2376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E:\PFiles\MSOffice\Clipart\standard\stddir4\PH02045J.jpg"/>
          <p:cNvPicPr/>
          <p:nvPr/>
        </p:nvPicPr>
        <p:blipFill>
          <a:blip r:embed="rId3"/>
          <a:stretch/>
        </p:blipFill>
        <p:spPr>
          <a:xfrm>
            <a:off x="6248520" y="3276720"/>
            <a:ext cx="1815840" cy="27432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10D-741E-40D5-8455-76E5B83BA89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ispan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lu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ward from G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lance between hot and cold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4" descr="E:\PFiles\MSOffice\Clipart\standard\stddir1\AN01950_.wmf"/>
          <p:cNvPicPr/>
          <p:nvPr/>
        </p:nvPicPr>
        <p:blipFill>
          <a:blip r:embed="rId1"/>
          <a:stretch/>
        </p:blipFill>
        <p:spPr>
          <a:xfrm>
            <a:off x="609480" y="4267080"/>
            <a:ext cx="2286000" cy="1609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E:\PFiles\MSOffice\Clipart\standard\stddir3\FD01237_.wmf"/>
          <p:cNvPicPr/>
          <p:nvPr/>
        </p:nvPicPr>
        <p:blipFill>
          <a:blip r:embed="rId2"/>
          <a:stretch/>
        </p:blipFill>
        <p:spPr>
          <a:xfrm>
            <a:off x="3352680" y="4073400"/>
            <a:ext cx="2168640" cy="2005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E:\PFiles\MSOffice\Clipart\standard\stddir4\PH02565J.jpg"/>
          <p:cNvPicPr/>
          <p:nvPr/>
        </p:nvPicPr>
        <p:blipFill>
          <a:blip r:embed="rId3"/>
          <a:stretch/>
        </p:blipFill>
        <p:spPr>
          <a:xfrm>
            <a:off x="6019920" y="434340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B2D-823E-4332-A045-57BC58BFDD9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Middle Eastern/Arab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 Cau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eanli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4" descr="c:\Program Files\Microsoft Office\Clipart\Pub60Cor\SO01568_.wmf"/>
          <p:cNvPicPr/>
          <p:nvPr/>
        </p:nvPicPr>
        <p:blipFill>
          <a:blip r:embed="rId1"/>
          <a:stretch/>
        </p:blipFill>
        <p:spPr>
          <a:xfrm>
            <a:off x="3124080" y="3809880"/>
            <a:ext cx="1908360" cy="1857600"/>
          </a:xfrm>
          <a:prstGeom prst="rect">
            <a:avLst/>
          </a:prstGeom>
          <a:ln w="0">
            <a:noFill/>
          </a:ln>
        </p:spPr>
      </p:pic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559-63C4-40DA-AD95-228CF499760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ealthful Hints from Long Ago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assafras root carried in the pocket guards against illness.” (superstition of Old Saint Simon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afetida worn on a string around the neck protects a child from many diseases, and a buckeye carried in the pocket protects against rheumatism.” (Blue Ridge and Great Smokey Mts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B18-5923-41DA-9B4B-946612B5684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eeece1"/>
              </a:solidFill>
              <a:latin typeface="Calibri"/>
              <a:ea typeface="Traditional Arab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ingle, pierced nutmeg, worn around the neck on a string, will protect you from boils, croup, body lice, and various lung diseases.” (New England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well-ventilated bedroom will prevent morning headaches and lassitude.” (1914 Almana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FDE-CA23-4613-B38F-2D39D5A8F212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Illnes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functioning of a body’s system or sys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vary based on cultural/ethnic back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4" descr="c:\Program Files\Microsoft Office\Clipart\Pub60Cor\PE04050_.wmf"/>
          <p:cNvPicPr/>
          <p:nvPr/>
        </p:nvPicPr>
        <p:blipFill>
          <a:blip r:embed="rId1"/>
          <a:stretch/>
        </p:blipFill>
        <p:spPr>
          <a:xfrm>
            <a:off x="4191120" y="4324320"/>
            <a:ext cx="2133360" cy="1639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E:\PFiles\MSOffice\Clipart\standard\stddir3\HM00158_.wmf"/>
          <p:cNvPicPr/>
          <p:nvPr/>
        </p:nvPicPr>
        <p:blipFill>
          <a:blip r:embed="rId2"/>
          <a:stretch/>
        </p:blipFill>
        <p:spPr>
          <a:xfrm>
            <a:off x="762120" y="4648320"/>
            <a:ext cx="2712960" cy="153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E:\PFiles\MSOffice\Clipart\corpbas\BD05753_.WMF"/>
          <p:cNvPicPr/>
          <p:nvPr/>
        </p:nvPicPr>
        <p:blipFill>
          <a:blip r:embed="rId3"/>
          <a:stretch/>
        </p:blipFill>
        <p:spPr>
          <a:xfrm>
            <a:off x="6553080" y="4114800"/>
            <a:ext cx="2132280" cy="213372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9B0B-47DC-4291-97B6-73E7D807C77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South Af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s/dem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flicts in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d’s punish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4" descr="E:\PFiles\MSOffice\Clipart\WebArt\NA01488A.gif"/>
          <p:cNvPicPr/>
          <p:nvPr/>
        </p:nvPicPr>
        <p:blipFill>
          <a:blip r:embed="rId1"/>
          <a:stretch/>
        </p:blipFill>
        <p:spPr>
          <a:xfrm>
            <a:off x="1600200" y="3979800"/>
            <a:ext cx="2209680" cy="1700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E:\PFiles\MSOffice\Clipart\standard\stddir4\SY01038_.wmf"/>
          <p:cNvPicPr/>
          <p:nvPr/>
        </p:nvPicPr>
        <p:blipFill>
          <a:blip r:embed="rId2"/>
          <a:stretch/>
        </p:blipFill>
        <p:spPr>
          <a:xfrm>
            <a:off x="5257800" y="3124080"/>
            <a:ext cx="2532240" cy="304812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42A-F650-47ED-BF2A-954242E1D7C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ltur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t of values, beliefs, attitudes, languages, symbols, rituals, behaviors, customs of a group of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rned and shar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ynamic and chang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6A2-05AF-4DD4-90DB-A33FA0B8A82A}" type="slidenum">
              <a:rPr b="0" lang="en-US" sz="18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s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of yin and ya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pernatural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healthy enviro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4" descr="E:\PFiles\MSOffice\Clipart\standard\stddir2\BS00385_.wmf"/>
          <p:cNvPicPr/>
          <p:nvPr/>
        </p:nvPicPr>
        <p:blipFill>
          <a:blip r:embed="rId1"/>
          <a:stretch/>
        </p:blipFill>
        <p:spPr>
          <a:xfrm>
            <a:off x="1219320" y="4267080"/>
            <a:ext cx="1820880" cy="16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E:\PFiles\MSOffice\Clipart\standard\stddir3\NA01606_.wmf"/>
          <p:cNvPicPr/>
          <p:nvPr/>
        </p:nvPicPr>
        <p:blipFill>
          <a:blip r:embed="rId2"/>
          <a:stretch/>
        </p:blipFill>
        <p:spPr>
          <a:xfrm>
            <a:off x="5029200" y="4181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FC0-0BFC-496A-AE11-05AEAEA8E73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urope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side sources: microorganisms, tox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Picture 4" descr="c:\Program Files\Common Files\Microsoft Shared\Clipart\cagcat50\BD08208_.WMF"/>
          <p:cNvPicPr/>
          <p:nvPr/>
        </p:nvPicPr>
        <p:blipFill>
          <a:blip r:embed="rId1"/>
          <a:stretch/>
        </p:blipFill>
        <p:spPr>
          <a:xfrm>
            <a:off x="685800" y="3962520"/>
            <a:ext cx="1674720" cy="180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E:\PFiles\MSOffice\Clipart\standard\stddir3\HM00158_.wmf"/>
          <p:cNvPicPr/>
          <p:nvPr/>
        </p:nvPicPr>
        <p:blipFill>
          <a:blip r:embed="rId2"/>
          <a:stretch/>
        </p:blipFill>
        <p:spPr>
          <a:xfrm>
            <a:off x="2819520" y="4038480"/>
            <a:ext cx="2712960" cy="1533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E:\PFiles\MSOffice\Clipart\standard\stddir4\SY01064_.wmf"/>
          <p:cNvPicPr/>
          <p:nvPr/>
        </p:nvPicPr>
        <p:blipFill>
          <a:blip r:embed="rId3"/>
          <a:stretch/>
        </p:blipFill>
        <p:spPr>
          <a:xfrm>
            <a:off x="5791320" y="3581280"/>
            <a:ext cx="2963880" cy="2651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1793-581E-40CD-BFC1-1208E01DF91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ispan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nv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between hot and c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7" name="Picture 4" descr="E:\PFiles\MSOffice\Clipart\standard\stddir4\SY01038_.wmf"/>
          <p:cNvPicPr/>
          <p:nvPr/>
        </p:nvPicPr>
        <p:blipFill>
          <a:blip r:embed="rId1"/>
          <a:stretch/>
        </p:blipFill>
        <p:spPr>
          <a:xfrm>
            <a:off x="4876920" y="914400"/>
            <a:ext cx="2881080" cy="346860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CB81-8519-4850-9701-13992319844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Middle Eastern/Arab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 cau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4" descr="E:\PFiles\MSOffice\Clipart\standard\stddir1\BD05662_.WMF"/>
          <p:cNvPicPr/>
          <p:nvPr/>
        </p:nvPicPr>
        <p:blipFill>
          <a:blip r:embed="rId1"/>
          <a:stretch/>
        </p:blipFill>
        <p:spPr>
          <a:xfrm>
            <a:off x="4191120" y="2666880"/>
            <a:ext cx="3868560" cy="34434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BBB2-FD88-4797-B2A8-65F7B1F1FFE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Native Ame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pernatural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olation of a tabo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between man and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4" descr="E:\PFiles\MSOffice\Clipart\standard\stddir1\BD06437_.WMF"/>
          <p:cNvPicPr/>
          <p:nvPr/>
        </p:nvPicPr>
        <p:blipFill>
          <a:blip r:embed="rId1"/>
          <a:stretch/>
        </p:blipFill>
        <p:spPr>
          <a:xfrm>
            <a:off x="3124080" y="4495680"/>
            <a:ext cx="2667240" cy="192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E:\PFiles\MSOffice\Clipart\standard\stddir1\AN03316_.wmf"/>
          <p:cNvPicPr/>
          <p:nvPr/>
        </p:nvPicPr>
        <p:blipFill>
          <a:blip r:embed="rId2"/>
          <a:stretch/>
        </p:blipFill>
        <p:spPr>
          <a:xfrm>
            <a:off x="304920" y="4572000"/>
            <a:ext cx="2819160" cy="1873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E:\PFiles\MSOffice\Clipart\standard\stddir3\NA01672_.wmf"/>
          <p:cNvPicPr/>
          <p:nvPr/>
        </p:nvPicPr>
        <p:blipFill>
          <a:blip r:embed="rId3"/>
          <a:stretch/>
        </p:blipFill>
        <p:spPr>
          <a:xfrm>
            <a:off x="6172200" y="4038480"/>
            <a:ext cx="2428920" cy="2478240"/>
          </a:xfrm>
          <a:prstGeom prst="rect">
            <a:avLst/>
          </a:prstGeom>
          <a:ln w="0">
            <a:noFill/>
          </a:ln>
        </p:spPr>
      </p:pic>
      <p:sp>
        <p:nvSpPr>
          <p:cNvPr id="308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C086-20BE-4FEF-BE10-40CF0F92953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Folk Remedi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liefs and practices ethnically simi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igion plays a role in perception of, interpretation of, and behavior in health and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re usually the prime caregiv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create delay in seeking professional he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AC9-28C5-424A-A44D-F85A6775E57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wish: camphor around the neck in winter in a small cloth bag to prevent measles and scarlet fev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ack and Native Americans: blackstrap mo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ack Africans (Ethiopia): eat hot &amp; sour foods i.e. lemons, fresh garlic, pepp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E6BF-FD6D-403F-B73D-7CDEA4020C6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s: no sweets at meals, drink glass of water at meals, cod-liver oil, plenty of milk, spring tonic (sulfured molass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lam: dress properly for the season &amp; weather, keep feet from getting wet in the r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2090-058A-406B-9DC2-EEF35672D26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ean out bowels with senna for 8 da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ring tonic of sulfured mo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ions under the bed to keep nasal passages cl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g of camphor around the neck during flu sea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0D8-82A7-4483-BBA0-1652686BABA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go to bed with wet hai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n’t look in the mirror at night &amp; close closet doors (prevents evil spirit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t lots of oily fo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ake Father John’s Medicine every so of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AE8-B027-45D4-A209-82FF1ED0AC8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thnic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fication of people based on national origin or cul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 African American, Asian American, European American, Hispanic American, Middle Eastern/Arabic American, Native Americ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2A0-24CF-4B44-A24C-E869A972841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arlic cloves strung on a piece of string around neck of infants and children to prevent colds and “evil” sta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d ribbon around neck of infant does the same 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wash or bathe during peri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6CC7-5423-4BDB-A2E3-FC9DDC1F013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wash hair before going outdoors or at n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ep a pair of open scissors under mattress of crib to prevent “evil” in newbo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ap a bandage around the baby from the waist to the feet for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6 months to prevent bowle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9A7-6144-4FB1-951F-77357FA474E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Jew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find salted herring, wrap it in a towel, put it around the neck, let it stay there overnight, gargle with salt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ils: fry chopped onions, make a compress and apply to the infe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3196-2804-45A5-92C0-C92054C39CC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Home Treatments: Blacks/Native Americans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ody nose: place keys on chain around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suck yolks out of egg shell, honey and lemon, baking soda, salt , warm water, onions around the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BE1C-703C-4417-89F6-5EDA517C3DC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Home Treatments: Black African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: put some kind of plant root on fire and make the man who has the evil eye smile and the man talks about his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0C10-E16E-453C-B246-EC2D27DF7EB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Germa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ghs: honey &amp; vinegar; boiled onion water, honey, &amp; lemon; hot water &amp; Vi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wollen glands/mumps: put pepper on salt pork and tie around the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ache: few drops of warm milk in the ear, laxatives when need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AE20-3E29-4A04-8A6E-9AE570410D3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Germa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: cold tea-leaf compre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ver: mix whiskey, water, &amp; lemon juice to drink before bed (causes person to sweat and break feve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tipation: Ivory soap supposito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ACE-B20C-4989-AA8D-FF0565EBD6D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slam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gargle with vinegar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igestion: baking soda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muscles: alcohol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shes: apply corn star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7BA3-D25C-4943-9959-71C3B67157A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964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e doctor only in an emergen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ache: heat salt, put in stocking behind 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ver: spirits of niter on a dry sugar cub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lds: hot lemonade and a tablespoon of whiskey; egg whites; ipeca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2116-1AB0-4BF4-8367-3F9D396EF76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ghs: linseed poultice on chest; flaxseed poultice on back; red flannel cloth soaked in hot water and placed on chest all n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nstrual cramps: hot milk sprinkled with ginger, glass of warm wine, hot-water bottle on stom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A095-FEDF-4831-B607-661213B9CDF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Rac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fication of people based on physical or biological characteristic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volves multiple cultures and ethnic grou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89D-8271-4A71-933F-9B852C79C33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usea:  castor oil, hot ginger ale, cup of hot boile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paint throat with iodine, honey and lemon, Karo syrup; paint with kerosene oil with rag then tie sock around the neck; paint with iodine or Mercurochrome and gargle with salt water, honey melted Vi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3BB-7329-4F94-A478-9303F086641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ken soup for every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ils: cooked oatmeal wrapped in a cloth (steaming hot) and applied to drain p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ache: kerchief with ice in it wrapped around the h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amps: crème de men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730-DA80-473A-92F5-1DB6158CAB3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cne: apply baby’s urin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 build up blood: eggnog with brandy; Marsala wine and mil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ckache: place a silver dollar on the sore area and light a match to it, while the match is burning put a glass over the silver dollar and slightly lift the glass, this causes suction which lifts the pain ou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BC4-062B-4542-8606-2E297E0C8C0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ultural Diversity in Health and Illnes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Second Edition, p.7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BCD0-D597-43E7-BB8E-DAD2EC28C30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Belief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ndardized definitions of health and illnes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omnipotence of technology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8" name="Picture 5" descr="c:\Program Files\Common Files\Microsoft Shared\Clipart\cagcat50\BD06639_.WMF"/>
          <p:cNvPicPr/>
          <p:nvPr/>
        </p:nvPicPr>
        <p:blipFill>
          <a:blip r:embed="rId1"/>
          <a:stretch/>
        </p:blipFill>
        <p:spPr>
          <a:xfrm>
            <a:off x="5632560" y="3284640"/>
            <a:ext cx="1841400" cy="184140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C50-5075-405D-AF77-52BC31DC323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actic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intenance of health and the prevention of disease through such mechanisms as the avoidance of stress and the use of immunization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nual physical examinations and diagnostic procedures such as Pap smears”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2" name="Picture 5" descr="c:\Program Files\Common Files\Microsoft Shared\Clipart\cagcat50\HM00163_.wmf"/>
          <p:cNvPicPr/>
          <p:nvPr/>
        </p:nvPicPr>
        <p:blipFill>
          <a:blip r:embed="rId1"/>
          <a:stretch/>
        </p:blipFill>
        <p:spPr>
          <a:xfrm>
            <a:off x="3492360" y="836640"/>
            <a:ext cx="1771920" cy="1251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E:\PFiles\MSOffice\Clipart\standard\stddir3\HM00314_.wmf"/>
          <p:cNvPicPr/>
          <p:nvPr/>
        </p:nvPicPr>
        <p:blipFill>
          <a:blip r:embed="rId2"/>
          <a:stretch/>
        </p:blipFill>
        <p:spPr>
          <a:xfrm>
            <a:off x="3573360" y="5257800"/>
            <a:ext cx="1365480" cy="14112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B86-AE17-4FBF-8589-6AAE9D6BD14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abit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376" name="Picture 5" descr="E:\PFiles\MSOffice\Clipart\WebArt\SY00966A.gif"/>
          <p:cNvPicPr/>
          <p:nvPr/>
        </p:nvPicPr>
        <p:blipFill>
          <a:blip r:embed="rId1"/>
          <a:stretch/>
        </p:blipFill>
        <p:spPr>
          <a:xfrm>
            <a:off x="2104920" y="37195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harting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constant use of jargon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e of a systematic approach and problem-solving methodology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990-D33F-4FE2-95AB-F6E2EA94F36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Lik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mptnes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atness and organization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lianc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Picture 6" descr="E:\PFiles\MSOffice\Clipart\standard\stddir1\BD06505_.WMF"/>
          <p:cNvPicPr/>
          <p:nvPr/>
        </p:nvPicPr>
        <p:blipFill>
          <a:blip r:embed="rId1"/>
          <a:stretch/>
        </p:blipFill>
        <p:spPr>
          <a:xfrm>
            <a:off x="6324480" y="4267080"/>
            <a:ext cx="1779840" cy="1760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E:\PFiles\MSOffice\Clipart\standard\stddir1\BD06515_.WMF"/>
          <p:cNvPicPr/>
          <p:nvPr/>
        </p:nvPicPr>
        <p:blipFill>
          <a:blip r:embed="rId2"/>
          <a:stretch/>
        </p:blipFill>
        <p:spPr>
          <a:xfrm>
            <a:off x="457200" y="4267080"/>
            <a:ext cx="1752480" cy="1789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E:\PFiles\MSOffice\Clipart\corpbas\BD19824_.WMF"/>
          <p:cNvPicPr/>
          <p:nvPr/>
        </p:nvPicPr>
        <p:blipFill>
          <a:blip r:embed="rId3"/>
          <a:stretch/>
        </p:blipFill>
        <p:spPr>
          <a:xfrm>
            <a:off x="3962520" y="1143000"/>
            <a:ext cx="1373040" cy="144144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75A1-C1D9-42B7-A6E2-C0D2602E7B7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Dislik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ardiness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sorderliness and disorganization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7" name="Picture 5" descr="E:\PFiles\MSOffice\Clipart\standard\stddir2\BS02014_.WMF"/>
          <p:cNvPicPr/>
          <p:nvPr/>
        </p:nvPicPr>
        <p:blipFill>
          <a:blip r:embed="rId1"/>
          <a:stretch/>
        </p:blipFill>
        <p:spPr>
          <a:xfrm>
            <a:off x="5881680" y="3108240"/>
            <a:ext cx="1343160" cy="21938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068C-FD9E-4591-84E0-2893C2F2506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eference and adherence to the ‘pecking order’ found in autocratic and bureaucratic system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Picture 5" descr="c:\Program Files\Common Files\Microsoft Shared\Clipart\cagcat50\BD05515_.WMF"/>
          <p:cNvPicPr/>
          <p:nvPr/>
        </p:nvPicPr>
        <p:blipFill>
          <a:blip r:embed="rId1"/>
          <a:stretch/>
        </p:blipFill>
        <p:spPr>
          <a:xfrm>
            <a:off x="2971800" y="3581280"/>
            <a:ext cx="2825640" cy="303876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A4E-E6EB-46B6-801A-E883407F085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ltural Divers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ces based on cultural, ethnic, and racial facto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be considered when providing health car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care providers must recognize and appreciate the characteristics of all pati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859-90AC-4E7E-BDE6-144B6B529B33}" type="slidenum">
              <a:rPr b="0" lang="en-US" sz="24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washing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Picture 4" descr="E:\PFiles\MSOffice\Clipart\smbusbas\BD20109_.WMF"/>
          <p:cNvPicPr/>
          <p:nvPr/>
        </p:nvPicPr>
        <p:blipFill>
          <a:blip r:embed="rId1"/>
          <a:stretch/>
        </p:blipFill>
        <p:spPr>
          <a:xfrm>
            <a:off x="4114800" y="1600200"/>
            <a:ext cx="3035160" cy="358308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DE6-17F2-4424-8734-8A228C49C20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mployment of certain procedures attending birth and deat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9" name="Picture 4" descr="E:\PFiles\MSOffice\Clipart\smbusbas\BD20125_.WMF"/>
          <p:cNvPicPr/>
          <p:nvPr/>
        </p:nvPicPr>
        <p:blipFill>
          <a:blip r:embed="rId1"/>
          <a:stretch/>
        </p:blipFill>
        <p:spPr>
          <a:xfrm>
            <a:off x="1905120" y="3352680"/>
            <a:ext cx="5181480" cy="288288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3DBE-2A35-4D3E-91C0-239B1D7358C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Ritual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hysical examination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surgical procedur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imiting visitors and visiting hour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3" name="Picture 5" descr="E:\PFiles\MSOffice\Clipart\smbusbas\BD20074_.WMF"/>
          <p:cNvPicPr/>
          <p:nvPr/>
        </p:nvPicPr>
        <p:blipFill>
          <a:blip r:embed="rId1"/>
          <a:stretch/>
        </p:blipFill>
        <p:spPr>
          <a:xfrm>
            <a:off x="4648320" y="1981080"/>
            <a:ext cx="3962160" cy="374184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991-A5C2-42C7-A9D8-0A5248A5370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Cultural Beliefs Concerning Epidemiology and Pain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dical culture is in direct opposition someti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cteria/viruses/carcinogens/pollutants versus “soul loss”/”spirit possession”/voodoo/witchcraf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e, open expression of feelings versus never revealing true feel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50F-407F-4E04-93C4-8693751EDDD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ealthcare Provider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change to accommodate other cultural beliefs and behaviors towards health and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0" name="Picture 4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2971800" y="38862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1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D4DD-B2F7-4445-B77A-BF0D1DC59CB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22400" y="-60480"/>
            <a:ext cx="8802360" cy="3321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mbrace Diversity in Medicine. Teach Tolerance to Healthcare Provider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302-797B-4F63-8C55-8F4ADD402F6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listic Car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be developed to include cultural diversity of Ameri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ddresses 3 aspects of well-being: mental/emotional, physical, and soci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F9DE-7CE9-47F8-81C8-AC2718F3175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reas of Cultural Divers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organiz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onal sp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uc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ye cont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s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 care belief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ig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8E6-7B2D-4FAC-92DF-FCD9B3BAB11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Cultural Diversity Impacts Beliefs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ir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a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 Ca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AC6-F88A-44DB-9A6A-A5C5B4A4288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66600" y="1481040"/>
            <a:ext cx="8334360" cy="1901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aries Based on Cultural Back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05D-728A-46EC-B2D0-B1C5227B0E9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37:59Z</dcterms:created>
  <dc:creator>Valued Gateway Client</dc:creator>
  <dc:description/>
  <dc:language>en-US</dc:language>
  <cp:lastModifiedBy>admin</cp:lastModifiedBy>
  <dcterms:modified xsi:type="dcterms:W3CDTF">2013-08-01T21:38:54Z</dcterms:modified>
  <cp:revision>17</cp:revision>
  <dc:subject/>
  <dc:title>PowerPoint Presentation</dc:title>
</cp:coreProperties>
</file>