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dt" idx="16"/>
          </p:nvPr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sldImg"/>
          </p:nvPr>
        </p:nvSpPr>
        <p:spPr>
          <a:xfrm>
            <a:off x="1168560" y="685440"/>
            <a:ext cx="46735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ftr" idx="17"/>
          </p:nvPr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 type="sldNum" idx="18"/>
          </p:nvPr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EC0D2-252C-4545-B83B-90FD5026A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D03C7-F6AD-4613-87F8-D468B4F655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DBF28-B886-4DF9-888E-5C4566446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9DD8-9EF6-4772-9126-56C0928CC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BAEA-530D-4FC4-A425-B8004A4D7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496A-D831-4C68-A283-EBF82A541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F2CD-3DBC-485E-B8A9-6F1721C3A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BDF41-D98E-47D0-9112-4B6F08853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A58F4-1B92-41B0-86A2-382F8690C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61F90-B392-4254-89C4-1C85639C9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7EAB2-CCD0-4D59-9B7E-A783FF480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3EF05-D865-4337-A2E9-48FA9E08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075D5-E724-4C7C-A711-25B92E40B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CD7F1-09CA-40E7-9709-AB6A29A5A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7673-F0ED-471B-AE46-682282AA9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F8ACC-2517-45CC-BDC7-0D36BED9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0D79A-3A75-4EC8-883A-F130BEA5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4D84E-8665-4470-A766-7BACE036B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C605C-6064-4CFB-9EA5-47C1B14AD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88104-633D-4586-929B-8D37D90B1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AF987-2E92-400A-96E4-8721DE72D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AD635-A18A-46D3-A77B-565A0CE79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5DADE-E4B2-47F4-9703-29552C708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8763C-85AB-4E05-9E6D-BB7B152A7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66570-F668-4E3B-AB1C-B8E0AEB38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769D-22DA-49E5-9774-F6AAE7E6C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F0F73-0F7D-4A2B-8FFD-EA822B7A5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15FCB-F17D-48D4-BC56-C404092A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5A798-9779-4B99-8A52-2F5EEB39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D7F60-6E7F-4E68-89C3-1E8828BA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A5D12-A135-4A7D-AEF1-C456F66A7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77F2A-2A46-4F90-98FD-16D428350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FF7FF-2341-47CA-9672-641B78D03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F8AA6-B445-44D6-8238-6FC90A8F5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C8360-E62A-4E1C-94C6-1B66B6F04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D16CF-A8D6-4A98-9CE4-1B1BEE907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8F97-F893-40D9-9F1B-40A060523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AB854-EC90-40A8-A79F-58483CB7D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3C5A7-8705-4AF6-BF66-8EDA5F846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19774-9615-4517-9180-CBDD7FCF6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EA05D-FF46-4F21-8A08-EB4FE520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EEC76-E0AD-48DA-B473-5BF9B8EA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BDA74-27C3-40EE-851A-238455DE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F3F4E-CC5D-45C2-8F26-B3E357E13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679C3-D93C-4EE8-AE94-70BC5FC42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95315-50EC-4BCB-ABBF-ACDD5BDE8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D2276-3B36-43A4-BC3D-2B9005EC5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DD0B-A460-4C24-82F0-E13B274AC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4F778-140A-457D-A373-CF71302A6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93A7B-9388-4837-9D9C-240C25735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40092-501B-40F9-A363-6EDD79935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D81BE-EA7D-4CA8-99AA-958491D51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83BCF-D0F8-4372-9C46-51F3F1441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E3855-C14D-4D0B-B150-14EEE49C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1B1ED-9060-4BBC-86E3-F43455F6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E5D9B-C89F-455F-874F-AF68ACFB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0EFEE-B583-4915-86D1-0D349E592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F4993-FED1-48F7-B5AD-605A9130A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92E7-F6FE-465A-B9C1-DDF2586E1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10880-BAE5-44D7-AB8A-DA9E6E512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7480-2EDC-4C62-B57E-7BC5BEA5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0652-7A27-4474-B238-370794E1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336F-8A82-4B8B-8110-AEAA8A55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B9B5C-51E4-4230-BAE8-E983CABE137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7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9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Freeform 10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EA7D4-56ED-4B54-A12C-6E9F02B7B1D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9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ight Triangle 10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B0D63-0A1E-4F64-A70E-98457B15AF8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ight Triangle 9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ight Triangle 10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6EF13-D799-40E6-A5A6-3C792FEDFFA6}" type="slidenum">
              <a:rPr b="0" lang="en-US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ight Triangle 9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Freeform 10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2BB68-A825-4CBC-81EB-F8A325D24C4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 rot="19140000">
            <a:off x="817200" y="1729800"/>
            <a:ext cx="5648400" cy="120492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yclomatic Complexity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212840" y="2469960"/>
            <a:ext cx="6510240" cy="33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6ECE1-49CD-4D3C-AE40-88B76632DD0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yclomatic Complexity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Invented by Thomas McCabe (1974) to measure the complexity of a program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s conditional logic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Cyclomatic complexity of graph G equals #edges - #nodes + 2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V(G) = e – n + 2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Also corresponds to the number of linearly independent paths in a program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8" name="Slide Number Placeholder 5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15C5E-7B86-4A5C-96F4-30793DF395D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onverting Code to Graph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0" name="Slide Number Placeholder 4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9FBF7-0CDE-40F8-AE75-10183A71E14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2314440" y="2216160"/>
            <a:ext cx="146664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expression1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tatement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tatement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d i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tatement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2314440" y="3459240"/>
            <a:ext cx="1390320" cy="13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expr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s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1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tatement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s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2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tatm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s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3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tatm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d swit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tatm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1676520" y="2550960"/>
            <a:ext cx="24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1675800" y="4022640"/>
            <a:ext cx="254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2314440" y="5327640"/>
            <a:ext cx="10857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tatement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expr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d 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tatement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1676520" y="5586480"/>
            <a:ext cx="24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9"/>
          <p:cNvSpPr/>
          <p:nvPr/>
        </p:nvSpPr>
        <p:spPr>
          <a:xfrm>
            <a:off x="1674720" y="4932360"/>
            <a:ext cx="55119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10"/>
          <p:cNvSpPr/>
          <p:nvPr/>
        </p:nvSpPr>
        <p:spPr>
          <a:xfrm>
            <a:off x="1674720" y="3379680"/>
            <a:ext cx="55119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11"/>
          <p:cNvSpPr/>
          <p:nvPr/>
        </p:nvSpPr>
        <p:spPr>
          <a:xfrm>
            <a:off x="1674720" y="1982880"/>
            <a:ext cx="55119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12"/>
          <p:cNvSpPr/>
          <p:nvPr/>
        </p:nvSpPr>
        <p:spPr>
          <a:xfrm>
            <a:off x="1674720" y="6504120"/>
            <a:ext cx="55119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13"/>
          <p:cNvSpPr/>
          <p:nvPr/>
        </p:nvSpPr>
        <p:spPr>
          <a:xfrm>
            <a:off x="2553120" y="1752480"/>
            <a:ext cx="532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4196160" y="1752480"/>
            <a:ext cx="1143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OWCH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5"/>
          <p:cNvSpPr/>
          <p:nvPr/>
        </p:nvSpPr>
        <p:spPr>
          <a:xfrm>
            <a:off x="6375960" y="1752480"/>
            <a:ext cx="651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AutoShape 16"/>
          <p:cNvSpPr/>
          <p:nvPr/>
        </p:nvSpPr>
        <p:spPr>
          <a:xfrm>
            <a:off x="3556080" y="2575080"/>
            <a:ext cx="191880" cy="198360"/>
          </a:xfrm>
          <a:prstGeom prst="rightArrow">
            <a:avLst>
              <a:gd name="adj1" fmla="val 50324"/>
              <a:gd name="adj2" fmla="val 51514"/>
            </a:avLst>
          </a:prstGeom>
          <a:solidFill>
            <a:srgbClr val="b2b2b2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AutoShape 17"/>
          <p:cNvSpPr/>
          <p:nvPr/>
        </p:nvSpPr>
        <p:spPr>
          <a:xfrm>
            <a:off x="3556080" y="4046400"/>
            <a:ext cx="191880" cy="198720"/>
          </a:xfrm>
          <a:prstGeom prst="rightArrow">
            <a:avLst>
              <a:gd name="adj1" fmla="val 50324"/>
              <a:gd name="adj2" fmla="val 51514"/>
            </a:avLst>
          </a:prstGeom>
          <a:solidFill>
            <a:srgbClr val="b2b2b2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AutoShape 18"/>
          <p:cNvSpPr/>
          <p:nvPr/>
        </p:nvSpPr>
        <p:spPr>
          <a:xfrm>
            <a:off x="5788080" y="4046400"/>
            <a:ext cx="191880" cy="198720"/>
          </a:xfrm>
          <a:prstGeom prst="rightArrow">
            <a:avLst>
              <a:gd name="adj1" fmla="val 50324"/>
              <a:gd name="adj2" fmla="val 51514"/>
            </a:avLst>
          </a:prstGeom>
          <a:solidFill>
            <a:srgbClr val="b2b2b2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AutoShape 19"/>
          <p:cNvSpPr/>
          <p:nvPr/>
        </p:nvSpPr>
        <p:spPr>
          <a:xfrm>
            <a:off x="5786280" y="2573280"/>
            <a:ext cx="192240" cy="198360"/>
          </a:xfrm>
          <a:prstGeom prst="rightArrow">
            <a:avLst>
              <a:gd name="adj1" fmla="val 50324"/>
              <a:gd name="adj2" fmla="val 51514"/>
            </a:avLst>
          </a:prstGeom>
          <a:solidFill>
            <a:srgbClr val="b2b2b2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AutoShape 20"/>
          <p:cNvSpPr/>
          <p:nvPr/>
        </p:nvSpPr>
        <p:spPr>
          <a:xfrm>
            <a:off x="3557520" y="5608800"/>
            <a:ext cx="192240" cy="198360"/>
          </a:xfrm>
          <a:prstGeom prst="rightArrow">
            <a:avLst>
              <a:gd name="adj1" fmla="val 50324"/>
              <a:gd name="adj2" fmla="val 51514"/>
            </a:avLst>
          </a:prstGeom>
          <a:solidFill>
            <a:srgbClr val="b2b2b2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utoShape 21"/>
          <p:cNvSpPr/>
          <p:nvPr/>
        </p:nvSpPr>
        <p:spPr>
          <a:xfrm>
            <a:off x="5788080" y="5610240"/>
            <a:ext cx="191880" cy="198360"/>
          </a:xfrm>
          <a:prstGeom prst="rightArrow">
            <a:avLst>
              <a:gd name="adj1" fmla="val 50324"/>
              <a:gd name="adj2" fmla="val 51514"/>
            </a:avLst>
          </a:prstGeom>
          <a:solidFill>
            <a:srgbClr val="b2b2b2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0" name="AutoShape 22"/>
          <p:cNvCxnSpPr>
            <a:endCxn id="251" idx="0"/>
          </p:cNvCxnSpPr>
          <p:nvPr/>
        </p:nvCxnSpPr>
        <p:spPr>
          <a:xfrm>
            <a:off x="4768560" y="2036880"/>
            <a:ext cx="1080" cy="12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2" name="AutoShape 23"/>
          <p:cNvCxnSpPr>
            <a:stCxn id="251" idx="3"/>
            <a:endCxn id="253" idx="0"/>
          </p:cNvCxnSpPr>
          <p:nvPr/>
        </p:nvCxnSpPr>
        <p:spPr>
          <a:xfrm>
            <a:off x="5070240" y="2361960"/>
            <a:ext cx="130680" cy="191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24"/>
          <p:cNvCxnSpPr>
            <a:stCxn id="251" idx="1"/>
            <a:endCxn id="255" idx="0"/>
          </p:cNvCxnSpPr>
          <p:nvPr/>
        </p:nvCxnSpPr>
        <p:spPr>
          <a:xfrm flipV="1" rot="10800000">
            <a:off x="4336200" y="2361240"/>
            <a:ext cx="131040" cy="191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6" name="AutoShape 25"/>
          <p:cNvCxnSpPr>
            <a:stCxn id="253" idx="2"/>
            <a:endCxn id="257" idx="0"/>
          </p:cNvCxnSpPr>
          <p:nvPr/>
        </p:nvCxnSpPr>
        <p:spPr>
          <a:xfrm rot="5400000">
            <a:off x="4857840" y="2715120"/>
            <a:ext cx="253080" cy="432360"/>
          </a:xfrm>
          <a:prstGeom prst="bentConnector3">
            <a:avLst>
              <a:gd name="adj1" fmla="val 495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8" name="AutoShape 26"/>
          <p:cNvCxnSpPr>
            <a:stCxn id="255" idx="2"/>
            <a:endCxn id="257" idx="0"/>
          </p:cNvCxnSpPr>
          <p:nvPr/>
        </p:nvCxnSpPr>
        <p:spPr>
          <a:xfrm flipH="1" rot="16200000">
            <a:off x="4426560" y="2714760"/>
            <a:ext cx="253080" cy="432720"/>
          </a:xfrm>
          <a:prstGeom prst="bentConnector3">
            <a:avLst>
              <a:gd name="adj1" fmla="val 495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9" name="Text Box 27"/>
          <p:cNvSpPr/>
          <p:nvPr/>
        </p:nvSpPr>
        <p:spPr>
          <a:xfrm>
            <a:off x="4356000" y="2163600"/>
            <a:ext cx="96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28"/>
          <p:cNvSpPr/>
          <p:nvPr/>
        </p:nvSpPr>
        <p:spPr>
          <a:xfrm>
            <a:off x="5076720" y="2163600"/>
            <a:ext cx="96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AutoShape 29"/>
          <p:cNvSpPr/>
          <p:nvPr/>
        </p:nvSpPr>
        <p:spPr>
          <a:xfrm>
            <a:off x="4467240" y="2162160"/>
            <a:ext cx="603360" cy="39996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72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r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AutoShape 30"/>
          <p:cNvSpPr/>
          <p:nvPr/>
        </p:nvSpPr>
        <p:spPr>
          <a:xfrm>
            <a:off x="4535640" y="3057480"/>
            <a:ext cx="466560" cy="2523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m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AutoShape 31"/>
          <p:cNvSpPr/>
          <p:nvPr/>
        </p:nvSpPr>
        <p:spPr>
          <a:xfrm>
            <a:off x="4103640" y="2552760"/>
            <a:ext cx="466920" cy="2523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m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AutoShape 32"/>
          <p:cNvSpPr/>
          <p:nvPr/>
        </p:nvSpPr>
        <p:spPr>
          <a:xfrm>
            <a:off x="4967280" y="2552760"/>
            <a:ext cx="466560" cy="2523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m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1" name="AutoShape 33"/>
          <p:cNvCxnSpPr>
            <a:endCxn id="262" idx="0"/>
          </p:cNvCxnSpPr>
          <p:nvPr/>
        </p:nvCxnSpPr>
        <p:spPr>
          <a:xfrm>
            <a:off x="4768560" y="3417480"/>
            <a:ext cx="1080" cy="12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34"/>
          <p:cNvCxnSpPr>
            <a:stCxn id="262" idx="3"/>
            <a:endCxn id="264" idx="0"/>
          </p:cNvCxnSpPr>
          <p:nvPr/>
        </p:nvCxnSpPr>
        <p:spPr>
          <a:xfrm>
            <a:off x="5070600" y="3742920"/>
            <a:ext cx="303840" cy="345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5" name="AutoShape 35"/>
          <p:cNvCxnSpPr>
            <a:stCxn id="262" idx="1"/>
            <a:endCxn id="266" idx="0"/>
          </p:cNvCxnSpPr>
          <p:nvPr/>
        </p:nvCxnSpPr>
        <p:spPr>
          <a:xfrm flipV="1" rot="10800000">
            <a:off x="4163400" y="3742200"/>
            <a:ext cx="303840" cy="345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7" name="AutoShape 36"/>
          <p:cNvCxnSpPr>
            <a:stCxn id="264" idx="2"/>
            <a:endCxn id="268" idx="0"/>
          </p:cNvCxnSpPr>
          <p:nvPr/>
        </p:nvCxnSpPr>
        <p:spPr>
          <a:xfrm rot="5400000">
            <a:off x="4930920" y="4177440"/>
            <a:ext cx="280080" cy="605520"/>
          </a:xfrm>
          <a:prstGeom prst="bentConnector3">
            <a:avLst>
              <a:gd name="adj1" fmla="val 4942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9" name="AutoShape 37"/>
          <p:cNvCxnSpPr>
            <a:stCxn id="266" idx="2"/>
            <a:endCxn id="268" idx="0"/>
          </p:cNvCxnSpPr>
          <p:nvPr/>
        </p:nvCxnSpPr>
        <p:spPr>
          <a:xfrm flipH="1" rot="16200000">
            <a:off x="4326840" y="4177080"/>
            <a:ext cx="280080" cy="605520"/>
          </a:xfrm>
          <a:prstGeom prst="bentConnector3">
            <a:avLst>
              <a:gd name="adj1" fmla="val 4942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38"/>
          <p:cNvCxnSpPr>
            <a:stCxn id="262" idx="2"/>
            <a:endCxn id="271" idx="0"/>
          </p:cNvCxnSpPr>
          <p:nvPr/>
        </p:nvCxnSpPr>
        <p:spPr>
          <a:xfrm>
            <a:off x="4768560" y="394308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2" name="AutoShape 39"/>
          <p:cNvCxnSpPr>
            <a:stCxn id="271" idx="2"/>
            <a:endCxn id="268" idx="0"/>
          </p:cNvCxnSpPr>
          <p:nvPr/>
        </p:nvCxnSpPr>
        <p:spPr>
          <a:xfrm>
            <a:off x="4768560" y="4338720"/>
            <a:ext cx="1080" cy="281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0"/>
          <p:cNvSpPr/>
          <p:nvPr/>
        </p:nvSpPr>
        <p:spPr>
          <a:xfrm>
            <a:off x="4570560" y="3873600"/>
            <a:ext cx="8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41"/>
          <p:cNvSpPr/>
          <p:nvPr/>
        </p:nvSpPr>
        <p:spPr>
          <a:xfrm>
            <a:off x="4343400" y="3543480"/>
            <a:ext cx="8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42"/>
          <p:cNvSpPr/>
          <p:nvPr/>
        </p:nvSpPr>
        <p:spPr>
          <a:xfrm>
            <a:off x="5102280" y="3543480"/>
            <a:ext cx="8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AutoShape 43"/>
          <p:cNvSpPr/>
          <p:nvPr/>
        </p:nvSpPr>
        <p:spPr>
          <a:xfrm>
            <a:off x="4467240" y="3543480"/>
            <a:ext cx="603360" cy="39996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72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r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AutoShape 44"/>
          <p:cNvSpPr/>
          <p:nvPr/>
        </p:nvSpPr>
        <p:spPr>
          <a:xfrm>
            <a:off x="4535640" y="4619520"/>
            <a:ext cx="466560" cy="2523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m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AutoShape 45"/>
          <p:cNvSpPr/>
          <p:nvPr/>
        </p:nvSpPr>
        <p:spPr>
          <a:xfrm>
            <a:off x="4535640" y="4086360"/>
            <a:ext cx="466560" cy="2523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m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AutoShape 46"/>
          <p:cNvSpPr/>
          <p:nvPr/>
        </p:nvSpPr>
        <p:spPr>
          <a:xfrm>
            <a:off x="3930480" y="4087800"/>
            <a:ext cx="466920" cy="2523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m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AutoShape 47"/>
          <p:cNvSpPr/>
          <p:nvPr/>
        </p:nvSpPr>
        <p:spPr>
          <a:xfrm>
            <a:off x="5140440" y="4087800"/>
            <a:ext cx="466560" cy="2523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m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6" name="AutoShape 49"/>
          <p:cNvCxnSpPr>
            <a:stCxn id="277" idx="2"/>
            <a:endCxn id="278" idx="0"/>
          </p:cNvCxnSpPr>
          <p:nvPr/>
        </p:nvCxnSpPr>
        <p:spPr>
          <a:xfrm flipV="1" rot="10800000">
            <a:off x="6352560" y="2314080"/>
            <a:ext cx="232560" cy="253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9" name="AutoShape 51"/>
          <p:cNvCxnSpPr>
            <a:stCxn id="277" idx="6"/>
            <a:endCxn id="280" idx="0"/>
          </p:cNvCxnSpPr>
          <p:nvPr/>
        </p:nvCxnSpPr>
        <p:spPr>
          <a:xfrm>
            <a:off x="6813720" y="2314440"/>
            <a:ext cx="234000" cy="253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52"/>
          <p:cNvCxnSpPr>
            <a:stCxn id="278" idx="4"/>
            <a:endCxn id="282" idx="1"/>
          </p:cNvCxnSpPr>
          <p:nvPr/>
        </p:nvCxnSpPr>
        <p:spPr>
          <a:xfrm flipH="1" rot="16200000">
            <a:off x="6329520" y="2819160"/>
            <a:ext cx="313200" cy="265680"/>
          </a:xfrm>
          <a:prstGeom prst="curvedConnector5">
            <a:avLst>
              <a:gd name="adj1" fmla="val 44649"/>
              <a:gd name="adj2" fmla="val 49932"/>
              <a:gd name="adj3" fmla="val 4464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53"/>
          <p:cNvCxnSpPr>
            <a:stCxn id="280" idx="4"/>
            <a:endCxn id="282" idx="7"/>
          </p:cNvCxnSpPr>
          <p:nvPr/>
        </p:nvCxnSpPr>
        <p:spPr>
          <a:xfrm rot="5400000">
            <a:off x="6756480" y="2818800"/>
            <a:ext cx="313200" cy="267120"/>
          </a:xfrm>
          <a:prstGeom prst="curvedConnector5">
            <a:avLst>
              <a:gd name="adj1" fmla="val 44649"/>
              <a:gd name="adj2" fmla="val 49932"/>
              <a:gd name="adj3" fmla="val 4464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7" name="Oval 54"/>
          <p:cNvSpPr/>
          <p:nvPr/>
        </p:nvSpPr>
        <p:spPr>
          <a:xfrm>
            <a:off x="6585120" y="22003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55"/>
          <p:cNvSpPr/>
          <p:nvPr/>
        </p:nvSpPr>
        <p:spPr>
          <a:xfrm>
            <a:off x="6238800" y="256716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Oval 56"/>
          <p:cNvSpPr/>
          <p:nvPr/>
        </p:nvSpPr>
        <p:spPr>
          <a:xfrm>
            <a:off x="6932520" y="256716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Oval 57"/>
          <p:cNvSpPr/>
          <p:nvPr/>
        </p:nvSpPr>
        <p:spPr>
          <a:xfrm>
            <a:off x="6585120" y="30751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Group 58"/>
          <p:cNvGrpSpPr/>
          <p:nvPr/>
        </p:nvGrpSpPr>
        <p:grpSpPr>
          <a:xfrm>
            <a:off x="6211800" y="3514680"/>
            <a:ext cx="979200" cy="1260000"/>
            <a:chOff x="6211800" y="3514680"/>
            <a:chExt cx="979200" cy="1260000"/>
          </a:xfrm>
        </p:grpSpPr>
        <p:cxnSp>
          <p:nvCxnSpPr>
            <p:cNvPr id="285" name="AutoShape 59"/>
            <p:cNvCxnSpPr>
              <a:stCxn id="286" idx="2"/>
              <a:endCxn id="287" idx="0"/>
            </p:cNvCxnSpPr>
            <p:nvPr/>
          </p:nvCxnSpPr>
          <p:spPr>
            <a:xfrm flipV="1" rot="10800000">
              <a:off x="6325200" y="3785400"/>
              <a:ext cx="261000" cy="25272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8" name="AutoShape 60"/>
            <p:cNvCxnSpPr>
              <a:endCxn id="286" idx="0"/>
            </p:cNvCxnSpPr>
            <p:nvPr/>
          </p:nvCxnSpPr>
          <p:spPr>
            <a:xfrm>
              <a:off x="6700320" y="3514680"/>
              <a:ext cx="1080" cy="157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9" name="AutoShape 61"/>
            <p:cNvCxnSpPr>
              <a:stCxn id="286" idx="6"/>
              <a:endCxn id="290" idx="0"/>
            </p:cNvCxnSpPr>
            <p:nvPr/>
          </p:nvCxnSpPr>
          <p:spPr>
            <a:xfrm>
              <a:off x="6814800" y="3785760"/>
              <a:ext cx="262800" cy="25272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1" name="AutoShape 62"/>
            <p:cNvCxnSpPr>
              <a:stCxn id="287" idx="4"/>
              <a:endCxn id="292" idx="1"/>
            </p:cNvCxnSpPr>
            <p:nvPr/>
          </p:nvCxnSpPr>
          <p:spPr>
            <a:xfrm flipH="1" rot="16200000">
              <a:off x="6316560" y="4275720"/>
              <a:ext cx="313200" cy="294480"/>
            </a:xfrm>
            <a:prstGeom prst="curvedConnector5">
              <a:avLst>
                <a:gd name="adj1" fmla="val 44649"/>
                <a:gd name="adj2" fmla="val 49938"/>
                <a:gd name="adj3" fmla="val 446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3" name="AutoShape 63"/>
            <p:cNvCxnSpPr>
              <a:stCxn id="290" idx="4"/>
              <a:endCxn id="292" idx="7"/>
            </p:cNvCxnSpPr>
            <p:nvPr/>
          </p:nvCxnSpPr>
          <p:spPr>
            <a:xfrm rot="5400000">
              <a:off x="6772680" y="4275360"/>
              <a:ext cx="313200" cy="295560"/>
            </a:xfrm>
            <a:prstGeom prst="curvedConnector5">
              <a:avLst>
                <a:gd name="adj1" fmla="val 44649"/>
                <a:gd name="adj2" fmla="val 50000"/>
                <a:gd name="adj3" fmla="val 446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4" name="AutoShape 64"/>
            <p:cNvCxnSpPr>
              <a:stCxn id="286" idx="4"/>
              <a:endCxn id="295" idx="0"/>
            </p:cNvCxnSpPr>
            <p:nvPr/>
          </p:nvCxnSpPr>
          <p:spPr>
            <a:xfrm>
              <a:off x="6700320" y="3900240"/>
              <a:ext cx="1080" cy="137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AutoShape 65"/>
            <p:cNvCxnSpPr>
              <a:stCxn id="295" idx="4"/>
              <a:endCxn id="292" idx="0"/>
            </p:cNvCxnSpPr>
            <p:nvPr/>
          </p:nvCxnSpPr>
          <p:spPr>
            <a:xfrm>
              <a:off x="6700320" y="4266720"/>
              <a:ext cx="1080" cy="28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6" name="Oval 66"/>
            <p:cNvSpPr/>
            <p:nvPr/>
          </p:nvSpPr>
          <p:spPr>
            <a:xfrm>
              <a:off x="6586200" y="3671640"/>
              <a:ext cx="22860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Oval 67"/>
            <p:cNvSpPr/>
            <p:nvPr/>
          </p:nvSpPr>
          <p:spPr>
            <a:xfrm>
              <a:off x="6211800" y="4038120"/>
              <a:ext cx="22860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Oval 68"/>
            <p:cNvSpPr/>
            <p:nvPr/>
          </p:nvSpPr>
          <p:spPr>
            <a:xfrm>
              <a:off x="6962400" y="4038120"/>
              <a:ext cx="22860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Oval 69"/>
            <p:cNvSpPr/>
            <p:nvPr/>
          </p:nvSpPr>
          <p:spPr>
            <a:xfrm>
              <a:off x="6586200" y="4546440"/>
              <a:ext cx="22860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Oval 70"/>
            <p:cNvSpPr/>
            <p:nvPr/>
          </p:nvSpPr>
          <p:spPr>
            <a:xfrm>
              <a:off x="6586200" y="4038120"/>
              <a:ext cx="22860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97" name="AutoShape 71"/>
          <p:cNvCxnSpPr>
            <a:stCxn id="298" idx="2"/>
            <a:endCxn id="299" idx="0"/>
          </p:cNvCxnSpPr>
          <p:nvPr/>
        </p:nvCxnSpPr>
        <p:spPr>
          <a:xfrm>
            <a:off x="4768560" y="5409720"/>
            <a:ext cx="1080" cy="158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0" name="AutoShape 72"/>
          <p:cNvCxnSpPr>
            <a:stCxn id="299" idx="1"/>
            <a:endCxn id="298" idx="1"/>
          </p:cNvCxnSpPr>
          <p:nvPr/>
        </p:nvCxnSpPr>
        <p:spPr>
          <a:xfrm flipH="1" rot="10800000">
            <a:off x="4466880" y="5284080"/>
            <a:ext cx="69120" cy="483480"/>
          </a:xfrm>
          <a:prstGeom prst="bentConnector3">
            <a:avLst>
              <a:gd name="adj1" fmla="val -33455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1" name="Text Box 73"/>
          <p:cNvSpPr/>
          <p:nvPr/>
        </p:nvSpPr>
        <p:spPr>
          <a:xfrm>
            <a:off x="4416480" y="5568840"/>
            <a:ext cx="96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74"/>
          <p:cNvSpPr/>
          <p:nvPr/>
        </p:nvSpPr>
        <p:spPr>
          <a:xfrm>
            <a:off x="4635360" y="5938920"/>
            <a:ext cx="96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AutoShape 75"/>
          <p:cNvCxnSpPr>
            <a:stCxn id="299" idx="2"/>
            <a:endCxn id="304" idx="0"/>
          </p:cNvCxnSpPr>
          <p:nvPr/>
        </p:nvCxnSpPr>
        <p:spPr>
          <a:xfrm>
            <a:off x="4768560" y="5967000"/>
            <a:ext cx="108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5" name="AutoShape 76"/>
          <p:cNvCxnSpPr>
            <a:endCxn id="298" idx="0"/>
          </p:cNvCxnSpPr>
          <p:nvPr/>
        </p:nvCxnSpPr>
        <p:spPr>
          <a:xfrm>
            <a:off x="4768560" y="4978440"/>
            <a:ext cx="1080" cy="18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9" name="AutoShape 77"/>
          <p:cNvSpPr/>
          <p:nvPr/>
        </p:nvSpPr>
        <p:spPr>
          <a:xfrm>
            <a:off x="4467240" y="5567400"/>
            <a:ext cx="603360" cy="39996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72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r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AutoShape 78"/>
          <p:cNvSpPr/>
          <p:nvPr/>
        </p:nvSpPr>
        <p:spPr>
          <a:xfrm>
            <a:off x="4535640" y="6186600"/>
            <a:ext cx="466560" cy="2523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m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AutoShape 79"/>
          <p:cNvSpPr/>
          <p:nvPr/>
        </p:nvSpPr>
        <p:spPr>
          <a:xfrm>
            <a:off x="4535640" y="5157720"/>
            <a:ext cx="466560" cy="2523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m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Group 80"/>
          <p:cNvGrpSpPr/>
          <p:nvPr/>
        </p:nvGrpSpPr>
        <p:grpSpPr>
          <a:xfrm>
            <a:off x="6328800" y="5078520"/>
            <a:ext cx="487800" cy="1260360"/>
            <a:chOff x="6328800" y="5078520"/>
            <a:chExt cx="487800" cy="1260360"/>
          </a:xfrm>
        </p:grpSpPr>
        <p:cxnSp>
          <p:nvCxnSpPr>
            <p:cNvPr id="307" name="AutoShape 81"/>
            <p:cNvCxnSpPr>
              <a:stCxn id="308" idx="2"/>
              <a:endCxn id="309" idx="2"/>
            </p:cNvCxnSpPr>
            <p:nvPr/>
          </p:nvCxnSpPr>
          <p:spPr>
            <a:xfrm flipH="1" rot="10800000">
              <a:off x="6587640" y="5349240"/>
              <a:ext cx="2160" cy="472320"/>
            </a:xfrm>
            <a:prstGeom prst="curvedConnector5">
              <a:avLst>
                <a:gd name="adj1" fmla="val -14400000"/>
                <a:gd name="adj2" fmla="val 49961"/>
                <a:gd name="adj3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0" name="AutoShape 82"/>
            <p:cNvCxnSpPr>
              <a:endCxn id="309" idx="0"/>
            </p:cNvCxnSpPr>
            <p:nvPr/>
          </p:nvCxnSpPr>
          <p:spPr>
            <a:xfrm>
              <a:off x="6701760" y="5078520"/>
              <a:ext cx="1080" cy="157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1" name="AutoShape 83"/>
            <p:cNvCxnSpPr>
              <a:stCxn id="309" idx="4"/>
              <a:endCxn id="308" idx="0"/>
            </p:cNvCxnSpPr>
            <p:nvPr/>
          </p:nvCxnSpPr>
          <p:spPr>
            <a:xfrm>
              <a:off x="6701760" y="5463720"/>
              <a:ext cx="1080" cy="243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2" name="AutoShape 84"/>
            <p:cNvCxnSpPr>
              <a:stCxn id="308" idx="4"/>
              <a:endCxn id="313" idx="0"/>
            </p:cNvCxnSpPr>
            <p:nvPr/>
          </p:nvCxnSpPr>
          <p:spPr>
            <a:xfrm>
              <a:off x="6701760" y="5935320"/>
              <a:ext cx="1080" cy="175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09" name="Oval 85"/>
            <p:cNvSpPr/>
            <p:nvPr/>
          </p:nvSpPr>
          <p:spPr>
            <a:xfrm>
              <a:off x="6588000" y="52354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Oval 86"/>
            <p:cNvSpPr/>
            <p:nvPr/>
          </p:nvSpPr>
          <p:spPr>
            <a:xfrm>
              <a:off x="6588000" y="57070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Oval 87"/>
            <p:cNvSpPr/>
            <p:nvPr/>
          </p:nvSpPr>
          <p:spPr>
            <a:xfrm>
              <a:off x="6588000" y="61102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Line 89"/>
          <p:cNvSpPr/>
          <p:nvPr/>
        </p:nvSpPr>
        <p:spPr>
          <a:xfrm>
            <a:off x="6699240" y="205596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AutoShape 90"/>
          <p:cNvSpPr/>
          <p:nvPr/>
        </p:nvSpPr>
        <p:spPr>
          <a:xfrm flipV="1">
            <a:off x="6653160" y="2120760"/>
            <a:ext cx="92160" cy="748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Example Paths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7" name="Slide Number Placeholder 4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3E782-44E8-43F3-B9A8-0915D3E5669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8" name="AutoShape 5"/>
          <p:cNvCxnSpPr>
            <a:stCxn id="319" idx="4"/>
            <a:endCxn id="320" idx="0"/>
          </p:cNvCxnSpPr>
          <p:nvPr/>
        </p:nvCxnSpPr>
        <p:spPr>
          <a:xfrm>
            <a:off x="3166560" y="2188800"/>
            <a:ext cx="1080" cy="29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1" name="AutoShape 6"/>
          <p:cNvCxnSpPr>
            <a:stCxn id="322" idx="5"/>
            <a:endCxn id="320" idx="2"/>
          </p:cNvCxnSpPr>
          <p:nvPr/>
        </p:nvCxnSpPr>
        <p:spPr>
          <a:xfrm>
            <a:off x="2769840" y="2419200"/>
            <a:ext cx="283320" cy="18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3" name="Text Box 7"/>
          <p:cNvSpPr/>
          <p:nvPr/>
        </p:nvSpPr>
        <p:spPr>
          <a:xfrm>
            <a:off x="254160" y="1414440"/>
            <a:ext cx="1995480" cy="36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expression1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emen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 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ement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expr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 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expression5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ement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 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ement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4" name="AutoShape 8"/>
          <p:cNvCxnSpPr>
            <a:stCxn id="325" idx="6"/>
            <a:endCxn id="320" idx="6"/>
          </p:cNvCxnSpPr>
          <p:nvPr/>
        </p:nvCxnSpPr>
        <p:spPr>
          <a:xfrm flipV="1">
            <a:off x="3281400" y="2601720"/>
            <a:ext cx="2160" cy="489600"/>
          </a:xfrm>
          <a:prstGeom prst="curvedConnector5">
            <a:avLst>
              <a:gd name="adj1" fmla="val 14400000"/>
              <a:gd name="adj2" fmla="val 49963"/>
              <a:gd name="adj3" fmla="val 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6" name="AutoShape 9"/>
          <p:cNvCxnSpPr>
            <a:stCxn id="320" idx="4"/>
            <a:endCxn id="325" idx="0"/>
          </p:cNvCxnSpPr>
          <p:nvPr/>
        </p:nvCxnSpPr>
        <p:spPr>
          <a:xfrm>
            <a:off x="3166560" y="2715840"/>
            <a:ext cx="1080" cy="26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7" name="AutoShape 10"/>
          <p:cNvCxnSpPr>
            <a:stCxn id="325" idx="4"/>
            <a:endCxn id="328" idx="0"/>
          </p:cNvCxnSpPr>
          <p:nvPr/>
        </p:nvCxnSpPr>
        <p:spPr>
          <a:xfrm>
            <a:off x="3166560" y="3204720"/>
            <a:ext cx="1080" cy="180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9" name="AutoShape 11"/>
          <p:cNvCxnSpPr>
            <a:stCxn id="328" idx="4"/>
            <a:endCxn id="330" idx="0"/>
          </p:cNvCxnSpPr>
          <p:nvPr/>
        </p:nvCxnSpPr>
        <p:spPr>
          <a:xfrm>
            <a:off x="3166560" y="3612960"/>
            <a:ext cx="1080" cy="30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1" name="AutoShape 13"/>
          <p:cNvCxnSpPr>
            <a:stCxn id="319" idx="2"/>
            <a:endCxn id="322" idx="7"/>
          </p:cNvCxnSpPr>
          <p:nvPr/>
        </p:nvCxnSpPr>
        <p:spPr>
          <a:xfrm flipH="1">
            <a:off x="2769480" y="2074680"/>
            <a:ext cx="283320" cy="18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2" name="AutoShape 14"/>
          <p:cNvCxnSpPr>
            <a:stCxn id="328" idx="2"/>
            <a:endCxn id="333" idx="7"/>
          </p:cNvCxnSpPr>
          <p:nvPr/>
        </p:nvCxnSpPr>
        <p:spPr>
          <a:xfrm flipH="1">
            <a:off x="2769480" y="3498480"/>
            <a:ext cx="283320" cy="18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4" name="AutoShape 15"/>
          <p:cNvCxnSpPr>
            <a:stCxn id="333" idx="5"/>
            <a:endCxn id="330" idx="2"/>
          </p:cNvCxnSpPr>
          <p:nvPr/>
        </p:nvCxnSpPr>
        <p:spPr>
          <a:xfrm>
            <a:off x="2769840" y="3843000"/>
            <a:ext cx="283320" cy="18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9" name="Oval 16"/>
          <p:cNvSpPr/>
          <p:nvPr/>
        </p:nvSpPr>
        <p:spPr>
          <a:xfrm>
            <a:off x="3052800" y="196056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Oval 17"/>
          <p:cNvSpPr/>
          <p:nvPr/>
        </p:nvSpPr>
        <p:spPr>
          <a:xfrm>
            <a:off x="3052800" y="24876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Oval 18"/>
          <p:cNvSpPr/>
          <p:nvPr/>
        </p:nvSpPr>
        <p:spPr>
          <a:xfrm>
            <a:off x="2575080" y="22240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Oval 19"/>
          <p:cNvSpPr/>
          <p:nvPr/>
        </p:nvSpPr>
        <p:spPr>
          <a:xfrm>
            <a:off x="3052800" y="29764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Oval 20"/>
          <p:cNvSpPr/>
          <p:nvPr/>
        </p:nvSpPr>
        <p:spPr>
          <a:xfrm>
            <a:off x="3052800" y="3384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Oval 21"/>
          <p:cNvSpPr/>
          <p:nvPr/>
        </p:nvSpPr>
        <p:spPr>
          <a:xfrm>
            <a:off x="3052800" y="39132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Oval 22"/>
          <p:cNvSpPr/>
          <p:nvPr/>
        </p:nvSpPr>
        <p:spPr>
          <a:xfrm>
            <a:off x="2575080" y="364824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23"/>
          <p:cNvSpPr/>
          <p:nvPr/>
        </p:nvSpPr>
        <p:spPr>
          <a:xfrm>
            <a:off x="2793600" y="1981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24"/>
          <p:cNvSpPr/>
          <p:nvPr/>
        </p:nvSpPr>
        <p:spPr>
          <a:xfrm>
            <a:off x="2793600" y="25257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25"/>
          <p:cNvSpPr/>
          <p:nvPr/>
        </p:nvSpPr>
        <p:spPr>
          <a:xfrm>
            <a:off x="3261960" y="2230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26"/>
          <p:cNvSpPr/>
          <p:nvPr/>
        </p:nvSpPr>
        <p:spPr>
          <a:xfrm>
            <a:off x="2945880" y="27385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3569760" y="27702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3261960" y="3178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29"/>
          <p:cNvSpPr/>
          <p:nvPr/>
        </p:nvSpPr>
        <p:spPr>
          <a:xfrm>
            <a:off x="2793600" y="3413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30"/>
          <p:cNvSpPr/>
          <p:nvPr/>
        </p:nvSpPr>
        <p:spPr>
          <a:xfrm>
            <a:off x="2793600" y="39466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31"/>
          <p:cNvSpPr/>
          <p:nvPr/>
        </p:nvSpPr>
        <p:spPr>
          <a:xfrm>
            <a:off x="3261960" y="36543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4508280" y="1647720"/>
            <a:ext cx="57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ath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4516560" y="2055960"/>
            <a:ext cx="3628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1 = e1, e2, e4, e6, e7, e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2 = e1, e2, e4, e5, e4, e6, e7, e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3 = e3, e4, e6, e7, e8, e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4 = e6, e7, e8, e10, e3, e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5 = e1, e2, e4, e6, e9, e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6 = e4, e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7 = e3, e4, e6, e9, e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8 = e1, e2, e4, e5, e4, e6, e9, e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Line 40"/>
          <p:cNvSpPr/>
          <p:nvPr/>
        </p:nvSpPr>
        <p:spPr>
          <a:xfrm>
            <a:off x="7010280" y="2038320"/>
            <a:ext cx="0" cy="210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41"/>
          <p:cNvSpPr/>
          <p:nvPr/>
        </p:nvSpPr>
        <p:spPr>
          <a:xfrm>
            <a:off x="4543560" y="1938240"/>
            <a:ext cx="223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66"/>
          <p:cNvSpPr/>
          <p:nvPr/>
        </p:nvSpPr>
        <p:spPr>
          <a:xfrm>
            <a:off x="3182760" y="4602240"/>
            <a:ext cx="4327560" cy="34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18360" bIns="183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(G) = e – n + 2 = 9 – 7 + 2 =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Example 1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350" name="Content Placeholder 4" descr="Screen shot 2013-11-25 at 6.52.41 PM.png"/>
          <p:cNvPicPr/>
          <p:nvPr/>
        </p:nvPicPr>
        <p:blipFill>
          <a:blip r:embed="rId1"/>
          <a:srcRect l="52745" t="8032" r="0" b="19724"/>
          <a:stretch/>
        </p:blipFill>
        <p:spPr>
          <a:xfrm>
            <a:off x="835200" y="1409760"/>
            <a:ext cx="3917880" cy="3706920"/>
          </a:xfrm>
          <a:prstGeom prst="rect">
            <a:avLst/>
          </a:prstGeom>
          <a:ln w="0">
            <a:noFill/>
          </a:ln>
        </p:spPr>
      </p:pic>
      <p:sp>
        <p:nvSpPr>
          <p:cNvPr id="351" name="Slide Number Placeholder 2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8FA64-7192-41C0-A149-64B76BFDC1E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353" name="Content Placeholder 4" descr="Screen shot 2013-11-25 at 6.52.41 PM.png"/>
          <p:cNvPicPr/>
          <p:nvPr/>
        </p:nvPicPr>
        <p:blipFill>
          <a:blip r:embed="rId1"/>
          <a:srcRect l="0" t="8032" r="43642" b="3342"/>
          <a:stretch/>
        </p:blipFill>
        <p:spPr>
          <a:xfrm>
            <a:off x="0" y="1119240"/>
            <a:ext cx="4365720" cy="3892320"/>
          </a:xfrm>
          <a:prstGeom prst="rect">
            <a:avLst/>
          </a:prstGeom>
          <a:ln w="0">
            <a:noFill/>
          </a:ln>
        </p:spPr>
      </p:pic>
      <p:sp>
        <p:nvSpPr>
          <p:cNvPr id="354" name="Slide Number Placeholder 3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4AE2A-5CE3-41DE-9B86-BF70A1CD0E8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Box 6"/>
          <p:cNvSpPr/>
          <p:nvPr/>
        </p:nvSpPr>
        <p:spPr>
          <a:xfrm>
            <a:off x="4735440" y="2212920"/>
            <a:ext cx="44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=e-n+2=11-9+2=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357" name="Content Placeholder 4" descr="Screen shot 2013-11-25 at 6.57.03 PM.png"/>
          <p:cNvPicPr/>
          <p:nvPr/>
        </p:nvPicPr>
        <p:blipFill>
          <a:blip r:embed="rId1"/>
          <a:srcRect l="0" t="15788" r="48225" b="11665"/>
          <a:stretch/>
        </p:blipFill>
        <p:spPr>
          <a:xfrm>
            <a:off x="490680" y="1405080"/>
            <a:ext cx="5259240" cy="3601800"/>
          </a:xfrm>
          <a:prstGeom prst="rect">
            <a:avLst/>
          </a:prstGeom>
          <a:ln w="0">
            <a:noFill/>
          </a:ln>
        </p:spPr>
      </p:pic>
      <p:sp>
        <p:nvSpPr>
          <p:cNvPr id="358" name="Slide Number Placeholder 3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53D9E-54B2-4146-BC77-42BD3C52E2A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360" name="Content Placeholder 4" descr="Screen shot 2013-11-25 at 6.57.03 PM.png"/>
          <p:cNvPicPr/>
          <p:nvPr/>
        </p:nvPicPr>
        <p:blipFill>
          <a:blip r:embed="rId1"/>
          <a:srcRect l="51298" t="1313" r="0" b="-663"/>
          <a:stretch/>
        </p:blipFill>
        <p:spPr>
          <a:xfrm>
            <a:off x="326880" y="1427040"/>
            <a:ext cx="4044960" cy="4033800"/>
          </a:xfrm>
          <a:prstGeom prst="rect">
            <a:avLst/>
          </a:prstGeom>
          <a:ln w="0">
            <a:noFill/>
          </a:ln>
        </p:spPr>
      </p:pic>
      <p:sp>
        <p:nvSpPr>
          <p:cNvPr id="361" name="Slide Number Placeholder 3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409D9-02F9-4D0E-A5CE-E97DC3A243E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Box 5"/>
          <p:cNvSpPr/>
          <p:nvPr/>
        </p:nvSpPr>
        <p:spPr>
          <a:xfrm>
            <a:off x="4735440" y="2212920"/>
            <a:ext cx="44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=e-n+2=11-9+2=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0T05:14:33Z</dcterms:created>
  <dc:creator>Ivan Marsic</dc:creator>
  <dc:description/>
  <cp:keywords>software engineering software development software complexity measurement</cp:keywords>
  <dc:language>en-US</dc:language>
  <cp:lastModifiedBy>Aseel</cp:lastModifiedBy>
  <dcterms:modified xsi:type="dcterms:W3CDTF">2013-11-25T19:11:09Z</dcterms:modified>
  <cp:revision>3961</cp:revision>
  <dc:subject>lecture 15: Software Complexity Metrics</dc:subject>
  <dc:title>Software Engineering Lecture Slides</dc:title>
</cp:coreProperties>
</file>