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6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7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8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07BB-D8A1-408A-8E72-0BA7CE5B9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381C-59BC-46A6-81B2-E973A1E02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A70C-3289-46BF-B32E-E8EEBF217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CB0F-E19D-4E84-92BA-5F6079DD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637-BBA8-4657-B6AF-075086A8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5EB-BFA0-488D-965D-F6C79AB4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928-9450-496E-A59E-E2D0E790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5DE7-C6AF-40B6-9265-E732EF94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07B7-FDF8-4969-85EB-CE77629F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6D52-9ABD-4AC0-BDE2-580CE858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630D-F388-4676-A80B-CDA6DC73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3694-5B30-47E1-ACB1-A3D86992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DC73-4431-4AFC-8804-7A627C7D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754F-265B-4B29-B1AE-0D4FC902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D0D-58CE-48BD-98B2-7C6A1456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6684-2C9F-4913-AD7D-F4366B8B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8402-BA28-4C01-A6CE-A661EAC4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0271-8D2F-4A60-A7B6-6AF47EF3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08C8-F80B-422B-9D5D-36D54207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D8A5-2E6B-4765-8FBE-782CF7B7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7722A-0ACE-4FE5-8D5F-97767602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FEA8C-77EB-4444-8285-ADC05559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48A91-17A5-44A6-A09C-37013AE1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3F826-D140-41E6-8EBB-2669D8F7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47809-3E24-45BB-BF64-B92D1494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9CD8-8FE7-4A12-A682-664BE961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9C72C-9130-46C6-857D-DDF776FC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8F986-46C1-4B03-82B9-331A9221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D2274-244B-44B4-A42A-956F407D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75A23-8699-4CB4-986A-0E30F536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4389D-2ADF-40D0-8FF3-1CAF1314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C1FA5-FB80-4EF5-9C0A-EF1FAF2D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63945-21FD-49C0-BBAC-FA669A26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0C558-9F78-4710-BDAC-1127A3D8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4322E-4E13-41D1-ACA1-281E89C4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A362E-D579-471E-BEB1-43AD6A8D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91D-7FDD-41CE-8C6C-D8252BE4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7B709-FB94-4A31-A311-760427F2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6E287-FE7C-4EDB-B4D6-39E84ECF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91CAE-AD1A-4A3B-A3A3-1720C20C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6F7A6-9081-464D-8F94-AE8A8B0B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FFA86-756C-4274-8A79-297CC26E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3206B-F70A-4283-A39E-50852668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A0983-597B-408B-9507-1BA84143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E6833-0B22-4037-913D-CA54DB14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CCCAD-D98F-49B8-9CC8-1BC230D2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97347-1109-4168-B6EA-A600A217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BB5-AC69-4BA4-9DCB-DDCF6E70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F211B-1A7D-4D32-A5A4-97FBDBBC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12C27-9ED4-43AB-B94E-448A5FAC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CDAD5-E7DC-4D25-8F41-804F2417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1D2AE-35A2-4DBC-8D4E-F1FF760E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BBAEE-6394-4815-AA20-3D744E29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1CBA9-7CFE-4664-9A4F-E32AAE61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27C10-6A70-452B-9CD4-D123A2B6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4C91B-21AD-4D45-8C9D-86F6E1BF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D64F5-3F7D-41B3-9B3C-42819A6D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1AE45-D823-43DA-9786-B835E451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716-14DE-4FEF-A5CE-E82D98E8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ADFAA-20DF-45BF-A408-A1EF2185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4CD-810E-4A1C-A14A-551D286F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7A9A-C600-4D95-9B3D-923F121A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2E4-C466-4388-B4EC-B435578F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7DC9-2C06-4614-AE92-8CED6B70671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7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Freeform 10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29DB-A13F-494E-9D02-3FD3B345C40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ight Triangle 10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F08E-E33E-4939-A8C9-F975060996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ight Triangle 10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B07E-08A5-4713-BF24-588A95958BAD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10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096D-0B53-4113-ADD1-C8CECD613B7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yclomatic Complexity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3F15-56A4-4F73-BCC3-9B2E1A913ED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yclomatic Complexit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nvented by Thomas McCabe (1974) to measure the complexity of a program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 conditional logic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yclomatic complexity of graph G equals #edges - #nodes + 2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(G) = e – n + 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Also corresponds to the number of linearly independent paths in a program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A805-EB4B-4B0C-B438-4481BDD59E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verting Code to Graph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3337-2843-4FA5-915B-648FE10D867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2314440" y="2216160"/>
            <a:ext cx="14666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expression1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ement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ement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314440" y="3459240"/>
            <a:ext cx="139032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expr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1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2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m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3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m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 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m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676520" y="2550960"/>
            <a:ext cx="24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675800" y="4022640"/>
            <a:ext cx="254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314440" y="5327640"/>
            <a:ext cx="1085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ement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expr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 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ement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1676520" y="5586480"/>
            <a:ext cx="24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>
            <a:off x="1674720" y="4932360"/>
            <a:ext cx="5511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>
            <a:off x="1674720" y="3379680"/>
            <a:ext cx="5511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1674720" y="1982880"/>
            <a:ext cx="5511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1674720" y="6504120"/>
            <a:ext cx="5511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2553120" y="175248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4196160" y="1752480"/>
            <a:ext cx="1143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6375960" y="1752480"/>
            <a:ext cx="65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16"/>
          <p:cNvSpPr/>
          <p:nvPr/>
        </p:nvSpPr>
        <p:spPr>
          <a:xfrm>
            <a:off x="3556080" y="2575080"/>
            <a:ext cx="191880" cy="19836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17"/>
          <p:cNvSpPr/>
          <p:nvPr/>
        </p:nvSpPr>
        <p:spPr>
          <a:xfrm>
            <a:off x="3556080" y="4046400"/>
            <a:ext cx="191880" cy="19872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18"/>
          <p:cNvSpPr/>
          <p:nvPr/>
        </p:nvSpPr>
        <p:spPr>
          <a:xfrm>
            <a:off x="5788080" y="4046400"/>
            <a:ext cx="191880" cy="19872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19"/>
          <p:cNvSpPr/>
          <p:nvPr/>
        </p:nvSpPr>
        <p:spPr>
          <a:xfrm>
            <a:off x="5786280" y="2573280"/>
            <a:ext cx="192240" cy="19836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0"/>
          <p:cNvSpPr/>
          <p:nvPr/>
        </p:nvSpPr>
        <p:spPr>
          <a:xfrm>
            <a:off x="3557520" y="5608800"/>
            <a:ext cx="192240" cy="19836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21"/>
          <p:cNvSpPr/>
          <p:nvPr/>
        </p:nvSpPr>
        <p:spPr>
          <a:xfrm>
            <a:off x="5788080" y="5610240"/>
            <a:ext cx="191880" cy="19836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AutoShape 22"/>
          <p:cNvCxnSpPr>
            <a:endCxn id="251" idx="0"/>
          </p:cNvCxnSpPr>
          <p:nvPr/>
        </p:nvCxnSpPr>
        <p:spPr>
          <a:xfrm>
            <a:off x="4768560" y="20368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AutoShape 23"/>
          <p:cNvCxnSpPr>
            <a:stCxn id="251" idx="3"/>
            <a:endCxn id="253" idx="0"/>
          </p:cNvCxnSpPr>
          <p:nvPr/>
        </p:nvCxnSpPr>
        <p:spPr>
          <a:xfrm>
            <a:off x="5070240" y="2361960"/>
            <a:ext cx="130680" cy="191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24"/>
          <p:cNvCxnSpPr>
            <a:stCxn id="251" idx="1"/>
            <a:endCxn id="255" idx="0"/>
          </p:cNvCxnSpPr>
          <p:nvPr/>
        </p:nvCxnSpPr>
        <p:spPr>
          <a:xfrm flipV="1" rot="10800000">
            <a:off x="4336200" y="2361240"/>
            <a:ext cx="131040" cy="191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AutoShape 25"/>
          <p:cNvCxnSpPr>
            <a:stCxn id="253" idx="2"/>
            <a:endCxn id="257" idx="0"/>
          </p:cNvCxnSpPr>
          <p:nvPr/>
        </p:nvCxnSpPr>
        <p:spPr>
          <a:xfrm rot="5400000">
            <a:off x="4857840" y="2715120"/>
            <a:ext cx="253080" cy="432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AutoShape 26"/>
          <p:cNvCxnSpPr>
            <a:stCxn id="255" idx="2"/>
            <a:endCxn id="257" idx="0"/>
          </p:cNvCxnSpPr>
          <p:nvPr/>
        </p:nvCxnSpPr>
        <p:spPr>
          <a:xfrm flipH="1" rot="16200000">
            <a:off x="4426560" y="2714760"/>
            <a:ext cx="253080" cy="43272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Text Box 27"/>
          <p:cNvSpPr/>
          <p:nvPr/>
        </p:nvSpPr>
        <p:spPr>
          <a:xfrm>
            <a:off x="4356000" y="2163600"/>
            <a:ext cx="9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8"/>
          <p:cNvSpPr/>
          <p:nvPr/>
        </p:nvSpPr>
        <p:spPr>
          <a:xfrm>
            <a:off x="5076720" y="2163600"/>
            <a:ext cx="9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9"/>
          <p:cNvSpPr/>
          <p:nvPr/>
        </p:nvSpPr>
        <p:spPr>
          <a:xfrm>
            <a:off x="4467240" y="2162160"/>
            <a:ext cx="603360" cy="3999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30"/>
          <p:cNvSpPr/>
          <p:nvPr/>
        </p:nvSpPr>
        <p:spPr>
          <a:xfrm>
            <a:off x="4535640" y="3057480"/>
            <a:ext cx="46656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m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31"/>
          <p:cNvSpPr/>
          <p:nvPr/>
        </p:nvSpPr>
        <p:spPr>
          <a:xfrm>
            <a:off x="4103640" y="2552760"/>
            <a:ext cx="46692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m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32"/>
          <p:cNvSpPr/>
          <p:nvPr/>
        </p:nvSpPr>
        <p:spPr>
          <a:xfrm>
            <a:off x="4967280" y="2552760"/>
            <a:ext cx="46656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m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AutoShape 33"/>
          <p:cNvCxnSpPr>
            <a:endCxn id="262" idx="0"/>
          </p:cNvCxnSpPr>
          <p:nvPr/>
        </p:nvCxnSpPr>
        <p:spPr>
          <a:xfrm>
            <a:off x="4768560" y="3417480"/>
            <a:ext cx="108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34"/>
          <p:cNvCxnSpPr>
            <a:stCxn id="262" idx="3"/>
            <a:endCxn id="264" idx="0"/>
          </p:cNvCxnSpPr>
          <p:nvPr/>
        </p:nvCxnSpPr>
        <p:spPr>
          <a:xfrm>
            <a:off x="5070600" y="3742920"/>
            <a:ext cx="303840" cy="345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5" name="AutoShape 35"/>
          <p:cNvCxnSpPr>
            <a:stCxn id="262" idx="1"/>
            <a:endCxn id="266" idx="0"/>
          </p:cNvCxnSpPr>
          <p:nvPr/>
        </p:nvCxnSpPr>
        <p:spPr>
          <a:xfrm flipV="1" rot="10800000">
            <a:off x="4163400" y="3742200"/>
            <a:ext cx="303840" cy="345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36"/>
          <p:cNvCxnSpPr>
            <a:stCxn id="264" idx="2"/>
            <a:endCxn id="268" idx="0"/>
          </p:cNvCxnSpPr>
          <p:nvPr/>
        </p:nvCxnSpPr>
        <p:spPr>
          <a:xfrm rot="5400000">
            <a:off x="4930920" y="4177440"/>
            <a:ext cx="280080" cy="605520"/>
          </a:xfrm>
          <a:prstGeom prst="bentConnector3">
            <a:avLst>
              <a:gd name="adj1" fmla="val 494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AutoShape 37"/>
          <p:cNvCxnSpPr>
            <a:stCxn id="266" idx="2"/>
            <a:endCxn id="268" idx="0"/>
          </p:cNvCxnSpPr>
          <p:nvPr/>
        </p:nvCxnSpPr>
        <p:spPr>
          <a:xfrm flipH="1" rot="16200000">
            <a:off x="4326840" y="4177080"/>
            <a:ext cx="280080" cy="605520"/>
          </a:xfrm>
          <a:prstGeom prst="bentConnector3">
            <a:avLst>
              <a:gd name="adj1" fmla="val 494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38"/>
          <p:cNvCxnSpPr>
            <a:stCxn id="262" idx="2"/>
            <a:endCxn id="271" idx="0"/>
          </p:cNvCxnSpPr>
          <p:nvPr/>
        </p:nvCxnSpPr>
        <p:spPr>
          <a:xfrm>
            <a:off x="4768560" y="39430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AutoShape 39"/>
          <p:cNvCxnSpPr>
            <a:stCxn id="271" idx="2"/>
            <a:endCxn id="268" idx="0"/>
          </p:cNvCxnSpPr>
          <p:nvPr/>
        </p:nvCxnSpPr>
        <p:spPr>
          <a:xfrm>
            <a:off x="4768560" y="4338720"/>
            <a:ext cx="108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0"/>
          <p:cNvSpPr/>
          <p:nvPr/>
        </p:nvSpPr>
        <p:spPr>
          <a:xfrm>
            <a:off x="4570560" y="3873600"/>
            <a:ext cx="8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1"/>
          <p:cNvSpPr/>
          <p:nvPr/>
        </p:nvSpPr>
        <p:spPr>
          <a:xfrm>
            <a:off x="4343400" y="3543480"/>
            <a:ext cx="8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2"/>
          <p:cNvSpPr/>
          <p:nvPr/>
        </p:nvSpPr>
        <p:spPr>
          <a:xfrm>
            <a:off x="5102280" y="3543480"/>
            <a:ext cx="8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43"/>
          <p:cNvSpPr/>
          <p:nvPr/>
        </p:nvSpPr>
        <p:spPr>
          <a:xfrm>
            <a:off x="4467240" y="3543480"/>
            <a:ext cx="603360" cy="3999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44"/>
          <p:cNvSpPr/>
          <p:nvPr/>
        </p:nvSpPr>
        <p:spPr>
          <a:xfrm>
            <a:off x="4535640" y="4619520"/>
            <a:ext cx="46656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m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45"/>
          <p:cNvSpPr/>
          <p:nvPr/>
        </p:nvSpPr>
        <p:spPr>
          <a:xfrm>
            <a:off x="4535640" y="4086360"/>
            <a:ext cx="46656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m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46"/>
          <p:cNvSpPr/>
          <p:nvPr/>
        </p:nvSpPr>
        <p:spPr>
          <a:xfrm>
            <a:off x="3930480" y="4087800"/>
            <a:ext cx="46692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m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47"/>
          <p:cNvSpPr/>
          <p:nvPr/>
        </p:nvSpPr>
        <p:spPr>
          <a:xfrm>
            <a:off x="5140440" y="4087800"/>
            <a:ext cx="46656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m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AutoShape 49"/>
          <p:cNvCxnSpPr>
            <a:stCxn id="277" idx="2"/>
            <a:endCxn id="278" idx="0"/>
          </p:cNvCxnSpPr>
          <p:nvPr/>
        </p:nvCxnSpPr>
        <p:spPr>
          <a:xfrm flipV="1" rot="10800000">
            <a:off x="6352560" y="2314080"/>
            <a:ext cx="232560" cy="253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51"/>
          <p:cNvCxnSpPr>
            <a:stCxn id="277" idx="6"/>
            <a:endCxn id="280" idx="0"/>
          </p:cNvCxnSpPr>
          <p:nvPr/>
        </p:nvCxnSpPr>
        <p:spPr>
          <a:xfrm>
            <a:off x="6813720" y="2314440"/>
            <a:ext cx="234000" cy="253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52"/>
          <p:cNvCxnSpPr>
            <a:stCxn id="278" idx="4"/>
            <a:endCxn id="282" idx="1"/>
          </p:cNvCxnSpPr>
          <p:nvPr/>
        </p:nvCxnSpPr>
        <p:spPr>
          <a:xfrm flipH="1" rot="16200000">
            <a:off x="6329520" y="2819160"/>
            <a:ext cx="313200" cy="265680"/>
          </a:xfrm>
          <a:prstGeom prst="curvedConnector5">
            <a:avLst>
              <a:gd name="adj1" fmla="val 44649"/>
              <a:gd name="adj2" fmla="val 49932"/>
              <a:gd name="adj3" fmla="val 446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53"/>
          <p:cNvCxnSpPr>
            <a:stCxn id="280" idx="4"/>
            <a:endCxn id="282" idx="7"/>
          </p:cNvCxnSpPr>
          <p:nvPr/>
        </p:nvCxnSpPr>
        <p:spPr>
          <a:xfrm rot="5400000">
            <a:off x="6756480" y="2818800"/>
            <a:ext cx="313200" cy="267120"/>
          </a:xfrm>
          <a:prstGeom prst="curvedConnector5">
            <a:avLst>
              <a:gd name="adj1" fmla="val 44649"/>
              <a:gd name="adj2" fmla="val 49932"/>
              <a:gd name="adj3" fmla="val 446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Oval 54"/>
          <p:cNvSpPr/>
          <p:nvPr/>
        </p:nvSpPr>
        <p:spPr>
          <a:xfrm>
            <a:off x="6585120" y="2200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55"/>
          <p:cNvSpPr/>
          <p:nvPr/>
        </p:nvSpPr>
        <p:spPr>
          <a:xfrm>
            <a:off x="6238800" y="256716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56"/>
          <p:cNvSpPr/>
          <p:nvPr/>
        </p:nvSpPr>
        <p:spPr>
          <a:xfrm>
            <a:off x="6932520" y="256716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57"/>
          <p:cNvSpPr/>
          <p:nvPr/>
        </p:nvSpPr>
        <p:spPr>
          <a:xfrm>
            <a:off x="6585120" y="3075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58"/>
          <p:cNvGrpSpPr/>
          <p:nvPr/>
        </p:nvGrpSpPr>
        <p:grpSpPr>
          <a:xfrm>
            <a:off x="6211800" y="3514680"/>
            <a:ext cx="979200" cy="1260000"/>
            <a:chOff x="6211800" y="3514680"/>
            <a:chExt cx="979200" cy="1260000"/>
          </a:xfrm>
        </p:grpSpPr>
        <p:cxnSp>
          <p:nvCxnSpPr>
            <p:cNvPr id="285" name="AutoShape 59"/>
            <p:cNvCxnSpPr>
              <a:stCxn id="286" idx="2"/>
              <a:endCxn id="287" idx="0"/>
            </p:cNvCxnSpPr>
            <p:nvPr/>
          </p:nvCxnSpPr>
          <p:spPr>
            <a:xfrm flipV="1" rot="10800000">
              <a:off x="6325200" y="3785400"/>
              <a:ext cx="261000" cy="2527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AutoShape 60"/>
            <p:cNvCxnSpPr>
              <a:endCxn id="286" idx="0"/>
            </p:cNvCxnSpPr>
            <p:nvPr/>
          </p:nvCxnSpPr>
          <p:spPr>
            <a:xfrm>
              <a:off x="6700320" y="3514680"/>
              <a:ext cx="1080" cy="157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AutoShape 61"/>
            <p:cNvCxnSpPr>
              <a:stCxn id="286" idx="6"/>
              <a:endCxn id="290" idx="0"/>
            </p:cNvCxnSpPr>
            <p:nvPr/>
          </p:nvCxnSpPr>
          <p:spPr>
            <a:xfrm>
              <a:off x="6814800" y="3785760"/>
              <a:ext cx="262800" cy="2527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AutoShape 62"/>
            <p:cNvCxnSpPr>
              <a:stCxn id="287" idx="4"/>
              <a:endCxn id="292" idx="1"/>
            </p:cNvCxnSpPr>
            <p:nvPr/>
          </p:nvCxnSpPr>
          <p:spPr>
            <a:xfrm flipH="1" rot="16200000">
              <a:off x="6316560" y="4275720"/>
              <a:ext cx="313200" cy="294480"/>
            </a:xfrm>
            <a:prstGeom prst="curvedConnector5">
              <a:avLst>
                <a:gd name="adj1" fmla="val 44649"/>
                <a:gd name="adj2" fmla="val 49938"/>
                <a:gd name="adj3" fmla="val 446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" name="AutoShape 63"/>
            <p:cNvCxnSpPr>
              <a:stCxn id="290" idx="4"/>
              <a:endCxn id="292" idx="7"/>
            </p:cNvCxnSpPr>
            <p:nvPr/>
          </p:nvCxnSpPr>
          <p:spPr>
            <a:xfrm rot="5400000">
              <a:off x="6772680" y="4275360"/>
              <a:ext cx="313200" cy="295560"/>
            </a:xfrm>
            <a:prstGeom prst="curvedConnector5">
              <a:avLst>
                <a:gd name="adj1" fmla="val 44649"/>
                <a:gd name="adj2" fmla="val 50000"/>
                <a:gd name="adj3" fmla="val 446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4" name="AutoShape 64"/>
            <p:cNvCxnSpPr>
              <a:stCxn id="286" idx="4"/>
              <a:endCxn id="295" idx="0"/>
            </p:cNvCxnSpPr>
            <p:nvPr/>
          </p:nvCxnSpPr>
          <p:spPr>
            <a:xfrm>
              <a:off x="6700320" y="3900240"/>
              <a:ext cx="1080" cy="13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AutoShape 65"/>
            <p:cNvCxnSpPr>
              <a:stCxn id="295" idx="4"/>
              <a:endCxn id="292" idx="0"/>
            </p:cNvCxnSpPr>
            <p:nvPr/>
          </p:nvCxnSpPr>
          <p:spPr>
            <a:xfrm>
              <a:off x="6700320" y="4266720"/>
              <a:ext cx="1080" cy="28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6" name="Oval 66"/>
            <p:cNvSpPr/>
            <p:nvPr/>
          </p:nvSpPr>
          <p:spPr>
            <a:xfrm>
              <a:off x="6586200" y="367164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67"/>
            <p:cNvSpPr/>
            <p:nvPr/>
          </p:nvSpPr>
          <p:spPr>
            <a:xfrm>
              <a:off x="6211800" y="40381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Oval 68"/>
            <p:cNvSpPr/>
            <p:nvPr/>
          </p:nvSpPr>
          <p:spPr>
            <a:xfrm>
              <a:off x="6962400" y="40381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69"/>
            <p:cNvSpPr/>
            <p:nvPr/>
          </p:nvSpPr>
          <p:spPr>
            <a:xfrm>
              <a:off x="6586200" y="454644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70"/>
            <p:cNvSpPr/>
            <p:nvPr/>
          </p:nvSpPr>
          <p:spPr>
            <a:xfrm>
              <a:off x="6586200" y="40381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7" name="AutoShape 71"/>
          <p:cNvCxnSpPr>
            <a:stCxn id="298" idx="2"/>
            <a:endCxn id="299" idx="0"/>
          </p:cNvCxnSpPr>
          <p:nvPr/>
        </p:nvCxnSpPr>
        <p:spPr>
          <a:xfrm>
            <a:off x="4768560" y="5409720"/>
            <a:ext cx="1080" cy="15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AutoShape 72"/>
          <p:cNvCxnSpPr>
            <a:stCxn id="299" idx="1"/>
            <a:endCxn id="298" idx="1"/>
          </p:cNvCxnSpPr>
          <p:nvPr/>
        </p:nvCxnSpPr>
        <p:spPr>
          <a:xfrm flipH="1" rot="10800000">
            <a:off x="4466880" y="5284080"/>
            <a:ext cx="69120" cy="483480"/>
          </a:xfrm>
          <a:prstGeom prst="bentConnector3">
            <a:avLst>
              <a:gd name="adj1" fmla="val -3345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1" name="Text Box 73"/>
          <p:cNvSpPr/>
          <p:nvPr/>
        </p:nvSpPr>
        <p:spPr>
          <a:xfrm>
            <a:off x="4416480" y="5568840"/>
            <a:ext cx="9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74"/>
          <p:cNvSpPr/>
          <p:nvPr/>
        </p:nvSpPr>
        <p:spPr>
          <a:xfrm>
            <a:off x="4635360" y="5938920"/>
            <a:ext cx="9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75"/>
          <p:cNvCxnSpPr>
            <a:stCxn id="299" idx="2"/>
            <a:endCxn id="304" idx="0"/>
          </p:cNvCxnSpPr>
          <p:nvPr/>
        </p:nvCxnSpPr>
        <p:spPr>
          <a:xfrm>
            <a:off x="4768560" y="596700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AutoShape 76"/>
          <p:cNvCxnSpPr>
            <a:endCxn id="298" idx="0"/>
          </p:cNvCxnSpPr>
          <p:nvPr/>
        </p:nvCxnSpPr>
        <p:spPr>
          <a:xfrm>
            <a:off x="4768560" y="4978440"/>
            <a:ext cx="108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9" name="AutoShape 77"/>
          <p:cNvSpPr/>
          <p:nvPr/>
        </p:nvSpPr>
        <p:spPr>
          <a:xfrm>
            <a:off x="4467240" y="5567400"/>
            <a:ext cx="603360" cy="3999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78"/>
          <p:cNvSpPr/>
          <p:nvPr/>
        </p:nvSpPr>
        <p:spPr>
          <a:xfrm>
            <a:off x="4535640" y="6186600"/>
            <a:ext cx="46656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m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79"/>
          <p:cNvSpPr/>
          <p:nvPr/>
        </p:nvSpPr>
        <p:spPr>
          <a:xfrm>
            <a:off x="4535640" y="5157720"/>
            <a:ext cx="46656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m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80"/>
          <p:cNvGrpSpPr/>
          <p:nvPr/>
        </p:nvGrpSpPr>
        <p:grpSpPr>
          <a:xfrm>
            <a:off x="6328800" y="5078520"/>
            <a:ext cx="487800" cy="1260360"/>
            <a:chOff x="6328800" y="5078520"/>
            <a:chExt cx="487800" cy="1260360"/>
          </a:xfrm>
        </p:grpSpPr>
        <p:cxnSp>
          <p:nvCxnSpPr>
            <p:cNvPr id="307" name="AutoShape 81"/>
            <p:cNvCxnSpPr>
              <a:stCxn id="308" idx="2"/>
              <a:endCxn id="309" idx="2"/>
            </p:cNvCxnSpPr>
            <p:nvPr/>
          </p:nvCxnSpPr>
          <p:spPr>
            <a:xfrm flipH="1" rot="10800000">
              <a:off x="6587640" y="5349240"/>
              <a:ext cx="2160" cy="472320"/>
            </a:xfrm>
            <a:prstGeom prst="curvedConnector5">
              <a:avLst>
                <a:gd name="adj1" fmla="val -14400000"/>
                <a:gd name="adj2" fmla="val 49961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AutoShape 82"/>
            <p:cNvCxnSpPr>
              <a:endCxn id="309" idx="0"/>
            </p:cNvCxnSpPr>
            <p:nvPr/>
          </p:nvCxnSpPr>
          <p:spPr>
            <a:xfrm>
              <a:off x="6701760" y="5078520"/>
              <a:ext cx="1080" cy="157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" name="AutoShape 83"/>
            <p:cNvCxnSpPr>
              <a:stCxn id="309" idx="4"/>
              <a:endCxn id="308" idx="0"/>
            </p:cNvCxnSpPr>
            <p:nvPr/>
          </p:nvCxnSpPr>
          <p:spPr>
            <a:xfrm>
              <a:off x="6701760" y="5463720"/>
              <a:ext cx="1080" cy="2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AutoShape 84"/>
            <p:cNvCxnSpPr>
              <a:stCxn id="308" idx="4"/>
              <a:endCxn id="313" idx="0"/>
            </p:cNvCxnSpPr>
            <p:nvPr/>
          </p:nvCxnSpPr>
          <p:spPr>
            <a:xfrm>
              <a:off x="6701760" y="5935320"/>
              <a:ext cx="1080" cy="17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9" name="Oval 85"/>
            <p:cNvSpPr/>
            <p:nvPr/>
          </p:nvSpPr>
          <p:spPr>
            <a:xfrm>
              <a:off x="6588000" y="5235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86"/>
            <p:cNvSpPr/>
            <p:nvPr/>
          </p:nvSpPr>
          <p:spPr>
            <a:xfrm>
              <a:off x="6588000" y="5707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87"/>
            <p:cNvSpPr/>
            <p:nvPr/>
          </p:nvSpPr>
          <p:spPr>
            <a:xfrm>
              <a:off x="6588000" y="6110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Line 89"/>
          <p:cNvSpPr/>
          <p:nvPr/>
        </p:nvSpPr>
        <p:spPr>
          <a:xfrm>
            <a:off x="6699240" y="20559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90"/>
          <p:cNvSpPr/>
          <p:nvPr/>
        </p:nvSpPr>
        <p:spPr>
          <a:xfrm flipV="1">
            <a:off x="6653160" y="2120760"/>
            <a:ext cx="92160" cy="74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Example Paths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728E-EF60-4246-8CE7-BC7A5A1E89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AutoShape 5"/>
          <p:cNvCxnSpPr>
            <a:stCxn id="319" idx="4"/>
            <a:endCxn id="320" idx="0"/>
          </p:cNvCxnSpPr>
          <p:nvPr/>
        </p:nvCxnSpPr>
        <p:spPr>
          <a:xfrm>
            <a:off x="3166560" y="2188800"/>
            <a:ext cx="108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AutoShape 6"/>
          <p:cNvCxnSpPr>
            <a:stCxn id="322" idx="5"/>
            <a:endCxn id="320" idx="2"/>
          </p:cNvCxnSpPr>
          <p:nvPr/>
        </p:nvCxnSpPr>
        <p:spPr>
          <a:xfrm>
            <a:off x="2769840" y="2419200"/>
            <a:ext cx="283320" cy="18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Text Box 7"/>
          <p:cNvSpPr/>
          <p:nvPr/>
        </p:nvSpPr>
        <p:spPr>
          <a:xfrm>
            <a:off x="254160" y="1414440"/>
            <a:ext cx="199548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xpression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men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xpr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xpression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ment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ment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AutoShape 8"/>
          <p:cNvCxnSpPr>
            <a:stCxn id="325" idx="6"/>
            <a:endCxn id="320" idx="6"/>
          </p:cNvCxnSpPr>
          <p:nvPr/>
        </p:nvCxnSpPr>
        <p:spPr>
          <a:xfrm flipV="1">
            <a:off x="3281400" y="2601720"/>
            <a:ext cx="2160" cy="489600"/>
          </a:xfrm>
          <a:prstGeom prst="curvedConnector5">
            <a:avLst>
              <a:gd name="adj1" fmla="val 14400000"/>
              <a:gd name="adj2" fmla="val 49963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AutoShape 9"/>
          <p:cNvCxnSpPr>
            <a:stCxn id="320" idx="4"/>
            <a:endCxn id="325" idx="0"/>
          </p:cNvCxnSpPr>
          <p:nvPr/>
        </p:nvCxnSpPr>
        <p:spPr>
          <a:xfrm>
            <a:off x="3166560" y="271584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AutoShape 10"/>
          <p:cNvCxnSpPr>
            <a:stCxn id="325" idx="4"/>
            <a:endCxn id="328" idx="0"/>
          </p:cNvCxnSpPr>
          <p:nvPr/>
        </p:nvCxnSpPr>
        <p:spPr>
          <a:xfrm>
            <a:off x="3166560" y="3204720"/>
            <a:ext cx="1080" cy="1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AutoShape 11"/>
          <p:cNvCxnSpPr>
            <a:stCxn id="328" idx="4"/>
            <a:endCxn id="330" idx="0"/>
          </p:cNvCxnSpPr>
          <p:nvPr/>
        </p:nvCxnSpPr>
        <p:spPr>
          <a:xfrm>
            <a:off x="3166560" y="3612960"/>
            <a:ext cx="108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AutoShape 13"/>
          <p:cNvCxnSpPr>
            <a:stCxn id="319" idx="2"/>
            <a:endCxn id="322" idx="7"/>
          </p:cNvCxnSpPr>
          <p:nvPr/>
        </p:nvCxnSpPr>
        <p:spPr>
          <a:xfrm flipH="1">
            <a:off x="2769480" y="2074680"/>
            <a:ext cx="28332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AutoShape 14"/>
          <p:cNvCxnSpPr>
            <a:stCxn id="328" idx="2"/>
            <a:endCxn id="333" idx="7"/>
          </p:cNvCxnSpPr>
          <p:nvPr/>
        </p:nvCxnSpPr>
        <p:spPr>
          <a:xfrm flipH="1">
            <a:off x="2769480" y="3498480"/>
            <a:ext cx="28332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AutoShape 15"/>
          <p:cNvCxnSpPr>
            <a:stCxn id="333" idx="5"/>
            <a:endCxn id="330" idx="2"/>
          </p:cNvCxnSpPr>
          <p:nvPr/>
        </p:nvCxnSpPr>
        <p:spPr>
          <a:xfrm>
            <a:off x="2769840" y="3843000"/>
            <a:ext cx="283320" cy="18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Oval 16"/>
          <p:cNvSpPr/>
          <p:nvPr/>
        </p:nvSpPr>
        <p:spPr>
          <a:xfrm>
            <a:off x="3052800" y="196056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3052800" y="248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75080" y="2224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19"/>
          <p:cNvSpPr/>
          <p:nvPr/>
        </p:nvSpPr>
        <p:spPr>
          <a:xfrm>
            <a:off x="3052800" y="2976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20"/>
          <p:cNvSpPr/>
          <p:nvPr/>
        </p:nvSpPr>
        <p:spPr>
          <a:xfrm>
            <a:off x="3052800" y="3384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21"/>
          <p:cNvSpPr/>
          <p:nvPr/>
        </p:nvSpPr>
        <p:spPr>
          <a:xfrm>
            <a:off x="3052800" y="3913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22"/>
          <p:cNvSpPr/>
          <p:nvPr/>
        </p:nvSpPr>
        <p:spPr>
          <a:xfrm>
            <a:off x="2575080" y="364824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2793600" y="1981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2793600" y="25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3261960" y="2230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26"/>
          <p:cNvSpPr/>
          <p:nvPr/>
        </p:nvSpPr>
        <p:spPr>
          <a:xfrm>
            <a:off x="2945880" y="2738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3569760" y="2770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3261960" y="3178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29"/>
          <p:cNvSpPr/>
          <p:nvPr/>
        </p:nvSpPr>
        <p:spPr>
          <a:xfrm>
            <a:off x="2793600" y="3413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0"/>
          <p:cNvSpPr/>
          <p:nvPr/>
        </p:nvSpPr>
        <p:spPr>
          <a:xfrm>
            <a:off x="2793600" y="3946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3261960" y="3654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508280" y="164772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th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4516560" y="2055960"/>
            <a:ext cx="3628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1 = e1, e2, e4, e6, e7, e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2 = e1, e2, e4, e5, e4, e6, e7, e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3 = e3, e4, e6, e7, e8, e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4 = e6, e7, e8, e10, e3, e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5 = e1, e2, e4, e6, e9, e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6 = e4, e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7 = e3, e4, e6, e9, e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8 = e1, e2, e4, e5, e4, e6, e9, e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40"/>
          <p:cNvSpPr/>
          <p:nvPr/>
        </p:nvSpPr>
        <p:spPr>
          <a:xfrm>
            <a:off x="7010280" y="2038320"/>
            <a:ext cx="0" cy="210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41"/>
          <p:cNvSpPr/>
          <p:nvPr/>
        </p:nvSpPr>
        <p:spPr>
          <a:xfrm>
            <a:off x="4543560" y="1938240"/>
            <a:ext cx="22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66"/>
          <p:cNvSpPr/>
          <p:nvPr/>
        </p:nvSpPr>
        <p:spPr>
          <a:xfrm>
            <a:off x="3182760" y="4602240"/>
            <a:ext cx="4327560" cy="34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18360" bIns="183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(G) = e – n + 2 = 9 – 7 + 2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Example 1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50" name="Content Placeholder 4" descr="Screen shot 2013-11-25 at 6.52.41 PM.png"/>
          <p:cNvPicPr/>
          <p:nvPr/>
        </p:nvPicPr>
        <p:blipFill>
          <a:blip r:embed="rId1"/>
          <a:srcRect l="52745" t="8032" r="0" b="19724"/>
          <a:stretch/>
        </p:blipFill>
        <p:spPr>
          <a:xfrm>
            <a:off x="835200" y="1409760"/>
            <a:ext cx="3917880" cy="3706920"/>
          </a:xfrm>
          <a:prstGeom prst="rect">
            <a:avLst/>
          </a:prstGeom>
          <a:ln w="0">
            <a:noFill/>
          </a:ln>
        </p:spPr>
      </p:pic>
      <p:sp>
        <p:nvSpPr>
          <p:cNvPr id="351" name="Slide Number Placeholder 2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CD91-4DAE-4ED4-9328-54210AC121F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53" name="Content Placeholder 4" descr="Screen shot 2013-11-25 at 6.52.41 PM.png"/>
          <p:cNvPicPr/>
          <p:nvPr/>
        </p:nvPicPr>
        <p:blipFill>
          <a:blip r:embed="rId1"/>
          <a:srcRect l="0" t="8032" r="43642" b="3342"/>
          <a:stretch/>
        </p:blipFill>
        <p:spPr>
          <a:xfrm>
            <a:off x="0" y="1119240"/>
            <a:ext cx="4365720" cy="3892320"/>
          </a:xfrm>
          <a:prstGeom prst="rect">
            <a:avLst/>
          </a:prstGeom>
          <a:ln w="0">
            <a:noFill/>
          </a:ln>
        </p:spPr>
      </p:pic>
      <p:sp>
        <p:nvSpPr>
          <p:cNvPr id="354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F338-DFE4-437F-B426-C242B657E53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Box 6"/>
          <p:cNvSpPr/>
          <p:nvPr/>
        </p:nvSpPr>
        <p:spPr>
          <a:xfrm>
            <a:off x="4735440" y="2212920"/>
            <a:ext cx="44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=e-n+2=11-9+2=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57" name="Content Placeholder 4" descr="Screen shot 2013-11-25 at 6.57.03 PM.png"/>
          <p:cNvPicPr/>
          <p:nvPr/>
        </p:nvPicPr>
        <p:blipFill>
          <a:blip r:embed="rId1"/>
          <a:srcRect l="0" t="15788" r="48225" b="11665"/>
          <a:stretch/>
        </p:blipFill>
        <p:spPr>
          <a:xfrm>
            <a:off x="490680" y="1405080"/>
            <a:ext cx="5259240" cy="3601800"/>
          </a:xfrm>
          <a:prstGeom prst="rect">
            <a:avLst/>
          </a:prstGeom>
          <a:ln w="0">
            <a:noFill/>
          </a:ln>
        </p:spPr>
      </p:pic>
      <p:sp>
        <p:nvSpPr>
          <p:cNvPr id="358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4D99-E461-41A6-AB0C-606DEF9C356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60" name="Content Placeholder 4" descr="Screen shot 2013-11-25 at 6.57.03 PM.png"/>
          <p:cNvPicPr/>
          <p:nvPr/>
        </p:nvPicPr>
        <p:blipFill>
          <a:blip r:embed="rId1"/>
          <a:srcRect l="51298" t="1313" r="0" b="-663"/>
          <a:stretch/>
        </p:blipFill>
        <p:spPr>
          <a:xfrm>
            <a:off x="326880" y="1427040"/>
            <a:ext cx="4044960" cy="4033800"/>
          </a:xfrm>
          <a:prstGeom prst="rect">
            <a:avLst/>
          </a:prstGeom>
          <a:ln w="0">
            <a:noFill/>
          </a:ln>
        </p:spPr>
      </p:pic>
      <p:sp>
        <p:nvSpPr>
          <p:cNvPr id="361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650E-84D2-4DA9-8D73-683EBB76F1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4735440" y="2212920"/>
            <a:ext cx="44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=e-n+2=11-9+2=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05:14:33Z</dcterms:created>
  <dc:creator>Ivan Marsic</dc:creator>
  <dc:description/>
  <cp:keywords>software engineering software development software complexity measurement</cp:keywords>
  <dc:language>en-US</dc:language>
  <cp:lastModifiedBy>Aseel</cp:lastModifiedBy>
  <dcterms:modified xsi:type="dcterms:W3CDTF">2013-11-25T19:11:09Z</dcterms:modified>
  <cp:revision>3961</cp:revision>
  <dc:subject>lecture 15: Software Complexity Metrics</dc:subject>
  <dc:title>Software Engineering Lecture Slides</dc:title>
</cp:coreProperties>
</file>