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E41-4C38-48E1-A5A5-20D3D919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79C-6CA6-4452-841D-F86BB297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E54-5013-441A-937E-75D38F63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8B8-75F3-41CA-979A-FC39D53C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026-B2C5-41C8-A398-F50320C4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B97-2BBD-4FB1-A014-6C238820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117-4868-4C4A-9DBB-F0829687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C51-387E-40F3-AF2E-0CE6F454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E22-296A-416C-9EBD-CA976C6F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CE2-F45B-4267-B3F5-6CDAC7B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01-1EBF-48C5-AF01-DF83FCC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E93-EAE6-49EF-8F13-210DE25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7C3-C724-4606-B5A9-8DC8676A9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75E-322E-4DCB-B42D-FD55DDFCF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43D-E1AF-4EE1-833E-9A2F6058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81160" y="298440"/>
            <a:ext cx="2468520" cy="3462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964880" y="297180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DNA: The Genetic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DA27-29BE-4508-A02A-BDF4701C4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BC3-B730-4CFE-9786-5483E0AE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6966-34BB-47CD-844F-FC0ED6503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C3F2-0833-4F8F-8D7A-0BC531118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1828800"/>
            <a:ext cx="6048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4951-1C0A-49A4-9309-92A982F74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minologies (se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ttp://fac.ksu.edu.sa./sdaihan/hom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pages.cabrini.edu/ddunbar/BIO206/_derived/lecture_outline.htm_cmp_bubbles010_hbtn.gif"/>
          <p:cNvPicPr/>
          <p:nvPr/>
        </p:nvPicPr>
        <p:blipFill>
          <a:blip r:embed="rId1"/>
          <a:stretch/>
        </p:blipFill>
        <p:spPr>
          <a:xfrm>
            <a:off x="1219320" y="1066680"/>
            <a:ext cx="208260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57200" y="1981080"/>
            <a:ext cx="8458200" cy="16765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F44C-01D9-4595-A8F2-0B53693D9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82FB-6220-4F6F-A3A2-EB5E8AF7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5FE-ABA9-4DC6-A058-74366C4E8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2DF-38D7-4910-AE1A-6695EE845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A5AE-A356-4B10-B609-CAB1C0907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3-02-10T18:54:33Z</dcterms:modified>
  <cp:revision>153</cp:revision>
  <dc:subject/>
  <dc:title>Molecular Biology BCH 361</dc:title>
</cp:coreProperties>
</file>