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150-1E6D-4D40-A6CD-FC2AF9B2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E96-FC45-4F56-936A-6E0B8B5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8D6-54F1-455F-AA97-ECF012ED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E6A9-A72E-4D50-BFEB-212E7E7B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127-773A-4B4A-90D6-26F581CF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680-06DA-49AA-9534-1E1A5FDF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1555-0DEC-4089-A3F6-5A1B243B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461-CDC7-43F5-B863-1B635BF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A60-3C84-4B44-B598-0700D967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78B-C898-4E8B-A188-151AA4A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2EA-17D2-4EDA-8393-158A943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D59-FF4C-49CE-B9D2-95834D8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CE9-0349-422C-96CF-4A0AB78A02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A84F-9E2E-48A1-AB30-E9C06D06A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2ECE-F7E5-4A37-BBA7-AAE5D79BE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81160" y="298440"/>
            <a:ext cx="2468520" cy="3462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1964880" y="2971800"/>
            <a:ext cx="55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DNA: The Genetic Mat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18A8-04BA-45EA-8ED8-3D6BF5C58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B8EB-057D-494D-AACB-0664CCD58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F04D-1D44-4723-ACC2-A93E29C8E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B445-CE53-4C49-8205-AF88FB2A8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7640" y="1828800"/>
            <a:ext cx="604872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57C1-4C80-41C6-9612-9FB7E5587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erminologies (se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mbria"/>
              </a:rPr>
              <a:t>http://fac.ksu.edu.sa./sdaihan/hom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ttp://pages.cabrini.edu/ddunbar/BIO206/_derived/lecture_outline.htm_cmp_bubbles010_hbtn.gif"/>
          <p:cNvPicPr/>
          <p:nvPr/>
        </p:nvPicPr>
        <p:blipFill>
          <a:blip r:embed="rId1"/>
          <a:stretch/>
        </p:blipFill>
        <p:spPr>
          <a:xfrm>
            <a:off x="1219320" y="1066680"/>
            <a:ext cx="2082600" cy="892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8"/>
          <p:cNvSpPr/>
          <p:nvPr/>
        </p:nvSpPr>
        <p:spPr>
          <a:xfrm>
            <a:off x="457200" y="1981080"/>
            <a:ext cx="8458200" cy="16765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A6D5-5C98-417A-9FC9-7E16B5985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D8C-4793-41EB-96A4-990ED8FE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625-CADB-4A4F-98D2-08FFEFB1E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8529-8784-4414-9808-D03E33C8B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CFB-6532-4F0A-BA0E-36241C16F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7"/>
          <p:cNvSpPr/>
          <p:nvPr/>
        </p:nvSpPr>
        <p:spPr>
          <a:xfrm>
            <a:off x="7238880" y="3808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3-02-10T18:54:33Z</dcterms:modified>
  <cp:revision>153</cp:revision>
  <dc:subject/>
  <dc:title>Molecular Biology BCH 361</dc:title>
</cp:coreProperties>
</file>