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3B6-B201-454A-84F8-248BAB2F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560-7566-4428-8976-9797314E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1DB-44DE-4C47-B125-E8C37455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673-44A4-4944-8E51-2E65CF81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A23-59A2-49FA-8CE3-C9106C1A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7A70-12A7-4A31-828C-5FCB7C93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E45-C87D-4EF8-B178-BB8F183D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146-61A8-45D0-890C-4C4AE45C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5E3D-FE49-423F-B6FD-09E96215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7F3-E0D3-4E08-AEA6-E9741C6D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FF7-8E49-4EA9-A271-0D605C31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83C-4A25-4DF0-8BD0-010472FF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3F2C-2E40-4780-A795-27963BAEDA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7165-669F-4629-A884-D6ADB124F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12D0-94A6-44BA-BDA8-2A516D73C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281160" y="298440"/>
            <a:ext cx="2468520" cy="3462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1964880" y="2971800"/>
            <a:ext cx="55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DNA: The Genetic Mate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FF88-6378-43D0-9A18-84C6E50F9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627720" cy="38098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Right Arrow 5"/>
          <p:cNvSpPr/>
          <p:nvPr/>
        </p:nvSpPr>
        <p:spPr>
          <a:xfrm>
            <a:off x="3886200" y="3505320"/>
            <a:ext cx="838080" cy="3808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3922560" cy="28958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7"/>
          <p:cNvSpPr/>
          <p:nvPr/>
        </p:nvSpPr>
        <p:spPr>
          <a:xfrm>
            <a:off x="380880" y="5715000"/>
            <a:ext cx="7543800" cy="914400"/>
          </a:xfrm>
          <a:prstGeom prst="rect">
            <a:avLst/>
          </a:prstGeom>
          <a:solidFill>
            <a:srgbClr val="e6b9b8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When DNA was destroyed, the transforming activity was lo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but when DNA was left intact, the transforming activity surv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Avery’s Transformation Experiment</a:t>
            </a:r>
            <a:r>
              <a:rPr b="0" i="1" lang="en-US" sz="3200" spc="-1" strike="noStrike">
                <a:solidFill>
                  <a:srgbClr val="c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7238880" y="5181480"/>
            <a:ext cx="1067040" cy="838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4314960" cy="2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9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&#10;TA0206.jpg                                                     00003E63_x000b_Macho Drive                    B62D9425:"/>
          <p:cNvPicPr/>
          <p:nvPr/>
        </p:nvPicPr>
        <p:blipFill>
          <a:blip r:embed="rId1"/>
          <a:srcRect l="0" t="0" r="0" b="2597"/>
          <a:stretch/>
        </p:blipFill>
        <p:spPr>
          <a:xfrm>
            <a:off x="4952880" y="1746360"/>
            <a:ext cx="4003920" cy="433368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Title 1"/>
          <p:cNvSpPr/>
          <p:nvPr/>
        </p:nvSpPr>
        <p:spPr>
          <a:xfrm>
            <a:off x="45720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Hershey-Chase Bacteriophag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57200" y="2895480"/>
            <a:ext cx="4495680" cy="2438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Because DNA and not protein </a:t>
            </a:r>
            <a:r>
              <a:rPr b="0" lang="en-GB" sz="1800" spc="-1" strike="noStrike">
                <a:solidFill>
                  <a:srgbClr val="0000ff"/>
                </a:solidFill>
                <a:latin typeface="Cambria"/>
              </a:rPr>
              <a:t>entered the cell, then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DNA must be the heritable material </a:t>
            </a:r>
            <a:r>
              <a:rPr b="0" lang="en-GB" sz="1800" spc="-1" strike="noStrike">
                <a:solidFill>
                  <a:srgbClr val="0000ff"/>
                </a:solidFill>
                <a:latin typeface="Cambria"/>
              </a:rPr>
              <a:t>(i.e., responsible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for the function and reproduction of pha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A.H. received Nobel Prize in 1969 for this &amp; othe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304920" y="21337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tle 1"/>
          <p:cNvSpPr/>
          <p:nvPr/>
        </p:nvSpPr>
        <p:spPr>
          <a:xfrm>
            <a:off x="457200" y="6858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- </a:t>
            </a:r>
            <a:r>
              <a:rPr b="0" lang="en-US" sz="2800" spc="-1" strike="noStrike">
                <a:solidFill>
                  <a:srgbClr val="c00000"/>
                </a:solidFill>
                <a:latin typeface="Cambria"/>
              </a:rPr>
              <a:t>Gierer &amp; Schramm (TMV) Experi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62120" y="5791320"/>
            <a:ext cx="7772400" cy="838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Gierer &amp; Schramm 1956/Fraenkel-Conrat &amp; Singer 19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Used 2 viral strains to demonstrate RNA is the genetic material of T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4673"/>
          <a:stretch/>
        </p:blipFill>
        <p:spPr>
          <a:xfrm>
            <a:off x="2057400" y="1981080"/>
            <a:ext cx="5824440" cy="3505320"/>
          </a:xfrm>
          <a:prstGeom prst="rect">
            <a:avLst/>
          </a:prstGeom>
          <a:ln w="1260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Rectangle 10"/>
          <p:cNvSpPr/>
          <p:nvPr/>
        </p:nvSpPr>
        <p:spPr>
          <a:xfrm>
            <a:off x="2365200" y="45720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RNA as 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1219320" y="16765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00000"/>
                </a:solidFill>
                <a:latin typeface="Cambria"/>
              </a:rPr>
              <a:t>In 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33F9-89FF-40E0-9C20-82C874DA5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Rectangle 4"/>
          <p:cNvGrpSpPr/>
          <p:nvPr/>
        </p:nvGrpSpPr>
        <p:grpSpPr>
          <a:xfrm>
            <a:off x="1432080" y="2266920"/>
            <a:ext cx="6359400" cy="647640"/>
            <a:chOff x="1432080" y="2266920"/>
            <a:chExt cx="6359400" cy="647640"/>
          </a:xfrm>
        </p:grpSpPr>
        <p:pic>
          <p:nvPicPr>
            <p:cNvPr id="114" name="Rectangle 4" descr=""/>
            <p:cNvPicPr/>
            <p:nvPr/>
          </p:nvPicPr>
          <p:blipFill>
            <a:blip r:embed="rId1"/>
            <a:stretch/>
          </p:blipFill>
          <p:spPr>
            <a:xfrm>
              <a:off x="1432080" y="2266920"/>
              <a:ext cx="6359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447920" y="2286000"/>
              <a:ext cx="632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DNA (not RNA) is transforming ag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ectangle 5"/>
          <p:cNvGrpSpPr/>
          <p:nvPr/>
        </p:nvGrpSpPr>
        <p:grpSpPr>
          <a:xfrm>
            <a:off x="1432080" y="3638520"/>
            <a:ext cx="6359400" cy="647640"/>
            <a:chOff x="1432080" y="3638520"/>
            <a:chExt cx="6359400" cy="647640"/>
          </a:xfrm>
        </p:grpSpPr>
        <p:pic>
          <p:nvPicPr>
            <p:cNvPr id="117" name="Rectangle 5" descr=""/>
            <p:cNvPicPr/>
            <p:nvPr/>
          </p:nvPicPr>
          <p:blipFill>
            <a:blip r:embed="rId2"/>
            <a:stretch/>
          </p:blipFill>
          <p:spPr>
            <a:xfrm>
              <a:off x="1432080" y="3638520"/>
              <a:ext cx="6359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447920" y="3657600"/>
              <a:ext cx="632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DNA (not protein) is the genetic mater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ectangle 7"/>
          <p:cNvGrpSpPr/>
          <p:nvPr/>
        </p:nvGrpSpPr>
        <p:grpSpPr>
          <a:xfrm>
            <a:off x="1432080" y="4937040"/>
            <a:ext cx="6359400" cy="646200"/>
            <a:chOff x="1432080" y="4937040"/>
            <a:chExt cx="6359400" cy="646200"/>
          </a:xfrm>
        </p:grpSpPr>
        <p:pic>
          <p:nvPicPr>
            <p:cNvPr id="120" name="Rectangle 7" descr=""/>
            <p:cNvPicPr/>
            <p:nvPr/>
          </p:nvPicPr>
          <p:blipFill>
            <a:blip r:embed="rId3"/>
            <a:stretch/>
          </p:blipFill>
          <p:spPr>
            <a:xfrm>
              <a:off x="1432080" y="4937040"/>
              <a:ext cx="6359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47920" y="4952880"/>
              <a:ext cx="6324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RNA (not protein) is genetic material of some viru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457200" y="380880"/>
            <a:ext cx="2124000" cy="14288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3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AD23-4190-4C17-BD2C-6E301718D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467080" cy="274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Rectangle 5"/>
          <p:cNvSpPr/>
          <p:nvPr/>
        </p:nvSpPr>
        <p:spPr>
          <a:xfrm>
            <a:off x="685800" y="838080"/>
            <a:ext cx="723888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Chargaff’s Rules 1949-1953, evidence for DNA as                   genetic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04920" y="4648320"/>
            <a:ext cx="7848360" cy="16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igested many DNAs and subjected products to chromatographic 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esults:                </a:t>
            </a:r>
            <a:r>
              <a:rPr b="0" lang="en-US" sz="1800" spc="-1" strike="noStrike">
                <a:solidFill>
                  <a:srgbClr val="c00000"/>
                </a:solidFill>
                <a:latin typeface="Cambria"/>
              </a:rPr>
              <a:t>A = T, C =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A + G = C + T (purine = pyrimid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ambria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9900"/>
                </a:solidFill>
                <a:latin typeface="Cambria"/>
                <a:ea typeface="Arial"/>
              </a:rPr>
              <a:t>A + T does not equal C +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Members of a species similar but different species vary in AT/CG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1074-0707-47A3-BB86-8101BD1CF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547640" y="1828800"/>
            <a:ext cx="604872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6478-B708-457D-9B60-3DA43F59D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2133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erminologies (see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http://fac.ksu.edu.sa./sdaihan/hom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rly experiments that led to the discover of DNA as the genetic materi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http://pages.cabrini.edu/ddunbar/BIO206/_derived/lecture_outline.htm_cmp_bubbles010_hbtn.gif"/>
          <p:cNvPicPr/>
          <p:nvPr/>
        </p:nvPicPr>
        <p:blipFill>
          <a:blip r:embed="rId1"/>
          <a:stretch/>
        </p:blipFill>
        <p:spPr>
          <a:xfrm>
            <a:off x="1219320" y="1066680"/>
            <a:ext cx="2082600" cy="89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57200" y="1981080"/>
            <a:ext cx="8458200" cy="16765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3 Characteristics of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“The Genetic Material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ust be a stable form containing information about cell form and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ust replicate accur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ust be able to change/evol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1944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it was not known which component of chromosomes was the genetic mate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1953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it was not known how DNA could encode genetic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6FAE-2BB1-4B32-82ED-FF3804C53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Early Stu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Beginning with the earliest observations concerning heredity, genetic material was assumed to ex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the 1940s proteins were considered by geneticists to be the best candidates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ery abundant in cells and did nifty th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ucleic acids were similar, and just a couple of nucleotides connected to each oth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4" descr="stick-man-thinking-clip-art.jpg"/>
          <p:cNvPicPr/>
          <p:nvPr/>
        </p:nvPicPr>
        <p:blipFill>
          <a:blip r:embed="rId1"/>
          <a:stretch/>
        </p:blipFill>
        <p:spPr>
          <a:xfrm>
            <a:off x="1295280" y="2286000"/>
            <a:ext cx="94644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454D-3118-4C49-A02F-A8C789DC8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 Callout 5"/>
          <p:cNvSpPr/>
          <p:nvPr/>
        </p:nvSpPr>
        <p:spPr>
          <a:xfrm>
            <a:off x="1447920" y="228600"/>
            <a:ext cx="3200400" cy="1828800"/>
          </a:xfrm>
          <a:prstGeom prst="cloudCallout">
            <a:avLst>
              <a:gd name="adj1" fmla="val -38324"/>
              <a:gd name="adj2" fmla="val 80634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Phoebus Levene proposed a tetranucleotide structure </a:t>
            </a:r>
            <a:r>
              <a:rPr b="0" lang="ar-SA" sz="1800" spc="-1" strike="noStrike">
                <a:solidFill>
                  <a:srgbClr val="0000ff"/>
                </a:solidFill>
                <a:latin typeface="Cambria"/>
                <a:ea typeface="Arial"/>
              </a:rPr>
              <a:t>!!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for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80880" y="3809880"/>
            <a:ext cx="83822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He though that a DNA molecule contained only four units, each unit contain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hosphate-sugar-bas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-in order- linked together in a repeated manner, i.e. a tetranucleot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urthermore, he considered such a simple sequence could not allow DNA any role in coding for anyth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s was later to be proved wrong by Charga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Tetranucleotide_.png"/>
          <p:cNvPicPr/>
          <p:nvPr/>
        </p:nvPicPr>
        <p:blipFill>
          <a:blip r:embed="rId2"/>
          <a:stretch/>
        </p:blipFill>
        <p:spPr>
          <a:xfrm>
            <a:off x="4800600" y="1066680"/>
            <a:ext cx="2705040" cy="2619360"/>
          </a:xfrm>
          <a:prstGeom prst="rect">
            <a:avLst/>
          </a:prstGeom>
          <a:ln w="1908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S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t was widely thought that DNA was organized into repeating "tetranucleotides" in a way that could not carry genetic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Proteins, on the other hand, had 20 different amino acids and could have lots of var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ost geneticists focused on “transmission genetics” and passively accepted proteins as being the likely genetic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Exclamation-mark.jpg"/>
          <p:cNvPicPr/>
          <p:nvPr/>
        </p:nvPicPr>
        <p:blipFill>
          <a:blip r:embed="rId1"/>
          <a:stretch/>
        </p:blipFill>
        <p:spPr>
          <a:xfrm>
            <a:off x="4724280" y="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5056-1ABE-4AAB-82FE-B389722BE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209680" y="2743200"/>
            <a:ext cx="4496040" cy="1523880"/>
          </a:xfrm>
          <a:prstGeom prst="rect">
            <a:avLst/>
          </a:prstGeom>
          <a:solidFill>
            <a:srgbClr val="d9d9d9"/>
          </a:solidFill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Toward The Real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62120" y="1066680"/>
            <a:ext cx="190476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Griffith’s Transformation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6324480" y="518148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Tobacco Mosaic Virus (TMV)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6400800" y="114300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Avery’s Transformation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609480" y="525780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Hershey-Chase Bacteriophage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457200" y="685800"/>
            <a:ext cx="91440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5867280" y="838080"/>
            <a:ext cx="914400" cy="60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7"/>
          <p:cNvSpPr/>
          <p:nvPr/>
        </p:nvSpPr>
        <p:spPr>
          <a:xfrm>
            <a:off x="228600" y="4724280"/>
            <a:ext cx="914400" cy="60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8"/>
          <p:cNvSpPr/>
          <p:nvPr/>
        </p:nvSpPr>
        <p:spPr>
          <a:xfrm>
            <a:off x="5715000" y="4800600"/>
            <a:ext cx="91440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imagesCAJNDZEQ.jpg"/>
          <p:cNvPicPr/>
          <p:nvPr/>
        </p:nvPicPr>
        <p:blipFill>
          <a:blip r:embed="rId1"/>
          <a:stretch/>
        </p:blipFill>
        <p:spPr>
          <a:xfrm>
            <a:off x="6248520" y="2895480"/>
            <a:ext cx="1465200" cy="1828800"/>
          </a:xfrm>
          <a:prstGeom prst="rect">
            <a:avLst/>
          </a:prstGeom>
          <a:ln w="0">
            <a:noFill/>
          </a:ln>
        </p:spPr>
      </p:pic>
      <p:sp>
        <p:nvSpPr>
          <p:cNvPr id="78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First Real Break- 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mbria"/>
              </a:rPr>
              <a:t>Frederick Griffith’s Transformation Experi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3E84-53A3-4D57-9206-09247D096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28600" y="2209680"/>
            <a:ext cx="3962520" cy="2667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riffith concluded that the type II-R had been "transformed" into the lethal III-S strain by a "transforming factor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riffith hypothesized that the transforming factor was a </a:t>
            </a:r>
            <a:r>
              <a:rPr b="0" i="1" lang="en-US" sz="1800" spc="-1" strike="noStrike">
                <a:solidFill>
                  <a:srgbClr val="0000ff"/>
                </a:solidFill>
                <a:latin typeface="Cambria"/>
              </a:rPr>
              <a:t>“IIIS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” prote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648320" y="1619280"/>
            <a:ext cx="3919320" cy="485928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Oval 9"/>
          <p:cNvSpPr/>
          <p:nvPr/>
        </p:nvSpPr>
        <p:spPr>
          <a:xfrm>
            <a:off x="152280" y="1676520"/>
            <a:ext cx="106704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Avery’s Transformation Experiment</a:t>
            </a:r>
            <a:r>
              <a:rPr b="0" i="1" lang="en-US" sz="3200" spc="-1" strike="noStrike">
                <a:solidFill>
                  <a:srgbClr val="c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3CE6-2240-406F-9A9A-E7BEF4ABC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04920" y="5334120"/>
            <a:ext cx="8076960" cy="99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When DNA was destroyed, the transforming activity was lost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but when DNA was left intact, the transforming activity surv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" y="46483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5886360" cy="363996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0:45:37Z</dcterms:created>
  <dc:creator>saba</dc:creator>
  <dc:description/>
  <dc:language>en-US</dc:language>
  <cp:lastModifiedBy>Sooad</cp:lastModifiedBy>
  <dcterms:modified xsi:type="dcterms:W3CDTF">2013-02-10T18:54:33Z</dcterms:modified>
  <cp:revision>153</cp:revision>
  <dc:subject/>
  <dc:title>Molecular Biology BCH 361</dc:title>
</cp:coreProperties>
</file>