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C646-EC2D-4E2E-A29A-575647E1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EB7B-34C2-4421-B6DE-4D3DE9E3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88B-D63A-4A95-9DB2-7DB2AB3B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6F7-F624-4A7D-80C8-BEA23F26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D5A8-CA57-4C04-B2E5-911DE3D2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FDF8-8738-45FD-9514-9FC91DE5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E149-0714-4486-B842-01F35CEF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AAFD-5701-46A4-A742-2BDCE251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7E90-A1D6-4950-900A-2BA9A8DB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953F-D0A6-452C-B45A-D3A3CBC6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41F4-0D13-4F4D-B010-17629F98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B6D2-CB46-4E22-B8FD-DD5169CC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1600-4440-4D76-8EDA-FBE650ED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734E-2B12-4935-83E4-7A1E8CA6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3D05-A421-41E8-8E20-17F0197D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60D4-9B41-4208-AA87-EBADD16D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1593-386D-4673-8A9A-0CF914EB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D775F-BD41-4E29-9BF1-734D9586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16E72-E54D-444A-A5ED-F7D89EF4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59E1C-1197-4D06-AC74-BD7CE0AD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B1F86-1F82-4C04-A18B-2F5B6BF4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2B80A-936C-403D-A44B-85974B55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E52F-284A-4413-8879-C5530B0C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3A835-B27E-45ED-BC9F-A5EC08E2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C8789-0217-4B21-9094-974A8D6D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94539-5C08-40A6-A840-4C983CA4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3B4DA-603D-48EB-B626-B5F52E16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5E8E8-9F6A-4F19-B36B-BA82CED5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8EBE9-C769-4B19-8439-C7620E17E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AD5D4-6313-4308-8401-AAC933BA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35E0B-1736-472B-9C06-1BA8D68E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448AB-7487-4DF1-9B46-494C31AC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BC1DE-0407-4E59-9829-9EAF9BBE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739C-FA31-4781-9A56-B2531770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9DAB5-B436-4B6D-8B5F-4D794C0F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4F794-2829-4AC0-9377-8E12C2E4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4416A-930A-4216-A083-A87F0D1B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48D6B-35C4-4C79-A36F-6738DD7E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21B84-3890-488D-9E80-ED794574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E724C-9737-4E34-9BA5-63872EB1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EA9E0-4EEE-483F-9C06-95CE399F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9388B-9684-48A0-8382-CBA3B205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90BCF-1453-4555-B76D-F1A4B8F7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E5849-5F2F-4356-BC6E-7F22333D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E3B-E685-4C38-B353-8BEB43C3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83D54-DCB3-4D57-AE65-3D583CBD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3BC8D-88BF-4D3F-9B19-F2C053E8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C9204-5023-4FB6-972E-F672EB3A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34C88-2748-4467-A217-50FF6807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1D5A5-5968-4E3F-B929-C4A8B6A1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7FCF1-7BF2-451F-8C47-A59F0724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54308-C259-4D78-B1DA-4E5A344C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DECC5-4FA9-4B41-A361-4BD61096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CD67C-D842-4F84-BAFF-0669DED6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E3F3B-F5B6-4AA6-8433-89E8CB40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65A-05A3-4162-B766-6D1F0B31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63A1D-B17E-4FF3-A366-D50F79F2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8453-6162-433F-AC1C-F8A70E1B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FDF-62C8-462A-94CF-B081009B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6396-44B4-4980-9FD5-64D6F682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B366-D68D-49A5-A4D2-696B01D321A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EF40-B0D7-490D-AF08-1EF6C12F568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A592-D707-4B2D-A147-AF177427AD9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5B0C-4155-46C5-9129-B31941C4A0E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EF2A-2588-4BD1-95BF-78E959F68A6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Dr. Rufaidah Dabbagh, MBBS, MPH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464"/>
                </a:solidFill>
                <a:latin typeface="Perpetua"/>
              </a:rPr>
              <a:t>Family and Community Medicine Depart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Data Management and Acquisition Tutoria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nalyzing data o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rrelation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is helps us test the linear relationship between two variabl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correlation coefficient value ranges from -1 to 1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Values that are closer to 1 (or-1) indicate a strong correl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sign of the correlation (+ve or –ve) describes the type of correlation (positive linear relationship or negative linear relationship) – example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nalyzing data o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hi-square test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nalyzing data o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dds ratio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Perpetua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utorial Outl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igning your variable 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ntering Dat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ploring data: (descriptive statistic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rrela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mparing Mea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hi-square tes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dds ratio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esigning Variable View i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fore you start with your variable design on SPSS it is advised to prepare your code in advanc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4674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Designing Co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n variable view in SPSS you start entering each variable name. This cell usually doesn’t allow spaces between characters, so you can enter an abbreviation for your variabl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nder “label” you can write the entire variable, whether it was a whole question or a statem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fer to SPSS softwa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ntering Data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ata entry is simple after the code has been designed in the variable 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Just enter the data as coded into each cel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Perpetua"/>
              </a:rPr>
              <a:t>Take care of limits, width and variable type when entering data!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ploring your data o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escriptive statistic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inuous variables (means, sd, median, interquartile range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ategorical data (frequencies and percentage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raph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istograms to observe symmetry of data (continuous variable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ar charts and pie charts (categorical data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nalyzing data on SPS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-test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o compare mean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Used for continuous variables onl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f the p-value for the t test estimate is statistically significant (&lt;0.05) then the two compared means are significantly different from each other in our sample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9040" indent="-2124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One sample t te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ndependent sample t-te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764640" indent="-2124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aired t-test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0:39:27Z</dcterms:created>
  <dc:creator>Rufaidah</dc:creator>
  <dc:description/>
  <dc:language>en-US</dc:language>
  <cp:lastModifiedBy>Rufaidah</cp:lastModifiedBy>
  <dcterms:modified xsi:type="dcterms:W3CDTF">2012-02-21T13:02:11Z</dcterms:modified>
  <cp:revision>15</cp:revision>
  <dc:subject/>
  <dc:title>Data Management and Acquisition Tutorial</dc:title>
</cp:coreProperties>
</file>