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8B5-8DCE-4DD8-9B84-CAAC2229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F00-0EF9-47B1-A4D6-194C5B6D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DF7-FDBA-4926-A90B-BB9676D5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513-13EC-46C5-B0C5-A9F1AAA1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E8CB-7F15-4C1F-AFF4-94B307FC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AA02-8A2F-4A48-9A3C-4797425B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5F1F-234B-4291-8142-0DB73E13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9A57-7B78-4A7E-98ED-3C3359CD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B996-FA3B-4583-809D-E80599CD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8AC3-CD00-46CB-91C1-4CBFC934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C753-75FE-4268-B72D-66796982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729-ED87-480A-93F3-665FFCBD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D72A-3196-4144-A161-BBEBBF2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4355-24E6-41C1-8133-B98E492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67AE-4AC8-443C-80AF-4D04F5FE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AD72-B169-431A-8357-EF386C61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2B2C-7834-4FAC-9E76-4A11AC46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C5561-F214-4939-8480-58102C5F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23B9-113E-4C68-B684-6C61866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A6D0-4DA7-4BC6-8B1C-62BB9EAB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9A3D-5D63-4300-A73E-AF160BC3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E60E-9CF3-4385-ADAC-E435AF1C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EB0-5824-462C-ABCD-BD62CE70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B509-EF07-4E5D-81CA-AE61EBE1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9423-AAF5-4C7E-A512-063CF06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418E-9B14-42A3-8F14-E316221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7E81-F33B-42F1-8CBA-B9AC73D5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1B6F-1388-484D-B7BC-16D7A3C6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5A38-A55A-4A54-80F7-02B520C6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C053-93AD-4061-A316-A83EC025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7AEA-27F3-4CF8-B022-97A02524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4594-FA7D-43C6-B09E-2FDC147C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4B0E-1FB2-47F0-8BB9-E6CE9690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68E-FB55-41D7-9351-64C5F3AF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36E1B-F72E-4921-B710-626343D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0A85-4E56-45FD-A8F7-B01BC74F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676B-84F9-4320-B133-6B6BFDD4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8BA81-343E-4490-ABAB-72AA9E0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243E3-F78A-48C4-BCC9-F286763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98689-19C1-42B8-9567-83FC18A3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64D59-1DDB-46B9-9F02-1A4F80B4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D0A3-F807-4CE7-8982-2B59FA0B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2DA0-6AED-4FDA-9836-F3A8DB45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6C75F-EF0C-44AC-B7E8-8860640B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550-CB4B-47C3-8BE3-1B4C2468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C0575-7BB3-4410-9B6B-C8516821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8385B-EAA1-453E-9756-BDCF601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DD4A1-DE59-4180-AA04-0B5B8304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53B52-C615-416A-83F3-F42C8B69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7874-8BCF-405C-9774-EBEDF581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F210-84C2-4176-9F9B-23CCB9BC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D02C9-E4A5-4722-AEFB-6E062DC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AAEB-FC29-4FF9-A946-11D93C30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C902-7706-40AE-9247-457D41C6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EA86-98A4-4B36-816B-FBE93610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428-B456-430C-940B-809D8298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735BF-0683-49A1-B689-FE1E589D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409-0E80-4A57-A0CD-C200C55B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E28-FE2D-46E4-A3AC-C00325C8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B52-CE81-4573-8402-618DF20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63CF-7617-4DF2-8EB2-DF7484680B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931-ABC1-4D61-92CB-5326152DDD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DF2D-99F2-47A5-93D3-7562E0EC3D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0A45-3558-4AE0-A121-4236760E13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9CA3-B559-4886-9CF6-674C880FB0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Dr. Rufaidah Dabbagh, MBBS, MP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Family and Community Medicine Depart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ata Management and Acquisition Tutori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relatio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helps us test the linear relationship between two variabl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orrelation coefficient value ranges from -1 to 1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Values that are closer to 1 (or-1) indicate a strong correl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ign of the correlation (+ve or –ve) describes the type of correlation (positive linear relationship or negative linear relationship) – exampl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-square test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dds rati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torial 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igning your variable 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tering Da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oring data: (descriptive statistic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rel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ing Mea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-square te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dds rati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ing Variable View i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fore you start with your variable design on SPSS it is advised to prepare your code in advan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4674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ing Co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 variable view in SPSS you start entering each variable name. This cell usually doesn’t allow spaces between characters, so you can enter an abbreviation for your variab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der “label” you can write the entire variable, whether it was a whole question or a state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SPSS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ntering D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ata entry is simple after the code has been designed in the variable 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ust enter the data as coded into each ce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Perpetua"/>
              </a:rPr>
              <a:t>Take care of limits, width and variable type when entering data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loring your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criptive statistic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variables (means, sd, median, interquartile rang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tegorical data (frequencies and percentag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aph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stograms to observe symmetry of data (continuous variabl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ar charts and pie charts (categorical dat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-test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 compare mean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d for continuous variables on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f the p-value for the t test estimate is statistically significant (&lt;0.05) then the two compared means are significantly different from each other in our samp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e sample t 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dependent sample t-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aired t-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39:27Z</dcterms:created>
  <dc:creator>Rufaidah</dc:creator>
  <dc:description/>
  <dc:language>en-US</dc:language>
  <cp:lastModifiedBy>Rufaidah</cp:lastModifiedBy>
  <dcterms:modified xsi:type="dcterms:W3CDTF">2012-02-21T13:02:11Z</dcterms:modified>
  <cp:revision>15</cp:revision>
  <dc:subject/>
  <dc:title>Data Management and Acquisition Tutorial</dc:title>
</cp:coreProperties>
</file>