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D03-25DC-4D92-8E83-01202ABF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25F-380C-4AAA-B6A3-A8EC6CDA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AF2-F7DA-4A71-B361-C435A26E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E20-9E5B-4A70-A534-982E1E66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DB2-D780-44E5-98EA-11274B30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E3C-3EBD-4710-A1DD-E0D0C2F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DCA-FDEB-4F0B-BE8C-769F00ED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40F-8DD4-4650-8D81-F4C4D0EE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FEF-57E6-42DF-A891-8DBEA51F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FB4-B143-4CA9-BA83-F78F54D0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07F-247D-4572-9F23-D47DB830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A2D-486E-428E-8426-4C7AC1B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E54F-7F04-4F2A-B1F7-0B7D5811B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ebat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De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peaker thanks the audience and ju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ms rise and shake hands, and make a brief positive co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bat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petition in which two opposing teams make speeches to support their argument and disagree with those of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pinion about which the two team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rees with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agrees with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but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lains why one team disagrees with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dges/ adjudic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ide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ing Support for your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 can support your opinion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ffirm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ffirm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g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neg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 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minute Break to prepare for the Rebut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s where your arguments look weakest and which you can bolster with logic and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ool and silent during the other teams rebuttal or you’ll los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say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te the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 disagre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That may be true, but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your opposing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40:08Z</dcterms:created>
  <dc:creator>VAIO</dc:creator>
  <dc:description/>
  <dc:language>en-US</dc:language>
  <cp:lastModifiedBy>VAIO</cp:lastModifiedBy>
  <dcterms:modified xsi:type="dcterms:W3CDTF">2012-04-06T21:50:58Z</dcterms:modified>
  <cp:revision>9</cp:revision>
  <dc:subject/>
  <dc:title>Debate</dc:title>
</cp:coreProperties>
</file>