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51D-7255-4CCE-9A97-39BF894A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259-AC12-4D0F-8EFC-75EF2299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097-709A-4EDC-AFE1-CEBA13E4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707-1546-4458-93C1-007E40C6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D8A7-E214-4590-BDE4-AFCFF6B8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6D0-0B9D-4A94-A6DB-7258F18B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04E-0EE1-499C-8760-245E4A29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996-56A6-4F16-9DD2-A7093872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225E-666F-44AD-A170-47369CE3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322-956D-4E99-BF3A-7613F20A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7D3-A1E2-45DE-9ACE-288878AB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E72-7B3E-4907-A236-558FC5F5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1DC8-61C5-4BA3-81AD-31F45BA20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ebate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Dee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ing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speaker thanks the audience and ju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eams rise and shake hands, and make a brief positive com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bat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competition in which two opposing teams make speeches to support their argument and disagree with those of the othe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opinion about which the two teams ar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irmative t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grees with the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 t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isagrees with the re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but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xplains why one team disagrees with the othe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dges/ adjudic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cide the w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iving Support for your 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ou can support your opinion throug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ffirmative speak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udience, opponents, and judge.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odu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opic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ffirmative team’s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gument, and present evidence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gative Speak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udience, opponents, and judge.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negative team’s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gument, and present evidence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irmative speak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 their second argument. (1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 Speak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 their second argument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minute Break to prepare for the Rebut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but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s where your arguments look weakest and which you can bolster with logic and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 cool and silent during the other teams rebuttal or you’ll los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Rebut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say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tate the arg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I disagre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That may be true, but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 your opposing opi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caus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for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18:40:08Z</dcterms:created>
  <dc:creator>VAIO</dc:creator>
  <dc:description/>
  <dc:language>en-US</dc:language>
  <cp:lastModifiedBy>VAIO</cp:lastModifiedBy>
  <dcterms:modified xsi:type="dcterms:W3CDTF">2012-04-06T21:50:58Z</dcterms:modified>
  <cp:revision>9</cp:revision>
  <dc:subject/>
  <dc:title>Debate</dc:title>
</cp:coreProperties>
</file>