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EEB-66EC-4A70-BAC9-62A4ABA6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917-FE5E-4C18-98A8-79CE2D26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8A8-A1D7-49DD-B92C-040F172B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66E-BA49-4658-BC12-73527E48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9FD-15C6-4C2E-A521-05921E62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16C-AF9B-4094-A232-D1CEC802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398-AE70-4A0C-8321-CE01D646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2F1-34BA-4491-B0F3-5D499BAB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185-AD3A-456B-BE63-7FCF81F1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C19-A96E-4479-A2C5-59A783A4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57A-32B1-4E8F-948E-3CA821AE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F86-AD93-421C-9110-FD2953C4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BFD5-026C-47DF-828C-31BE5BF3D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ebate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De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peaker thanks the audience and ju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ms rise and shake hands, and make a brief positive com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bat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petition in which two opposing teams make speeches to support their argument and disagree with those of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opinion about which the two teams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grees with th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t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sagrees with the re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but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plains why one team disagrees with the 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dges/ adjudic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cide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ving Support for your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 can support your opinion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ffirm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ffirm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gative Spea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udience, opponents, and judge.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negative team’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gument, and present evidence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of the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rm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 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Speak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eir second argument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minute Break to prepare for the Rebut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s where your arguments look weakest and which you can bolster with logic and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cool and silent during the other teams rebuttal or you’ll los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Rebut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say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te the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 disagre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That may be true, but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 your opposing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aus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…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8:40:08Z</dcterms:created>
  <dc:creator>VAIO</dc:creator>
  <dc:description/>
  <dc:language>en-US</dc:language>
  <cp:lastModifiedBy>VAIO</cp:lastModifiedBy>
  <dcterms:modified xsi:type="dcterms:W3CDTF">2012-04-06T21:50:58Z</dcterms:modified>
  <cp:revision>9</cp:revision>
  <dc:subject/>
  <dc:title>Debate</dc:title>
</cp:coreProperties>
</file>