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809-20D8-485C-833A-ADF69BF2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EA7-0E99-4CAD-AF1D-C4C43327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993-6022-4604-8489-BD9BFC53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76E-DC30-451A-90B4-7A0E0F3D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C7C-BEAE-4A21-A108-EDB01E8E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0AC-01AA-4143-B9B1-CF2DC0EF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64C-C586-416E-9571-8AF141AE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E7B-EDF2-4E57-BD9F-2008F2C7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920-AA48-4E39-9969-3B794B41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E76-7397-4DC3-8D54-D477AA42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25A-901A-4D9F-9875-26464DB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8DC-D078-44F9-80A6-6D127413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ABED-20B8-4FE7-B8F1-3FD135DA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ebat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De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peaker thanks the audience and ju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ms rise and shake hands, and make a brief positive co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bat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petition in which two opposing teams make speeches to support their argument and disagree with those of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pinion about which the two team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rees with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agrees with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but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lains why one team disagrees with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dges/ adjudic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ide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ing Support for your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 can support your opinion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ffirm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ffirm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g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neg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 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minute Break to prepare for the Rebut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s where your arguments look weakest and which you can bolster with logic and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ool and silent during the other teams rebuttal or you’ll los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say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te the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 disagre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That may be true, but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your opposing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40:08Z</dcterms:created>
  <dc:creator>VAIO</dc:creator>
  <dc:description/>
  <dc:language>en-US</dc:language>
  <cp:lastModifiedBy>VAIO</cp:lastModifiedBy>
  <dcterms:modified xsi:type="dcterms:W3CDTF">2012-04-06T21:50:58Z</dcterms:modified>
  <cp:revision>9</cp:revision>
  <dc:subject/>
  <dc:title>Debate</dc:title>
</cp:coreProperties>
</file>