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0A3-DF96-45EF-85DD-6B83E347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EC6-CEBF-40FC-A409-057D48F4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760-AC7A-476E-B11C-4B841B89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51A-895A-4DF4-AA75-425D5942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DFF-6146-4153-B9BE-F86AA65B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8C2-1F22-44BC-98A5-373A750E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EC2-6FB3-4931-86E2-9C314BDA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880-CB5F-42F6-A256-90D9B642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AFE-9117-43BB-A0E9-D09AEE0A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A2B-FB85-4219-81C6-C744EE24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9CA-FD47-4CA0-A930-A355B130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2D6-0DE6-4C65-99ED-2CE863BE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E1B1-666B-44E3-AB33-4ACA35810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ebate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De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ing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speaker thanks the audience and ju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eams rise and shake hands, and make a brief positive com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bat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competition in which two opposing teams make speeches to support their argument and disagree with those of the 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opinion about which the two teams ar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rmative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grees with the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isagrees with the re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but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xplains why one team disagrees with the 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dges/ adjudic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cide the w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iving Support for your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 can support your opinion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ffirmative spea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udience, opponents, and judge.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du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opic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ffirmative team’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gument, and present evidence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gative Spea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udience, opponents, and judge.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negative team’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gument, and present evidence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rmative speak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eir second argument. (1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Speak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eir second argument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minute Break to prepare for the Rebut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s where your arguments look weakest and which you can bolster with logic and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cool and silent during the other teams rebuttal or you’ll los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say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tate the arg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 disagre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That may be true, but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 your opposing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caus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for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8:40:08Z</dcterms:created>
  <dc:creator>VAIO</dc:creator>
  <dc:description/>
  <dc:language>en-US</dc:language>
  <cp:lastModifiedBy>VAIO</cp:lastModifiedBy>
  <dcterms:modified xsi:type="dcterms:W3CDTF">2012-04-06T21:50:58Z</dcterms:modified>
  <cp:revision>9</cp:revision>
  <dc:subject/>
  <dc:title>Debate</dc:title>
</cp:coreProperties>
</file>