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FBB-9505-4087-AD8F-5F14F4F5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BCCF-4EBA-4457-A8D4-E3580448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31D1-4357-4C99-8105-266DC90A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E516-911A-4D66-ABC2-446810D6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FA1-5C7A-4B14-BA2D-3D197442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BCE1-A36F-41FE-A186-DDB9FCAF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4FC-7E3A-418A-B5F7-FB7560A1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C86D-381A-4B75-A436-F58A6FB7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A0E9-0A11-4BEA-AB87-F51C2921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4C8-6DBF-4D4A-A518-239AA487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B7FB-55BC-453A-B7DB-A913AAC4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C26-5C44-4D98-8A0F-7AECE01C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4874-ADB7-4286-BAB5-E1F5D1406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ebate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Dee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ing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speaker thanks the audience and ju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eams rise and shake hands, and make a brief positive com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bat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competition in which two opposing teams make speeches to support their argument and disagree with those of the othe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opinion about which the two teams ar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irmative t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grees with the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 t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isagrees with the re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but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xplains why one team disagrees with the othe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dges/ adjudic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cide the w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iving Support for your 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ou can support your opinion throug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ffirmative speak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udience, opponents, and judge.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odu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opic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ffirmative team’s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gument, and present evidence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gative Speak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udience, opponents, and judge.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negative team’s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gument, and present evidence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irmative speak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 their second argument. (1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 Speak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 their second argument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minute Break to prepare for the Rebut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but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s where your arguments look weakest and which you can bolster with logic and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 cool and silent during the other teams rebuttal or you’ll los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Rebut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say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tate the arg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I disagre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That may be true, but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 your opposing opi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caus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for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18:40:08Z</dcterms:created>
  <dc:creator>VAIO</dc:creator>
  <dc:description/>
  <dc:language>en-US</dc:language>
  <cp:lastModifiedBy>VAIO</cp:lastModifiedBy>
  <dcterms:modified xsi:type="dcterms:W3CDTF">2012-04-06T21:50:58Z</dcterms:modified>
  <cp:revision>9</cp:revision>
  <dc:subject/>
  <dc:title>Debate</dc:title>
</cp:coreProperties>
</file>