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F9C-581F-4C4D-B7E1-157C05E1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6A3-2B96-4B8F-A314-19A2D36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80C-B2A7-4AAC-9514-5F660555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B5B-AB86-4998-B385-813FB206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3A1-3647-48B1-8387-579B7691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EDE-3ECE-4C2A-94A5-524262C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F0A-7053-429C-851B-217B700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DF0-F5AF-4765-A722-9912439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F77-D6B0-4186-97E0-B130704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108-79FD-4172-BEB4-15F3701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953-431B-4D0F-AB2A-EB2F70DB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498-3DC0-41E6-A729-B82C56A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A7EC-169D-409C-A6F0-450902AE85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Describing People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(Appeara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urlyyy"/>
          <p:cNvPicPr/>
          <p:nvPr/>
        </p:nvPicPr>
        <p:blipFill>
          <a:blip r:embed="rId2"/>
          <a:stretch/>
        </p:blipFill>
        <p:spPr>
          <a:xfrm>
            <a:off x="6588000" y="3141720"/>
            <a:ext cx="2556000" cy="220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ark skinned"/>
          <p:cNvPicPr/>
          <p:nvPr/>
        </p:nvPicPr>
        <p:blipFill>
          <a:blip r:embed="rId3"/>
          <a:stretch/>
        </p:blipFill>
        <p:spPr>
          <a:xfrm>
            <a:off x="468360" y="2852640"/>
            <a:ext cx="206676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traight hairr"/>
          <p:cNvPicPr/>
          <p:nvPr/>
        </p:nvPicPr>
        <p:blipFill>
          <a:blip r:embed="rId4"/>
          <a:stretch/>
        </p:blipFill>
        <p:spPr>
          <a:xfrm>
            <a:off x="3564000" y="3716280"/>
            <a:ext cx="2087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itive)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u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sitiv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lump"/>
          <p:cNvPicPr/>
          <p:nvPr/>
        </p:nvPicPr>
        <p:blipFill>
          <a:blip r:embed="rId2"/>
          <a:stretch/>
        </p:blipFill>
        <p:spPr>
          <a:xfrm>
            <a:off x="6084720" y="476280"/>
            <a:ext cx="23688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limmm"/>
          <p:cNvPicPr/>
          <p:nvPr/>
        </p:nvPicPr>
        <p:blipFill>
          <a:blip r:embed="rId3"/>
          <a:stretch/>
        </p:blipFill>
        <p:spPr>
          <a:xfrm>
            <a:off x="6084720" y="3716280"/>
            <a:ext cx="2303640" cy="2449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924360" y="4005360"/>
            <a:ext cx="1942920" cy="57600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924360" y="2133720"/>
            <a:ext cx="2160360" cy="5745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ese, fa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weight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ck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obese"/>
          <p:cNvPicPr/>
          <p:nvPr/>
        </p:nvPicPr>
        <p:blipFill>
          <a:blip r:embed="rId2"/>
          <a:stretch/>
        </p:blipFill>
        <p:spPr>
          <a:xfrm>
            <a:off x="5796000" y="907920"/>
            <a:ext cx="260172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tocky"/>
          <p:cNvPicPr/>
          <p:nvPr/>
        </p:nvPicPr>
        <p:blipFill>
          <a:blip r:embed="rId3"/>
          <a:stretch/>
        </p:blipFill>
        <p:spPr>
          <a:xfrm>
            <a:off x="5940360" y="378936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3564000" y="2708280"/>
            <a:ext cx="1944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635280" y="4076640"/>
            <a:ext cx="180036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Height and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(well-bui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uscular"/>
          <p:cNvPicPr/>
          <p:nvPr/>
        </p:nvPicPr>
        <p:blipFill>
          <a:blip r:embed="rId2"/>
          <a:stretch/>
        </p:blipFill>
        <p:spPr>
          <a:xfrm>
            <a:off x="5940360" y="47628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3780000" y="2205000"/>
            <a:ext cx="194436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orexic"/>
          <p:cNvPicPr/>
          <p:nvPr/>
        </p:nvPicPr>
        <p:blipFill>
          <a:blip r:embed="rId3"/>
          <a:stretch/>
        </p:blipFill>
        <p:spPr>
          <a:xfrm>
            <a:off x="6012000" y="3573360"/>
            <a:ext cx="2447640" cy="2519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3851280" y="4149720"/>
            <a:ext cx="1944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v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llia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2916360" y="1773360"/>
            <a:ext cx="2519280" cy="71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ectual 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692360" y="2133720"/>
            <a:ext cx="129528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539640" y="1989000"/>
            <a:ext cx="115272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907640" y="2349360"/>
            <a:ext cx="107964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339640" y="2421000"/>
            <a:ext cx="1079640" cy="647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059280" y="2492280"/>
            <a:ext cx="576000" cy="792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324000" y="2565360"/>
            <a:ext cx="15127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1403280" y="3141720"/>
            <a:ext cx="1224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2700360" y="3429000"/>
            <a:ext cx="151128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i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5435640" y="2133720"/>
            <a:ext cx="1873080" cy="3585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6659640" y="2637000"/>
            <a:ext cx="1368360" cy="649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an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-dress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uff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dy-loo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203640" y="1844640"/>
            <a:ext cx="2736720" cy="79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Garamond"/>
              </a:rPr>
              <a:t>The way people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 flipV="1">
            <a:off x="2124000" y="2060280"/>
            <a:ext cx="1008000" cy="730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2268000" y="2421000"/>
            <a:ext cx="1008360" cy="360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79280" y="1916280"/>
            <a:ext cx="194472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gant 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24000" y="2637000"/>
            <a:ext cx="1944360" cy="43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dres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6588000" y="2421000"/>
            <a:ext cx="216072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uff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580000" y="3068640"/>
            <a:ext cx="223200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dy-l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6012000" y="2205000"/>
            <a:ext cx="1152360" cy="1443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5364000" y="2565360"/>
            <a:ext cx="79236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General Appear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ood-looking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ttractiv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autiful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ndsom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n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3059280" y="2565360"/>
            <a:ext cx="3025440" cy="863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people l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2268000" y="2997360"/>
            <a:ext cx="790920" cy="71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2411280" y="3213000"/>
            <a:ext cx="865440" cy="43200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1908000" y="3357720"/>
            <a:ext cx="1727280" cy="1150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3131640" y="3429000"/>
            <a:ext cx="792360" cy="1079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179280" y="2924280"/>
            <a:ext cx="201636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iful (wo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11280" y="3573360"/>
            <a:ext cx="180000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some (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2340000" y="4437000"/>
            <a:ext cx="19447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0" y="4581360"/>
            <a:ext cx="212400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-loo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6588000" y="3716280"/>
            <a:ext cx="2232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ttr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6084720" y="3068640"/>
            <a:ext cx="1582920" cy="504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More Adjective suffix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llish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 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allis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ownish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ha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wnis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hai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tyis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must be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tyish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Type</a:t>
            </a: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Straigh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avy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traight hair"/>
          <p:cNvPicPr/>
          <p:nvPr/>
        </p:nvPicPr>
        <p:blipFill>
          <a:blip r:embed="rId2"/>
          <a:stretch/>
        </p:blipFill>
        <p:spPr>
          <a:xfrm>
            <a:off x="5508720" y="765000"/>
            <a:ext cx="2592360" cy="25210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3203640" y="1700280"/>
            <a:ext cx="1728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wavyyy haiir"/>
          <p:cNvPicPr/>
          <p:nvPr/>
        </p:nvPicPr>
        <p:blipFill>
          <a:blip r:embed="rId3"/>
          <a:stretch/>
        </p:blipFill>
        <p:spPr>
          <a:xfrm>
            <a:off x="5508720" y="3789360"/>
            <a:ext cx="2592360" cy="25192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2843280" y="4292640"/>
            <a:ext cx="187308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Garamond"/>
              </a:rPr>
              <a:t>Hair</a:t>
            </a:r>
            <a:r>
              <a:rPr b="0" lang="en-US" sz="44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993300"/>
                </a:solidFill>
                <a:latin typeface="Garamond"/>
              </a:rPr>
              <a:t>Curly 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hair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Garamond"/>
              </a:rPr>
              <a:t>Hair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A </a:t>
            </a:r>
            <a:r>
              <a:rPr b="1" i="1" lang="en-US" sz="3200" spc="-1" strike="noStrike">
                <a:solidFill>
                  <a:srgbClr val="993300"/>
                </a:solidFill>
                <a:latin typeface="Garamond"/>
              </a:rPr>
              <a:t>crew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-cut</a:t>
            </a:r>
            <a:r>
              <a:rPr b="1" lang="en-US" sz="32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16360" y="1844640"/>
            <a:ext cx="17269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urlyyy"/>
          <p:cNvPicPr/>
          <p:nvPr/>
        </p:nvPicPr>
        <p:blipFill>
          <a:blip r:embed="rId2"/>
          <a:stretch/>
        </p:blipFill>
        <p:spPr>
          <a:xfrm>
            <a:off x="6156360" y="126828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rewwwcut"/>
          <p:cNvPicPr/>
          <p:nvPr/>
        </p:nvPicPr>
        <p:blipFill>
          <a:blip r:embed="rId3"/>
          <a:stretch/>
        </p:blipFill>
        <p:spPr>
          <a:xfrm>
            <a:off x="6227640" y="371628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987640" y="4365720"/>
            <a:ext cx="2089080" cy="43164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 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Qua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Bald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ead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ceding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hair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ld heaaad"/>
          <p:cNvPicPr/>
          <p:nvPr/>
        </p:nvPicPr>
        <p:blipFill>
          <a:blip r:embed="rId2"/>
          <a:stretch/>
        </p:blipFill>
        <p:spPr>
          <a:xfrm>
            <a:off x="6300720" y="620640"/>
            <a:ext cx="211320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059280" y="1844640"/>
            <a:ext cx="1512720" cy="2890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ceding hair"/>
          <p:cNvPicPr/>
          <p:nvPr/>
        </p:nvPicPr>
        <p:blipFill>
          <a:blip r:embed="rId3"/>
          <a:stretch/>
        </p:blipFill>
        <p:spPr>
          <a:xfrm>
            <a:off x="3851280" y="3573360"/>
            <a:ext cx="4608360" cy="273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3780000" y="3284640"/>
            <a:ext cx="2447640" cy="331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348000" y="4221000"/>
            <a:ext cx="165564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Hair</a:t>
            </a: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Garamond"/>
              </a:rPr>
              <a:t>* </a:t>
            </a:r>
            <a:r>
              <a:rPr b="1" lang="en-US" sz="4000" spc="-1" strike="noStrike" u="sng">
                <a:solidFill>
                  <a:srgbClr val="993300"/>
                </a:solidFill>
                <a:uFillTx/>
                <a:latin typeface="Garamond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59280" y="2349360"/>
            <a:ext cx="3241440" cy="1871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Garamond"/>
              </a:rPr>
              <a:t>Hair  color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618920" y="3789360"/>
            <a:ext cx="1584360" cy="503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2555640" y="4005360"/>
            <a:ext cx="1152360" cy="10792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3995280" y="4221000"/>
            <a:ext cx="360360" cy="1152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4859280" y="4221000"/>
            <a:ext cx="865080" cy="1079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5651640" y="4076640"/>
            <a:ext cx="1584360" cy="7207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227640" y="3573360"/>
            <a:ext cx="1657440" cy="142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H="1">
            <a:off x="1618920" y="3213000"/>
            <a:ext cx="1368360" cy="716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50920" y="3068640"/>
            <a:ext cx="1296720" cy="504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395280" y="4221000"/>
            <a:ext cx="129708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1476360" y="5157720"/>
            <a:ext cx="1224000" cy="503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5"/>
          <p:cNvSpPr/>
          <p:nvPr/>
        </p:nvSpPr>
        <p:spPr>
          <a:xfrm>
            <a:off x="3419640" y="5445000"/>
            <a:ext cx="136836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5364000" y="5445000"/>
            <a:ext cx="129564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6877080" y="4797360"/>
            <a:ext cx="1150920" cy="647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7524720" y="3860640"/>
            <a:ext cx="1440000" cy="505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6300720" y="3141720"/>
            <a:ext cx="14400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7740720" y="2852640"/>
            <a:ext cx="1403280" cy="432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2"/>
          <p:cNvSpPr/>
          <p:nvPr/>
        </p:nvSpPr>
        <p:spPr>
          <a:xfrm>
            <a:off x="7524720" y="1989000"/>
            <a:ext cx="1368360" cy="576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 flipV="1">
            <a:off x="5940360" y="2349000"/>
            <a:ext cx="1511280" cy="358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Face</a:t>
            </a: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hin face"/>
          <p:cNvPicPr/>
          <p:nvPr/>
        </p:nvPicPr>
        <p:blipFill>
          <a:blip r:embed="rId2"/>
          <a:stretch/>
        </p:blipFill>
        <p:spPr>
          <a:xfrm>
            <a:off x="5724360" y="620640"/>
            <a:ext cx="2735280" cy="2592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2340000" y="1700280"/>
            <a:ext cx="223200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roundd face"/>
          <p:cNvPicPr/>
          <p:nvPr/>
        </p:nvPicPr>
        <p:blipFill>
          <a:blip r:embed="rId3"/>
          <a:stretch/>
        </p:blipFill>
        <p:spPr>
          <a:xfrm>
            <a:off x="5724360" y="3573360"/>
            <a:ext cx="2664000" cy="2519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2268360" y="3716280"/>
            <a:ext cx="2519640" cy="50472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Garamond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ubb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beard and moustac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2411280" y="1916280"/>
            <a:ext cx="1944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ubbby"/>
          <p:cNvPicPr/>
          <p:nvPr/>
        </p:nvPicPr>
        <p:blipFill>
          <a:blip r:embed="rId2"/>
          <a:stretch/>
        </p:blipFill>
        <p:spPr>
          <a:xfrm>
            <a:off x="5724360" y="155736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beard and moustache"/>
          <p:cNvPicPr/>
          <p:nvPr/>
        </p:nvPicPr>
        <p:blipFill>
          <a:blip r:embed="rId3"/>
          <a:stretch/>
        </p:blipFill>
        <p:spPr>
          <a:xfrm>
            <a:off x="5867280" y="4292640"/>
            <a:ext cx="252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and Complex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Fair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ark skinned"/>
          <p:cNvPicPr/>
          <p:nvPr/>
        </p:nvPicPr>
        <p:blipFill>
          <a:blip r:embed="rId2"/>
          <a:stretch/>
        </p:blipFill>
        <p:spPr>
          <a:xfrm>
            <a:off x="6012000" y="1413000"/>
            <a:ext cx="206820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2411280" y="2205000"/>
            <a:ext cx="2089440" cy="287280"/>
          </a:xfrm>
          <a:prstGeom prst="pi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thin face"/>
          <p:cNvPicPr/>
          <p:nvPr/>
        </p:nvPicPr>
        <p:blipFill>
          <a:blip r:embed="rId3"/>
          <a:stretch/>
        </p:blipFill>
        <p:spPr>
          <a:xfrm>
            <a:off x="6012000" y="4005360"/>
            <a:ext cx="216036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56000" y="4292640"/>
            <a:ext cx="1944720" cy="360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 and Comp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freck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reckles"/>
          <p:cNvPicPr/>
          <p:nvPr/>
        </p:nvPicPr>
        <p:blipFill>
          <a:blip r:embed="rId2"/>
          <a:stretch/>
        </p:blipFill>
        <p:spPr>
          <a:xfrm>
            <a:off x="5508720" y="1773360"/>
            <a:ext cx="244476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rinkles"/>
          <p:cNvPicPr/>
          <p:nvPr/>
        </p:nvPicPr>
        <p:blipFill>
          <a:blip r:embed="rId3"/>
          <a:stretch/>
        </p:blipFill>
        <p:spPr>
          <a:xfrm>
            <a:off x="5508720" y="4076640"/>
            <a:ext cx="251928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3419640" y="1844640"/>
            <a:ext cx="1512720" cy="57636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492360" y="4292640"/>
            <a:ext cx="1366920" cy="5032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7:12:33Z</dcterms:created>
  <dc:creator>خالد</dc:creator>
  <dc:description/>
  <dc:language>en-US</dc:language>
  <cp:lastModifiedBy>Ghyzayel</cp:lastModifiedBy>
  <dcterms:modified xsi:type="dcterms:W3CDTF">2013-08-10T08:18:30Z</dcterms:modified>
  <cp:revision>8</cp:revision>
  <dc:subject/>
  <dc:title>Describing People  (Appearanc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