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880C-3D62-4549-A801-AC2C0D3C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BFAA-1673-44CD-AFA2-7E2BB839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A29B-EECA-48E6-B4D2-7B4DF5DB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0B87-B4CB-4DB2-8B15-682CD868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A823-F3B0-4A33-81DF-C950EDD4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3481-0FAC-447D-B641-82DD92C6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F4BE-0F87-44E7-BA29-A2980306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B7E6-7D72-4D20-917A-9B991835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AF4E-CBF7-439F-8105-D5EBFDC5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5C5E-AB6D-45EC-9976-F1F75A34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F9F6-893C-4525-9E9D-8C4D2CC0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EFAD-A675-4F97-AE78-37F6AA03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AE6C-AB26-45B6-9CEC-F0456D6D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3453-1D31-4527-881E-0EF6AB50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496C-8434-486E-8D82-BFF533B1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8DEB-745E-4F6F-8A5D-1EE7F6E3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87E1-926E-4F59-954D-AF02236E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B065-F2AA-4408-9A70-32DC99B9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B545-1313-46A7-A347-E7429878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5D2A-A79E-4A45-8114-5A088F1E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41A-AAF1-41D7-8792-DB5103FF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E66-92C3-4F2D-810D-5E1A11E4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0FF9-42E7-4969-830B-F39B88BD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6493-7B1D-4C7B-BB36-A7BF488A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B080-0250-4214-B485-6C8BC15E88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876B-9DF9-410A-920E-6EB630C085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evelopment of Microscope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5689440" cy="389412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4203720" cy="4365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3429000" cy="5080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427640" y="476280"/>
            <a:ext cx="4498920" cy="5327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427560" cy="5329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076720" y="692280"/>
            <a:ext cx="3554640" cy="482436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3875040" cy="49690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48360" y="692280"/>
            <a:ext cx="3705120" cy="496728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07960" y="692280"/>
            <a:ext cx="3871800" cy="504036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7400" y="725400"/>
            <a:ext cx="3162600" cy="50799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249800" y="620640"/>
            <a:ext cx="4138560" cy="52005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3530880" cy="5346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16360" y="549360"/>
            <a:ext cx="3834000" cy="5638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416040" cy="5004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932360" y="981000"/>
            <a:ext cx="3556080" cy="488952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351240" cy="590400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3960720" cy="515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95640" y="1371600"/>
            <a:ext cx="4942080" cy="3641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3252960" cy="504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909720"/>
            <a:ext cx="3916440" cy="504036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76720" y="1100160"/>
            <a:ext cx="3595680" cy="456084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28640" y="1052640"/>
            <a:ext cx="5967720" cy="4484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284720" y="1197000"/>
            <a:ext cx="4329000" cy="453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3139920" cy="5661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356000" y="404640"/>
            <a:ext cx="4537080" cy="358632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79280" y="2492280"/>
            <a:ext cx="4267440" cy="403884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835520" y="836640"/>
            <a:ext cx="3913200" cy="5329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3591000" cy="5545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859280" y="836640"/>
            <a:ext cx="3889440" cy="48877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3990960" cy="532908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508640" cy="4546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211640" y="620640"/>
            <a:ext cx="4756320" cy="5904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3755880" cy="593712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292720" y="260280"/>
            <a:ext cx="3711600" cy="612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3809880" cy="590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581640" cy="561636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45960" y="549360"/>
            <a:ext cx="4442040" cy="561636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076720" y="333360"/>
            <a:ext cx="3695760" cy="626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3888000" cy="6121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8160" y="376200"/>
            <a:ext cx="3759480" cy="62676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26040" y="404640"/>
            <a:ext cx="3549600" cy="62643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62480" y="620640"/>
            <a:ext cx="3413160" cy="56898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8360" y="666720"/>
            <a:ext cx="4508280" cy="506736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46560" y="725400"/>
            <a:ext cx="3746520" cy="507996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327200" cy="596916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21:46:26Z</dcterms:created>
  <dc:creator>khale</dc:creator>
  <dc:description/>
  <dc:language>en-US</dc:language>
  <cp:lastModifiedBy>khale</cp:lastModifiedBy>
  <dcterms:modified xsi:type="dcterms:W3CDTF">2011-03-01T21:54:16Z</dcterms:modified>
  <cp:revision>1</cp:revision>
  <dc:subject/>
  <dc:title>Development of Microscopes</dc:title>
</cp:coreProperties>
</file>