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3B1-8545-49EB-9A2B-C9CF28C9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5EB-F6D9-4E24-82A5-843DBC5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F427-57C7-452D-8B22-7D649217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4F5-759C-45A1-85B1-E5641D80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E9AC-187C-4476-B25A-3CA149B1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306E-D465-4D50-A64C-072E0479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5EEF-DFC5-4E7E-B7D5-B0F821AC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2CAC-ADE8-43ED-8F26-E603FC73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B55F8-A726-49BA-A408-EE92CAB2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D865-316A-476D-A341-B8469704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3C6C-0F43-4387-BA1B-85D24D99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CBF-7E0F-435F-9416-18A192B0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B140-5C4C-45FA-8BFC-7CA7659C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72DD-C2ED-4A3C-9B7F-BC8A3CD0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49A0-61B2-49EA-9647-42E5EA85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B32F-ABB0-44FB-B450-8EA6F41D6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80F-2C74-415C-A7ED-BE4781B2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7E9-63F9-46F4-BCE8-1943FD1A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2A95-3946-4649-B117-65F65461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1A20-B2DA-409D-989F-C3FB0E30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841-83BD-4B45-BAD2-5B9C1B12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CC6-B43C-4374-AE94-AE0E08D4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DBD-F348-4E4F-BCB1-E9BC8B72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66BC-5F89-443C-A1FF-83E4E2D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33CE-5AF5-4DBE-8BFB-C7DC6FE96D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00E8-92C1-4A5C-98CE-174F4DA480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evelopment of Microscop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844640"/>
            <a:ext cx="5689440" cy="38941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203720" cy="4365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404640"/>
            <a:ext cx="3429000" cy="5080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27640" y="476280"/>
            <a:ext cx="4498920" cy="532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427560" cy="5329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76720" y="692280"/>
            <a:ext cx="3554640" cy="4824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875040" cy="49690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8360" y="692280"/>
            <a:ext cx="3705120" cy="496728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7960" y="692280"/>
            <a:ext cx="3871800" cy="50403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7400" y="725400"/>
            <a:ext cx="3162600" cy="50799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249800" y="620640"/>
            <a:ext cx="4138560" cy="52005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3530880" cy="5346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716360" y="549360"/>
            <a:ext cx="3834000" cy="5638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416040" cy="500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981000"/>
            <a:ext cx="3556080" cy="48895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351240" cy="5904000"/>
          </a:xfrm>
          <a:prstGeom prst="rect">
            <a:avLst/>
          </a:prstGeom>
          <a:ln w="38160">
            <a:solidFill>
              <a:srgbClr val="0033cc"/>
            </a:solidFill>
            <a:miter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960720" cy="5157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95640" y="1371600"/>
            <a:ext cx="4942080" cy="3641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252960" cy="504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360" y="909720"/>
            <a:ext cx="3916440" cy="504036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076720" y="1100160"/>
            <a:ext cx="3595680" cy="4560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28640" y="1052640"/>
            <a:ext cx="5967720" cy="44845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329000" cy="4537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139920" cy="5661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56000" y="404640"/>
            <a:ext cx="4537080" cy="358632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2492280"/>
            <a:ext cx="4267440" cy="4038840"/>
          </a:xfrm>
          <a:prstGeom prst="rect">
            <a:avLst/>
          </a:prstGeom>
          <a:ln w="38160">
            <a:solidFill>
              <a:srgbClr val="cc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835520" y="836640"/>
            <a:ext cx="3913200" cy="5329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3591000" cy="5545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889440" cy="488772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68360" y="836640"/>
            <a:ext cx="3990960" cy="532908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68360" y="1268280"/>
            <a:ext cx="4508640" cy="4546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211640" y="620640"/>
            <a:ext cx="4756320" cy="59040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3755880" cy="593712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92720" y="260280"/>
            <a:ext cx="3711600" cy="612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3809880" cy="590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219640" y="549360"/>
            <a:ext cx="3581640" cy="56163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345960" y="549360"/>
            <a:ext cx="4442040" cy="56163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076720" y="333360"/>
            <a:ext cx="3695760" cy="626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39640" y="404640"/>
            <a:ext cx="3888000" cy="6121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68160" y="376200"/>
            <a:ext cx="3759480" cy="626760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126040" y="404640"/>
            <a:ext cx="3549600" cy="6264360"/>
          </a:xfrm>
          <a:prstGeom prst="rect">
            <a:avLst/>
          </a:prstGeom>
          <a:ln w="38160">
            <a:solidFill>
              <a:srgbClr val="ff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262480" y="620640"/>
            <a:ext cx="3413160" cy="568980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8360" y="666720"/>
            <a:ext cx="4508280" cy="506736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146560" y="725400"/>
            <a:ext cx="3746520" cy="50799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327200" cy="5969160"/>
          </a:xfrm>
          <a:prstGeom prst="rect">
            <a:avLst/>
          </a:prstGeom>
          <a:ln w="38160">
            <a:solidFill>
              <a:srgbClr val="ffff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46:26Z</dcterms:created>
  <dc:creator>khale</dc:creator>
  <dc:description/>
  <dc:language>en-US</dc:language>
  <cp:lastModifiedBy>khale</cp:lastModifiedBy>
  <dcterms:modified xsi:type="dcterms:W3CDTF">2011-03-01T21:54:16Z</dcterms:modified>
  <cp:revision>1</cp:revision>
  <dc:subject/>
  <dc:title>Development of Microscopes</dc:title>
</cp:coreProperties>
</file>