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67B-B848-482F-91C3-02DCB7D9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892-3D6D-4579-9DD5-3E45E0B2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AD4-F6FA-4988-9705-547ABF34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C14-6368-42E5-8B6F-EAB10CC4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940-11B3-4E58-9DEC-0EBE9F1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2A6-3BB1-4729-8F73-6A760D22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6E7-F039-47DD-B483-6FDAC23D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FB7-CBBD-4243-B182-438E15A8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F4F-128B-4970-B148-0B8413D4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17E-462F-4F20-B7EA-FC9A2CB0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4B5-A9F2-4638-8DF0-EF6849A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B12-8251-439E-83CB-BA9FBBBB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6E08-4046-499B-8EBA-D1AE40C3DE14}" type="slidenum">
              <a:rPr b="1" lang="ar-SA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Calibri"/>
              </a:rPr>
              <a:t>Disruptive Behavioral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atima AlHaid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rofessor, Child &amp; Adolescent Psychiatr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K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Calibri"/>
              </a:rPr>
              <a:t>Conduct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Enduring set of behaviors, characterized by aggression and violation of the rights of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revalence of 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Boys : gir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4-12  :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arents with antisocial personality and alcoh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Socioeconomic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Eti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arental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Sociocultural 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hild abuse &amp; mal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NS dysfunction &amp;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Temper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Clinical 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ggression to people &amp; ani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Destruction of property &amp; ste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Deceitfulness or the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erious violations of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sistent l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ire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exual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requent tru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bacco smoking &amp; other substance ab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story of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amily disharm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Comorbid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D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Learning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Assess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Nature &amp; seve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ircum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Fami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Mana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ognitive behavioral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roblem-solving skills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arent management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Family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ommunity-based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Residential pla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ourt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Outco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Varies with the nature and extent of antisocial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oor with parental crimi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ssociate with antisocial personality, substance abuse, &amp; mood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Better prognosis with mild form, absence of comrbidity and normal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alibri"/>
              </a:rPr>
              <a:t>Oppositional Defiant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uring pattern of negativistic, hostile, and defiant behaviors in the absence of serious violations of social norms or of the rights of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ly normal in early childhood and adolescence ( establish autonomy, identity, &amp; inner standards and control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alence of 2-16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ys </a:t>
            </a:r>
            <a:r>
              <a:rPr b="0" lang="en-US" sz="2800" spc="-1" strike="noStrike">
                <a:solidFill>
                  <a:srgbClr val="000000"/>
                </a:solidFill>
                <a:latin typeface="Old English Text MT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r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Eti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mental predis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ological theories …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resolved confl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ed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al factor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al factor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Clinical 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 outbur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refusal to comply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berately annoy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me others for their mist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 at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 distress to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ersonal difficu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school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Assess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e &amp; seve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uation &amp; circum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are around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al personality and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- child relation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Mana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al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avioral modification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gnitive behavioral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y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Outco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rognosis if associated with clear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3 continues to have the diagnosis during school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hildren with ODD  develop CD in adolesc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1:09:38Z</dcterms:created>
  <dc:creator>www.arabswell.com</dc:creator>
  <dc:description/>
  <dc:language>en-US</dc:language>
  <cp:lastModifiedBy>Mac</cp:lastModifiedBy>
  <dcterms:modified xsi:type="dcterms:W3CDTF">2013-11-09T10:05:47Z</dcterms:modified>
  <cp:revision>12</cp:revision>
  <dc:subject/>
  <dc:title>Disruptive Behavioral Disorders</dc:title>
</cp:coreProperties>
</file>