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4525-8856-49F1-8F47-CF06361D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480B-698B-4807-95FC-3F7CF0854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A05F-68B2-427B-9347-454CA9BB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178-6523-43ED-B796-64D60F69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D94-FD2D-43CA-B448-C10BACAA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1455-80E8-4DCF-99EA-FB11AC1A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797-F23F-4890-89E1-5EA7071C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C5D-F4A0-4D42-BB45-79EC2A2E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429-94C2-40CC-84A6-7EEA0C2AF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C5FF-AB46-4A3C-949C-78D44C58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A616-75B3-4B19-A780-460B203E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A9D-2F57-42A3-B9FA-193E195B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200" spc="-1" strike="noStrike" u="sng">
                <a:solidFill>
                  <a:srgbClr val="898989"/>
                </a:solidFill>
                <a:uFillTx/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5FE2-8F7F-4738-89C0-A255D1C58B13}" type="slidenum">
              <a:rPr b="1" lang="ar-SA" sz="1200" spc="-1" strike="noStrike" u="sng">
                <a:solidFill>
                  <a:srgbClr val="898989"/>
                </a:solidFill>
                <a:uFillTx/>
                <a:latin typeface="Arial"/>
              </a:rPr>
              <a:t>&lt;number&gt;</a:t>
            </a:fld>
            <a:endParaRPr b="1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cc00"/>
                </a:solidFill>
                <a:latin typeface="Calibri"/>
              </a:rPr>
              <a:t>Disruptive Behavioral Disord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Fatima AlHaid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Professor, Child &amp; Adolescent Psychiatr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KS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54061"/>
                </a:solidFill>
                <a:latin typeface="Calibri"/>
              </a:rPr>
              <a:t>Conduct Dis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54061"/>
                </a:solidFill>
                <a:uFillTx/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Enduring set of behaviors, characterized by aggression and violation of the rights of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54061"/>
                </a:solidFill>
                <a:uFillTx/>
                <a:latin typeface="Calibri"/>
              </a:rPr>
              <a:t>Epidemiolo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Prevalence of 1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Boys : gir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4-12  :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Parents with antisocial personality and alcoholis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Socioeconomic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54061"/>
                </a:solidFill>
                <a:uFillTx/>
                <a:latin typeface="Calibri"/>
              </a:rPr>
              <a:t>Etiolo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Parental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Sociocultural 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Child abuse &amp; maltrea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CNS dysfunction &amp;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Tempera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54061"/>
                </a:solidFill>
                <a:uFillTx/>
                <a:latin typeface="Calibri"/>
              </a:rPr>
              <a:t>Clinical 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Aggression to people &amp; anima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Destruction of property &amp; ste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Deceitfulness or the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erious violations of ru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Persistent ly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ire set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Sexual behavi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requent trua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Tobacco smoking &amp; other substance ab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History of dep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Family disharmon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54061"/>
                </a:solidFill>
                <a:uFillTx/>
                <a:latin typeface="Calibri"/>
              </a:rPr>
              <a:t>Comorbidit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ADH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De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Learning 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54061"/>
                </a:solidFill>
                <a:uFillTx/>
                <a:latin typeface="Calibri"/>
              </a:rPr>
              <a:t>Assess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Nature &amp; seve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Circum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Fami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54061"/>
                </a:solidFill>
                <a:uFillTx/>
                <a:latin typeface="Calibri"/>
              </a:rPr>
              <a:t>Mana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Cognitive behavioral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Problem-solving skills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Parent management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Family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Med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Community-based cen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Residential plac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Court repo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254061"/>
                </a:solidFill>
                <a:uFillTx/>
                <a:latin typeface="Calibri"/>
              </a:rPr>
              <a:t>Outco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Varies with the nature and extent of antisocial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Poor with parental crimin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Associate with antisocial personality, substance abuse, &amp; mood disor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Better prognosis with mild form, absence of comrbidity and normal 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 u="sng">
              <a:solidFill>
                <a:srgbClr val="000000"/>
              </a:solidFill>
              <a:uFillTx/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Calibri"/>
              </a:rPr>
              <a:t>Oppositional Defiant Dis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alibri"/>
              </a:rPr>
              <a:t>Defin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uring pattern of negativistic, hostile, and defiant behaviors in the absence of serious violations of social norms or of the rights of oth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alibri"/>
              </a:rPr>
              <a:t>Epidemiolo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ly normal in early childhood and adolescence ( establish autonomy, identity, &amp; inner standards and control 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alence of 2-16 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ys </a:t>
            </a:r>
            <a:r>
              <a:rPr b="0" lang="en-US" sz="2800" spc="-1" strike="noStrike">
                <a:solidFill>
                  <a:srgbClr val="000000"/>
                </a:solidFill>
                <a:latin typeface="Old English Text MT"/>
              </a:rPr>
              <a:t>≥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ir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alibri"/>
              </a:rPr>
              <a:t>Etiolog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amental predis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sychological theories …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resolved confli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 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ed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al factor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ial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vironmental factor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alibri"/>
              </a:rPr>
              <a:t>Clinical featu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er outbur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tive refusal to comply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liberately annoy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me others for their mistak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 at h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use distress to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personal difficul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or school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alibri"/>
              </a:rPr>
              <a:t>Assess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e &amp; seve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tuation &amp; circum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 are around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al personality and sk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- child relationshi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alibri"/>
              </a:rPr>
              <a:t>Managemen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ental couns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havioral modification progra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gnitive behavioral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mily therap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cc00"/>
                </a:solidFill>
                <a:uFillTx/>
                <a:latin typeface="Calibri"/>
              </a:rPr>
              <a:t>Outcom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ter prognosis if associated with clear st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/3 continues to have the diagnosis during school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ny children with ODD  develop CD in adolesc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21:09:38Z</dcterms:created>
  <dc:creator>www.arabswell.com</dc:creator>
  <dc:description/>
  <dc:language>en-US</dc:language>
  <cp:lastModifiedBy>Mac</cp:lastModifiedBy>
  <dcterms:modified xsi:type="dcterms:W3CDTF">2013-11-09T10:05:47Z</dcterms:modified>
  <cp:revision>12</cp:revision>
  <dc:subject/>
  <dc:title>Disruptive Behavioral Disorders</dc:title>
</cp:coreProperties>
</file>