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A46-EAB7-4B47-AE32-B5E673AD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57E-6117-418E-A3E5-28E7DEA6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38A-9720-436F-AE7F-D6AF3EE5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8C7-0816-4521-AF56-933D802F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3D6-119A-4BA8-8C31-86640F2B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C6C-7192-47DD-BA91-E531A999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594-2F2C-4AB5-BA03-DE87967A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707-2F9F-4DF9-A644-E6E3108F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19D-81AE-4FD3-B7A4-6EFC5429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90B-77DA-4C63-83EC-8184E8C7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C92-F615-4D33-ADC5-FD8FDC2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19C-3FF8-4835-94E2-195C2C9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8763-7E18-4317-9930-46C296F809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source=images&amp;cd=&amp;cad=rja&amp;docid=Fv9Nt2ij5ZTXfM&amp;tbnid=qK-kSI2pr-IvrM:&amp;ved=0CAgQjRwwAA&amp;url=http%3A%2F%2Funiv-son.blogspot.com%2F2010%2F04%2Fblog-post.html&amp;ei=QoRaUfi-F8a6O_6ZgegL&amp;psig=AFQjCNEURNQtt8Jcn_puobxlLkfntlU3XQ&amp;ust=136497299440731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17366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sect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ng a Lab c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484280"/>
            <a:ext cx="4762440" cy="4762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9280" y="1341360"/>
            <a:ext cx="7740360" cy="4491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340000" y="476280"/>
            <a:ext cx="446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d…Dissecting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5157720"/>
            <a:ext cx="7848720" cy="9064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59280" y="260280"/>
            <a:ext cx="3004920" cy="46087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48" name="Line 11"/>
          <p:cNvSpPr/>
          <p:nvPr/>
        </p:nvSpPr>
        <p:spPr>
          <a:xfrm>
            <a:off x="1476360" y="4508640"/>
            <a:ext cx="719280" cy="10112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 flipH="1">
            <a:off x="5076360" y="3209760"/>
            <a:ext cx="2233800" cy="795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49360"/>
            <a:ext cx="23763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lade Prepa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392120"/>
            <a:ext cx="7775280" cy="4275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203640" y="549360"/>
            <a:ext cx="2808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secting 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5013360"/>
            <a:ext cx="2376720" cy="368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vailable in the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07:05:45Z</dcterms:created>
  <dc:creator>خالد</dc:creator>
  <dc:description/>
  <dc:language>en-US</dc:language>
  <cp:lastModifiedBy>خالد</cp:lastModifiedBy>
  <dcterms:modified xsi:type="dcterms:W3CDTF">2013-04-02T07:11:52Z</dcterms:modified>
  <cp:revision>2</cp:revision>
  <dc:subject/>
  <dc:title>Dissecting Tools</dc:title>
</cp:coreProperties>
</file>