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C30-8605-44DF-941C-E8B2A95D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6EC-8593-4B7A-819D-1AE7BE13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902-2A29-479D-8D33-12E3EAF84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4EC1-800F-48D6-BB91-26D2F24A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F8D6-C370-4E8A-A611-5660F667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047-9907-4C56-8F0D-5072BCD1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EDF-F6FF-4BA0-B834-4DB3ABB4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C12-AB04-48EA-869F-075AEA32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505-0D07-425C-A270-29BC4A68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A3FE-6200-4BB4-86EC-53280A50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544-26EE-4739-81BC-E8D7DEA5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140-1420-4850-A0F1-09E8CA14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AE9C-73B2-4C5F-B006-1494BD3D5FF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.sa/url?sa=i&amp;source=images&amp;cd=&amp;cad=rja&amp;docid=Fv9Nt2ij5ZTXfM&amp;tbnid=qK-kSI2pr-IvrM:&amp;ved=0CAgQjRwwAA&amp;url=http%3A%2F%2Funiv-son.blogspot.com%2F2010%2F04%2Fblog-post.html&amp;ei=QoRaUfi-F8a6O_6ZgegL&amp;psig=AFQjCNEURNQtt8Jcn_puobxlLkfntlU3XQ&amp;ust=136497299440731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924280"/>
            <a:ext cx="7772400" cy="173664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secting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ng a Lab co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484280"/>
            <a:ext cx="4762440" cy="4762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19280" y="1341360"/>
            <a:ext cx="7740360" cy="44910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2340000" y="476280"/>
            <a:ext cx="446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d…Dissecting K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5157720"/>
            <a:ext cx="7848720" cy="90648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59280" y="260280"/>
            <a:ext cx="3004920" cy="4608720"/>
          </a:xfrm>
          <a:prstGeom prst="rect">
            <a:avLst/>
          </a:prstGeom>
          <a:ln w="38160">
            <a:solidFill>
              <a:srgbClr val="99cc00"/>
            </a:solidFill>
            <a:miter/>
          </a:ln>
        </p:spPr>
      </p:pic>
      <p:sp>
        <p:nvSpPr>
          <p:cNvPr id="48" name="Line 11"/>
          <p:cNvSpPr/>
          <p:nvPr/>
        </p:nvSpPr>
        <p:spPr>
          <a:xfrm>
            <a:off x="1476360" y="4508640"/>
            <a:ext cx="719280" cy="101124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 flipH="1">
            <a:off x="5076360" y="3209760"/>
            <a:ext cx="2233800" cy="7956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49360"/>
            <a:ext cx="23763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lade Preparation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1392120"/>
            <a:ext cx="7775280" cy="4275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203640" y="549360"/>
            <a:ext cx="2808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secting 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5013360"/>
            <a:ext cx="2376720" cy="368280"/>
          </a:xfrm>
          <a:prstGeom prst="rect">
            <a:avLst/>
          </a:prstGeom>
          <a:solidFill>
            <a:srgbClr val="ffff00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vailable in the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07:05:45Z</dcterms:created>
  <dc:creator>خالد</dc:creator>
  <dc:description/>
  <dc:language>en-US</dc:language>
  <cp:lastModifiedBy>خالد</cp:lastModifiedBy>
  <dcterms:modified xsi:type="dcterms:W3CDTF">2013-04-02T07:11:52Z</dcterms:modified>
  <cp:revision>2</cp:revision>
  <dc:subject/>
  <dc:title>Dissecting Tools</dc:title>
</cp:coreProperties>
</file>