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7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A3F1-44E7-44BB-8A58-8F6BBD83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F262-C631-404E-8A8A-8583B277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3E9F-BDCB-41E1-AA59-A21A39592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AFA3-5EEA-49F6-A450-6FD1BEDFA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9A45-B23C-4E5B-B534-1FAB69E3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7A15-5EA4-496D-8367-F45BBDB6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CC0C-C9E9-4C77-8E86-132B919E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FF5A-32BF-4428-BF18-B79AE263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0BAD-F010-4CE4-89D9-529E234E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67D5-0200-4F7D-A556-35AF3A90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1118-FBEF-4B0A-875E-36546A08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55B9-B8CA-42EC-B80D-305080DB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2CF0-DB76-4F27-8E57-F257C7094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ersity of Alga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millions of algal species, but we’ll focus in these five group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noflagell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 Alg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lps or Brown Alg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n alg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Green alga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restrial plants arose from a green algal ances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have the same photosynthetic pigments (Chlorophyll a and b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green algae have a cell wall made of cellul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s divide similar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Green_alga-Ulva"/>
          <p:cNvPicPr/>
          <p:nvPr/>
        </p:nvPicPr>
        <p:blipFill>
          <a:blip r:embed="rId1"/>
          <a:stretch/>
        </p:blipFill>
        <p:spPr>
          <a:xfrm>
            <a:off x="5943600" y="4038480"/>
            <a:ext cx="255096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Alga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ficial alga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are the base of the aquatic food chain – photosynthetic org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chens: algae and fungi symb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erve as shelters: Kelps form underwater forests; red alga form ree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foodchain"/>
          <p:cNvPicPr/>
          <p:nvPr/>
        </p:nvPicPr>
        <p:blipFill>
          <a:blip r:embed="rId1"/>
          <a:stretch/>
        </p:blipFill>
        <p:spPr>
          <a:xfrm>
            <a:off x="1371600" y="4648320"/>
            <a:ext cx="3505320" cy="1966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kelp_forest_15_3"/>
          <p:cNvPicPr/>
          <p:nvPr/>
        </p:nvPicPr>
        <p:blipFill>
          <a:blip r:embed="rId2"/>
          <a:stretch/>
        </p:blipFill>
        <p:spPr>
          <a:xfrm>
            <a:off x="5562720" y="4495680"/>
            <a:ext cx="304776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mful alga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growth of algae cau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gging of water ways, streams, filters… makes the water taste b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toxic to ani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 tid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caused b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noflagell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red-tide"/>
          <p:cNvPicPr/>
          <p:nvPr/>
        </p:nvPicPr>
        <p:blipFill>
          <a:blip r:embed="rId1"/>
          <a:stretch/>
        </p:blipFill>
        <p:spPr>
          <a:xfrm>
            <a:off x="5029200" y="3352680"/>
            <a:ext cx="36576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8cc00"/>
                </a:solidFill>
                <a:latin typeface="Times New Roman"/>
              </a:rPr>
              <a:t>1.  Dia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toms: Divis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cillariophy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group of algae (many unidentified). Relatively recently evolved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bitat:  Diatoms live in cool oc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: mostly unicellular, have silica in their cell wa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5" descr="diatoms"/>
          <p:cNvPicPr/>
          <p:nvPr/>
        </p:nvPicPr>
        <p:blipFill>
          <a:blip r:embed="rId1"/>
          <a:stretch/>
        </p:blipFill>
        <p:spPr>
          <a:xfrm>
            <a:off x="2895480" y="4114800"/>
            <a:ext cx="312444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important for aquatic food chains: they provi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ytoplank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hytoplankt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Zooplankt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mall fish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rger fi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mollusks        wh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reproduce asexually for many generations, then sexu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6"/>
          <p:cNvSpPr/>
          <p:nvPr/>
        </p:nvSpPr>
        <p:spPr>
          <a:xfrm>
            <a:off x="762120" y="2590920"/>
            <a:ext cx="546120" cy="647640"/>
          </a:xfrm>
          <a:custGeom>
            <a:avLst/>
            <a:gdLst>
              <a:gd name="textAreaLeft" fmla="*/ 0 w 546120"/>
              <a:gd name="textAreaRight" fmla="*/ 546480 w 5461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344" h="408">
                <a:moveTo>
                  <a:pt x="56" y="24"/>
                </a:moveTo>
                <a:cubicBezTo>
                  <a:pt x="132" y="12"/>
                  <a:pt x="208" y="0"/>
                  <a:pt x="200" y="24"/>
                </a:cubicBezTo>
                <a:cubicBezTo>
                  <a:pt x="192" y="48"/>
                  <a:pt x="0" y="152"/>
                  <a:pt x="8" y="168"/>
                </a:cubicBezTo>
                <a:cubicBezTo>
                  <a:pt x="16" y="184"/>
                  <a:pt x="240" y="104"/>
                  <a:pt x="248" y="120"/>
                </a:cubicBezTo>
                <a:cubicBezTo>
                  <a:pt x="256" y="136"/>
                  <a:pt x="48" y="248"/>
                  <a:pt x="56" y="264"/>
                </a:cubicBezTo>
                <a:cubicBezTo>
                  <a:pt x="64" y="280"/>
                  <a:pt x="280" y="200"/>
                  <a:pt x="296" y="216"/>
                </a:cubicBezTo>
                <a:cubicBezTo>
                  <a:pt x="312" y="232"/>
                  <a:pt x="152" y="336"/>
                  <a:pt x="152" y="360"/>
                </a:cubicBezTo>
                <a:cubicBezTo>
                  <a:pt x="152" y="384"/>
                  <a:pt x="264" y="352"/>
                  <a:pt x="296" y="360"/>
                </a:cubicBezTo>
                <a:cubicBezTo>
                  <a:pt x="328" y="368"/>
                  <a:pt x="336" y="388"/>
                  <a:pt x="344" y="40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3.  Red Alga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 algae: Divis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hodophy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4000 spec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some of the oldest eukaryotic organisms on earth (2 billion year old fossi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nd in tropical, warm wa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 as food and habitat for many marine spe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: from thin films to complex filamentous membr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Red algae </a:t>
            </a: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r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ory pigments!  Phycobilins mask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lorophyll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thus they look 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e to these accessory pigments, red algae can photosynthesize in deeper waters (at different light wavelength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Gigartina"/>
          <p:cNvPicPr/>
          <p:nvPr/>
        </p:nvPicPr>
        <p:blipFill>
          <a:blip r:embed="rId1"/>
          <a:stretch/>
        </p:blipFill>
        <p:spPr>
          <a:xfrm>
            <a:off x="5867280" y="4038480"/>
            <a:ext cx="281952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Red alga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rcial us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rrageen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sed for making ice cream, jellies, syrups, brea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for lotions, toothpaste, pharmaceutical jel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ar for growing bacteria and fungi for research purpo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foo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carrageenan"/>
          <p:cNvPicPr/>
          <p:nvPr/>
        </p:nvPicPr>
        <p:blipFill>
          <a:blip r:embed="rId1"/>
          <a:stretch/>
        </p:blipFill>
        <p:spPr>
          <a:xfrm>
            <a:off x="4191120" y="4648320"/>
            <a:ext cx="2209680" cy="1844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Pour_seeded_agar_P7231208md"/>
          <p:cNvPicPr/>
          <p:nvPr/>
        </p:nvPicPr>
        <p:blipFill>
          <a:blip r:embed="rId2"/>
          <a:stretch/>
        </p:blipFill>
        <p:spPr>
          <a:xfrm>
            <a:off x="6553080" y="4629240"/>
            <a:ext cx="2468520" cy="18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4. Kelps or Brown Alga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lps: Di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haeophy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ly related to diatoms, also a recent group… but look very different from diatom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bitat: rocky coasts in temperate zones or open seas (cold wat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: multicellular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dfast, stipe, blade, air blad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 to 50 meters 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" descr="Macrocystis-a_brown_alga"/>
          <p:cNvPicPr/>
          <p:nvPr/>
        </p:nvPicPr>
        <p:blipFill>
          <a:blip r:embed="rId1"/>
          <a:stretch/>
        </p:blipFill>
        <p:spPr>
          <a:xfrm>
            <a:off x="6477120" y="3276720"/>
            <a:ext cx="226368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5.  Green Alga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sion: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lorophy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t and most diverse group of alg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bitat: found mostly in fresh waters and on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at in rivers, lakes, reservoirs, cree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also live on rocks, trees, s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Cau-laph"/>
          <p:cNvPicPr/>
          <p:nvPr/>
        </p:nvPicPr>
        <p:blipFill>
          <a:blip r:embed="rId1"/>
          <a:stretch/>
        </p:blipFill>
        <p:spPr>
          <a:xfrm>
            <a:off x="4038480" y="4572000"/>
            <a:ext cx="2934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Green alga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 lettuc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l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lives in salt waters along the coas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 of green algae: fro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cell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icrasteri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a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nie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olvo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lli (leaf-like shap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micrasterias"/>
          <p:cNvPicPr/>
          <p:nvPr/>
        </p:nvPicPr>
        <p:blipFill>
          <a:blip r:embed="rId1"/>
          <a:stretch/>
        </p:blipFill>
        <p:spPr>
          <a:xfrm>
            <a:off x="5105520" y="2666880"/>
            <a:ext cx="1600200" cy="1589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Entero_flexuo1"/>
          <p:cNvPicPr/>
          <p:nvPr/>
        </p:nvPicPr>
        <p:blipFill>
          <a:blip r:embed="rId2"/>
          <a:stretch/>
        </p:blipFill>
        <p:spPr>
          <a:xfrm>
            <a:off x="3733920" y="3200400"/>
            <a:ext cx="1068120" cy="160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volvoxn"/>
          <p:cNvPicPr/>
          <p:nvPr/>
        </p:nvPicPr>
        <p:blipFill>
          <a:blip r:embed="rId3"/>
          <a:stretch/>
        </p:blipFill>
        <p:spPr>
          <a:xfrm>
            <a:off x="5867280" y="4343400"/>
            <a:ext cx="3048120" cy="241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UlvaAQ"/>
          <p:cNvPicPr/>
          <p:nvPr/>
        </p:nvPicPr>
        <p:blipFill>
          <a:blip r:embed="rId4"/>
          <a:stretch/>
        </p:blipFill>
        <p:spPr>
          <a:xfrm>
            <a:off x="6781680" y="1752480"/>
            <a:ext cx="228600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6T17:33:50Z</dcterms:created>
  <dc:creator>Angela Caines</dc:creator>
  <dc:description/>
  <dc:language>en-US</dc:language>
  <cp:lastModifiedBy>Mama</cp:lastModifiedBy>
  <dcterms:modified xsi:type="dcterms:W3CDTF">2011-02-01T21:28:49Z</dcterms:modified>
  <cp:revision>38</cp:revision>
  <dc:subject/>
  <dc:title>Lecture 11:  Algae, Bryophytes, and Ferns</dc:title>
</cp:coreProperties>
</file>