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9E4-7C35-4102-870D-4C3854A0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941-04B6-4AB4-8C3A-FEDC71FF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CC1-DF31-4E6D-9D62-49CF32EC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406-86A0-42C8-89BF-CB51859D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59D-1650-41EB-ACB5-038C893F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F4A-1690-4EB0-96DD-888B1797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8310-BFEC-4DB9-8592-6F9A5075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D19-3E97-4217-B1DF-051898DF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19C-1ED6-4767-883D-57B537F0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F2B-FEDC-4576-ABB2-25712207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06B-61B1-414E-9278-089FD3AF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6C5-51DB-4243-A580-2EC690B8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BFD7-23D6-401B-8193-2B3334A90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sity of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illions of algal species, but we’ll focus in these five group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oflagel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lps or Brown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restrial plants arose from a green algal ances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have the same photosynthetic pigments (Chlorophyll a and b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green algae have a cell wall made of 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divide simi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Green_alga-Ulva"/>
          <p:cNvPicPr/>
          <p:nvPr/>
        </p:nvPicPr>
        <p:blipFill>
          <a:blip r:embed="rId1"/>
          <a:stretch/>
        </p:blipFill>
        <p:spPr>
          <a:xfrm>
            <a:off x="5943600" y="4038480"/>
            <a:ext cx="255096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cial alga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are the base of the aquatic food chain – photosynthetic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hens: algae and fungi symb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erve as shelters: Kelps form underwater forests; red alga form ree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oodchain"/>
          <p:cNvPicPr/>
          <p:nvPr/>
        </p:nvPicPr>
        <p:blipFill>
          <a:blip r:embed="rId1"/>
          <a:stretch/>
        </p:blipFill>
        <p:spPr>
          <a:xfrm>
            <a:off x="1371600" y="4648320"/>
            <a:ext cx="3505320" cy="1966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kelp_forest_15_3"/>
          <p:cNvPicPr/>
          <p:nvPr/>
        </p:nvPicPr>
        <p:blipFill>
          <a:blip r:embed="rId2"/>
          <a:stretch/>
        </p:blipFill>
        <p:spPr>
          <a:xfrm>
            <a:off x="5562720" y="4495680"/>
            <a:ext cx="3047760" cy="20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mful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growth of algae cau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gging of water ways, streams, filters… makes the water taste b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oxic to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 ti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caused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oflagel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red-tide"/>
          <p:cNvPicPr/>
          <p:nvPr/>
        </p:nvPicPr>
        <p:blipFill>
          <a:blip r:embed="rId1"/>
          <a:stretch/>
        </p:blipFill>
        <p:spPr>
          <a:xfrm>
            <a:off x="5029200" y="3352680"/>
            <a:ext cx="36576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cc00"/>
                </a:solidFill>
                <a:latin typeface="Times New Roman"/>
              </a:rPr>
              <a:t>1.  Di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toms: Divi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cillariophy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group of algae (many unidentified). Relatively recently evolved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at:  Diatoms live in cool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mostly unicellular, have silica in their cell w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diatoms"/>
          <p:cNvPicPr/>
          <p:nvPr/>
        </p:nvPicPr>
        <p:blipFill>
          <a:blip r:embed="rId1"/>
          <a:stretch/>
        </p:blipFill>
        <p:spPr>
          <a:xfrm>
            <a:off x="2895480" y="411480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at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important for aquatic food chains: they provi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hytoplankt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ooplankt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mall fis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rger fi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mollusks        wh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produce asexually for many generations, then sex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762120" y="2590920"/>
            <a:ext cx="546120" cy="647640"/>
          </a:xfrm>
          <a:custGeom>
            <a:avLst/>
            <a:gdLst>
              <a:gd name="textAreaLeft" fmla="*/ 0 w 546120"/>
              <a:gd name="textAreaRight" fmla="*/ 546480 w 5461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344" h="408">
                <a:moveTo>
                  <a:pt x="56" y="24"/>
                </a:moveTo>
                <a:cubicBezTo>
                  <a:pt x="132" y="12"/>
                  <a:pt x="208" y="0"/>
                  <a:pt x="200" y="24"/>
                </a:cubicBezTo>
                <a:cubicBezTo>
                  <a:pt x="192" y="48"/>
                  <a:pt x="0" y="152"/>
                  <a:pt x="8" y="168"/>
                </a:cubicBezTo>
                <a:cubicBezTo>
                  <a:pt x="16" y="184"/>
                  <a:pt x="240" y="104"/>
                  <a:pt x="248" y="120"/>
                </a:cubicBezTo>
                <a:cubicBezTo>
                  <a:pt x="256" y="136"/>
                  <a:pt x="48" y="248"/>
                  <a:pt x="56" y="264"/>
                </a:cubicBezTo>
                <a:cubicBezTo>
                  <a:pt x="64" y="280"/>
                  <a:pt x="280" y="200"/>
                  <a:pt x="296" y="216"/>
                </a:cubicBezTo>
                <a:cubicBezTo>
                  <a:pt x="312" y="232"/>
                  <a:pt x="152" y="336"/>
                  <a:pt x="152" y="360"/>
                </a:cubicBezTo>
                <a:cubicBezTo>
                  <a:pt x="152" y="384"/>
                  <a:pt x="264" y="352"/>
                  <a:pt x="296" y="360"/>
                </a:cubicBezTo>
                <a:cubicBezTo>
                  <a:pt x="328" y="368"/>
                  <a:pt x="336" y="388"/>
                  <a:pt x="344" y="40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3.  Red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 algae: Divis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hodophy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4000 spec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some of the oldest eukaryotic organisms on earth (2 billion year old fossi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nd in tropical, warm wa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as food and habitat for many marine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: from thin films to complex filamentous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Red algae 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y pigments!  Phycobilins mask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lorophyll 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us they look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 to these accessory pigments, red algae can photosynthesize in deeper waters (at different light wavelength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Gigartina"/>
          <p:cNvPicPr/>
          <p:nvPr/>
        </p:nvPicPr>
        <p:blipFill>
          <a:blip r:embed="rId1"/>
          <a:stretch/>
        </p:blipFill>
        <p:spPr>
          <a:xfrm>
            <a:off x="5867280" y="4038480"/>
            <a:ext cx="281952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Red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us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rageen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d for making ice cream, jellies, syrups, b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for lotions, toothpaste, pharmaceutical jel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r for growing bacteria and fungi for research purpo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carrageenan"/>
          <p:cNvPicPr/>
          <p:nvPr/>
        </p:nvPicPr>
        <p:blipFill>
          <a:blip r:embed="rId1"/>
          <a:stretch/>
        </p:blipFill>
        <p:spPr>
          <a:xfrm>
            <a:off x="4191120" y="4648320"/>
            <a:ext cx="2209680" cy="184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Pour_seeded_agar_P7231208md"/>
          <p:cNvPicPr/>
          <p:nvPr/>
        </p:nvPicPr>
        <p:blipFill>
          <a:blip r:embed="rId2"/>
          <a:stretch/>
        </p:blipFill>
        <p:spPr>
          <a:xfrm>
            <a:off x="6553080" y="462924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4. Kelps or Brow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lps: Di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aeophy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ly related to diatoms, also a recent group… but look very different from diatom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bitat: rocky coasts in temperate zones or open seas (cold wa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: multicellular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fast, stipe, blade, air bl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50 meters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Macrocystis-a_brown_alga"/>
          <p:cNvPicPr/>
          <p:nvPr/>
        </p:nvPicPr>
        <p:blipFill>
          <a:blip r:embed="rId1"/>
          <a:stretch/>
        </p:blipFill>
        <p:spPr>
          <a:xfrm>
            <a:off x="6477120" y="3276720"/>
            <a:ext cx="226368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5.  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sion: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lorophy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and most diverse group of alg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bitat: found mostly in fresh waters an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in rivers, lakes, reservoirs, cree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lso live on rocks, trees,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Cau-laph"/>
          <p:cNvPicPr/>
          <p:nvPr/>
        </p:nvPicPr>
        <p:blipFill>
          <a:blip r:embed="rId1"/>
          <a:stretch/>
        </p:blipFill>
        <p:spPr>
          <a:xfrm>
            <a:off x="4038480" y="4572000"/>
            <a:ext cx="29340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Green alga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lettuc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l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lives in salt waters along the coas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green algae: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cell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crasteri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a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ie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olvo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lli (leaf-like sha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micrasterias"/>
          <p:cNvPicPr/>
          <p:nvPr/>
        </p:nvPicPr>
        <p:blipFill>
          <a:blip r:embed="rId1"/>
          <a:stretch/>
        </p:blipFill>
        <p:spPr>
          <a:xfrm>
            <a:off x="5105520" y="2666880"/>
            <a:ext cx="1600200" cy="158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ntero_flexuo1"/>
          <p:cNvPicPr/>
          <p:nvPr/>
        </p:nvPicPr>
        <p:blipFill>
          <a:blip r:embed="rId2"/>
          <a:stretch/>
        </p:blipFill>
        <p:spPr>
          <a:xfrm>
            <a:off x="3733920" y="3200400"/>
            <a:ext cx="106812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volvoxn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4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UlvaAQ"/>
          <p:cNvPicPr/>
          <p:nvPr/>
        </p:nvPicPr>
        <p:blipFill>
          <a:blip r:embed="rId4"/>
          <a:stretch/>
        </p:blipFill>
        <p:spPr>
          <a:xfrm>
            <a:off x="6781680" y="1752480"/>
            <a:ext cx="22860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6T17:33:50Z</dcterms:created>
  <dc:creator>Angela Caines</dc:creator>
  <dc:description/>
  <dc:language>en-US</dc:language>
  <cp:lastModifiedBy>Mama</cp:lastModifiedBy>
  <dcterms:modified xsi:type="dcterms:W3CDTF">2011-02-01T21:28:49Z</dcterms:modified>
  <cp:revision>38</cp:revision>
  <dc:subject/>
  <dc:title>Lecture 11:  Algae, Bryophytes, and Ferns</dc:title>
</cp:coreProperties>
</file>