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322-8D04-4D81-98CA-A3501F91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091-0545-418A-B427-E9D5B483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D87-722F-4E13-BCAC-80520A11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CC0-E848-4704-BF37-04AF0A98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0967-F3B8-459A-9FD2-DC02C105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6E50-73FE-4D60-91A2-84DE31E8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F2C0-0BB8-425B-9E39-092DD7A3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B43E-2ADB-4649-BC10-85345A30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B35B-87F8-4186-A99E-EA009A1C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1FCA-F918-4A82-880D-066D9721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D14A-716E-4BAE-BADC-E6FCA41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971-C454-401E-B300-995A8879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393-1400-47A4-A842-EF9201D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2DB3-8800-4281-A01E-CCC0C468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6460-18D1-451B-B5C5-EA182B5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7780-B55C-4F1C-9271-65105C41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9E20-AE3A-4E7C-BC99-B027B60A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09C6-A1CA-4493-A081-18BC45A0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AF723-0C87-4268-B185-EE475ABD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C061C-F7DA-4A64-A65C-0ECB6F51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01DC-9CE5-4AC1-B715-026B6705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23B5-4AA7-4550-BA59-3454B9E4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616-2E6D-4868-A653-D6F1FE7C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002B-931E-4A1A-A011-51D63796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B0545-F16B-4469-B89C-952A852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8032B-447C-493A-9881-695FE8C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47F5-F055-469A-8586-69A2128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2CD4-BC33-4AC4-83C6-517E6010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8575-3971-4A37-BE93-E9A7BE82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8B09B-C518-451F-AE40-4BBCC681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B38E2-025E-4DAE-AA7B-13B7A8FB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5C3C-D7B6-45D2-A6CB-5A402007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F93DB-00B0-4AE0-802E-30401DB3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068-6D26-4628-BD20-F54C6AD6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E8E4-6E11-4CB1-8862-2DC75910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CC64-1F9B-47FE-A609-46BF9B24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A0738-EB55-42A5-B9A2-5213E5A3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64A6A-991E-4358-AE35-BBE4F592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634E-51A4-470F-ABB8-39B0796B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1ABF-FB58-45C7-99AB-8A61CA8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41C3-D09B-4EFC-AEAF-0E00D74B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3FE8-30B1-427E-B82A-E1F3A6DF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0878C-923B-4AE8-81DE-E955300D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2622-34FF-491F-9EAD-C52A063E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63C-9BF6-41CD-ABF1-6F5B8069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71378-55A3-45C2-870F-2A70A315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A505F-8821-464B-8262-6E956733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F6F78-775E-4531-B5A3-5A8960F1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B25EA-EC95-48AF-AF67-B8B488C5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239FD-FBED-4CDC-B976-48912503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64218-2D71-4CF5-98D7-00AB752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FE5DA-945A-4360-8441-294388A9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BAB65-C6EC-4BDB-8F4E-3987EEF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6C954-9D51-44FD-9D06-008F3E4D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A3733-9B18-4670-B389-4EEFF044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FEA-2B12-4BAF-A19C-399F6CBB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0CF89-E5AB-4D82-B663-261F3D91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D750-E4D1-4F9A-A3F4-9AD21CCA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0C54F-49BD-41A0-A8BE-01C2B7E7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83D0B-0D62-47D8-BF7B-2DA0FBA3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8568-BCA4-4E12-BA55-D9CA27DD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EBEEC-339D-4479-AD0A-C1DC94E5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784F3-CABD-4040-9BBD-89DA8E4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F7CD-7FDE-481E-A85E-6431E809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821D0-46E7-4B5E-BBCA-1673E29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9978-1BB4-41F8-AABB-62183161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050-F6BE-4D7C-AF1A-D374A890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FF0F-7E88-4DAA-8A2C-5B08E7AE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5F0A4-BF2C-48CB-AF40-2F6F2C30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80DB9-BAA4-4D13-BD39-90856646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48A96-E8BE-4EBF-A895-2ACE5480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590C1-B793-4E28-B054-836DBB6C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623F1-7B58-40A9-B4D2-5CD1CE15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1622D-9F91-4922-8898-C891ECB1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1139D-991A-448C-83DF-23EEB498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A8E74-6A00-4C2B-B2CE-8508FF0E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AE7BF-39F8-4B45-B1ED-4C5ADF0E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3A2-7992-4E6A-AF5C-B6CCC74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82B7F-8955-48CC-B180-2CCE35C0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BC35F-946A-4C4F-9A03-6764CC22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98D1E-A383-4DEF-BA8B-7A6BB1E8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7B740-3CF7-401F-95A9-7013146D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C0291-1231-44AE-BCD0-425A5FF4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1319E-B786-4878-93B1-9B9BD544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F790E-3C1D-4099-A4B9-D297082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58CAE-BA41-46E3-8009-B5D8E97A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6FEC0-5F04-4B20-9D95-FF1437AF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E1566-8CBF-4A0E-80FB-88A35024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C3D-EBAB-4840-BE33-5766DE52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7B2B0-EF37-4252-90D2-CECBDD40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82168-84DB-446B-9915-9EC51894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DEDF-0964-47BC-AE4C-B181868B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83D6F-1638-4289-A4BF-5C6471D2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CA7D8-2C50-46CF-9048-A0350A3B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8B8C9-BDB1-4A93-AFA1-5514D9FC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0F5F9-0ABF-429C-BF3E-56E12E6D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392C-C35A-46BC-963D-3A0DBCC7F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DSCN8455"/>
          <p:cNvPicPr/>
          <p:nvPr/>
        </p:nvPicPr>
        <p:blipFill>
          <a:blip r:embed="rId2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01AD-CAC6-4426-8B78-D45A7391F7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30BF-D514-46F6-99C2-FA1F2D4E6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DSCN8455"/>
          <p:cNvPicPr/>
          <p:nvPr/>
        </p:nvPicPr>
        <p:blipFill>
          <a:blip r:embed="rId2"/>
          <a:stretch/>
        </p:blipFill>
        <p:spPr>
          <a:xfrm>
            <a:off x="0" y="-3348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CA98-BDFE-438D-B636-EAF7111E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7845-E73B-4D0E-B53B-0389611B9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5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6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74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1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3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6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7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5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7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8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C6FA-13A0-4307-AAE9-4E76DEC612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5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5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6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1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6F84-79F4-4174-9A56-EEF6BB46A1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4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4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5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2AEC-64B0-4293-BF4F-9566D3FE43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8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Division of TRAM Pedicle for Contour Deformity Following Breast Reconstruction; A Case report, and Review of the literature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. Adnan Gelidan MD FRCS(C), FAC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stic Surg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 Operative     Post Opera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5" name="Picture 7" descr="DSCN6403"/>
          <p:cNvPicPr/>
          <p:nvPr/>
        </p:nvPicPr>
        <p:blipFill>
          <a:blip r:embed="rId1"/>
          <a:stretch/>
        </p:blipFill>
        <p:spPr>
          <a:xfrm>
            <a:off x="711360" y="1600200"/>
            <a:ext cx="3375000" cy="4498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8" descr="DSCN7142"/>
          <p:cNvPicPr/>
          <p:nvPr/>
        </p:nvPicPr>
        <p:blipFill>
          <a:blip r:embed="rId2"/>
          <a:stretch/>
        </p:blipFill>
        <p:spPr>
          <a:xfrm>
            <a:off x="5057640" y="1600200"/>
            <a:ext cx="337500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 Operative     Post Opera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8" name="Picture 10" descr="DSCN6404"/>
          <p:cNvPicPr/>
          <p:nvPr/>
        </p:nvPicPr>
        <p:blipFill>
          <a:blip r:embed="rId1"/>
          <a:stretch/>
        </p:blipFill>
        <p:spPr>
          <a:xfrm>
            <a:off x="380880" y="1600200"/>
            <a:ext cx="4114800" cy="49528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2" descr="DSCN7144"/>
          <p:cNvPicPr/>
          <p:nvPr/>
        </p:nvPicPr>
        <p:blipFill>
          <a:blip r:embed="rId2"/>
          <a:stretch/>
        </p:blipFill>
        <p:spPr>
          <a:xfrm>
            <a:off x="4876920" y="1600200"/>
            <a:ext cx="3555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iscuss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bdominal Wall Bulge &amp; Hern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f the commonest complication Of TRAM fl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dominal strength 46%, ↓ Exercise ability 25%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PT&gt;S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Closure &gt; Mesh Clo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orer situp performance in Direct closure Vs Mesh Clo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ive Assessm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estionnai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 Assessm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mpared with a control group, Matched for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, Weight, and He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PRS(1994), Mizgala, Hartrampf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bdominal Wall Bulge &amp; Hern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1 Pt’s, evaluated for hernia, and abdominal bul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ive “ Pt’s complain” Vs Objective ”Muscular testing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nia 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5% Mesh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.5% Direct Clos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 and weakness ↑ in D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nn chir plast sur(1997), Bennet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tour Abnormalit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abnormality occurs in all methods of pedicled TRAM flap elev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1 Pt’s, → Abnormal contour 13P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per abdominal bulge 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er abdominal bulge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igastric fullness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PRS(2002), Nahabedia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view Of Literature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econdary Use Of Rectus Muscle Pedicle For TRAM Flap Volume Deficiency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hape, and volume defici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 Pt’s Underwent TRAM flap breast reconstruction “No Radiotherap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sion 8 Weeks after →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re muscle bulge dissec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orized Neovasculrity Based on the chest wall perforato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ajor complications; Minor ser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ions against this approach in the radiated breast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nn of Plas Sur(1998), Restifo)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ondroplas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article spoke about the use of chondroplasty in correcting chest wall bulge 2ry to TRAM flap breast re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Chondroplasty is good technique for correction o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enital costal margin deformity“93% success rat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int arthroplasty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mal chondroplasty wi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po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polar          Radiofrequency energ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rasion Chondroplas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er Chondroplas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Line 8"/>
          <p:cNvSpPr/>
          <p:nvPr/>
        </p:nvSpPr>
        <p:spPr>
          <a:xfrm>
            <a:off x="3276720" y="4495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Line 9"/>
          <p:cNvSpPr/>
          <p:nvPr/>
        </p:nvSpPr>
        <p:spPr>
          <a:xfrm>
            <a:off x="342900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Line 11"/>
          <p:cNvSpPr/>
          <p:nvPr/>
        </p:nvSpPr>
        <p:spPr>
          <a:xfrm flipH="1">
            <a:off x="327636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pper abdominal contour deformity can be corrected to some extent, by division of the TRAM muscle ped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must be aware of any underlying chest wall deformity, that may lead to an incomplete correct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of the TRAM pedicle appears safe in both the irradiated, and Non – irradiated bre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y be safe in the Non- irradiated breast as early as 8 wee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vided muscle pedicle can be used to improve Contour, and Volume deformities of the breast m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k y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e Repor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3 Y/O, Female, Hyperthyroidis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x to have, Lt breast Invasive Well differentiated ductal carcinoma (Dec.199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M, 3 Sentinel LN Bx (Jan.2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r Margins, All Sentinel LN were – ve For Malign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Op radiotherapy + Chemo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moxif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e Re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ayed Breast reconstruction with Contra-lateral pedicle TRAM flap (March 200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ed to plastic Surgery clinic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t breast Asymmetry, Lt smaller 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ce of IMF medi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ificant Ant. Abdominal wall deform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ge ↑ with Exerci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ly flexing her abdom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ble Rectus Muscle contractio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 - Operativ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1" name="Picture 12" descr="DSCN6403"/>
          <p:cNvPicPr/>
          <p:nvPr/>
        </p:nvPicPr>
        <p:blipFill>
          <a:blip r:embed="rId1"/>
          <a:stretch/>
        </p:blipFill>
        <p:spPr>
          <a:xfrm>
            <a:off x="304920" y="160020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4" descr="DSCN6404"/>
          <p:cNvPicPr/>
          <p:nvPr/>
        </p:nvPicPr>
        <p:blipFill>
          <a:blip r:embed="rId2"/>
          <a:stretch/>
        </p:blipFill>
        <p:spPr>
          <a:xfrm>
            <a:off x="4800600" y="160020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cedure Performed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ious Inferior Incision used for expo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M muscle, Pedicle identifi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Dopplar Signal from the Pedicle Vess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icle Vessel Dissected, Clamp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hange in the Flap perfusion, after 10 min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cedure Performed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bleeding, from skin ed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icle was Divided, with the muscle, which was used to refashion the medial aspect of the bre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ment of the abdominal wall contour, But there was contribution from 6-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ib costall margin, to  ↑ proje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cedur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8" name="Picture 7" descr="DSCN7090"/>
          <p:cNvPicPr/>
          <p:nvPr/>
        </p:nvPicPr>
        <p:blipFill>
          <a:blip r:embed="rId1"/>
          <a:stretch/>
        </p:blipFill>
        <p:spPr>
          <a:xfrm>
            <a:off x="301680" y="2276640"/>
            <a:ext cx="4194000" cy="3144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8" descr="DSCN7091"/>
          <p:cNvPicPr/>
          <p:nvPr/>
        </p:nvPicPr>
        <p:blipFill>
          <a:blip r:embed="rId2"/>
          <a:stretch/>
        </p:blipFill>
        <p:spPr>
          <a:xfrm>
            <a:off x="4648320" y="2276640"/>
            <a:ext cx="4194000" cy="31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st – Op Cours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eventful cou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ap was viable, worm, good capillary fill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harged home on Day 3 Post-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n in the clinic 3 weeks later “Flap was, Viable, with good capillary filling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alpable fat necrosis, or Firm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ture Pl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will have an implant in the Lt breast to match the Rt 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acic Surgery consult → ? Possible Costal Margin Chondropla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03:29:19Z</dcterms:created>
  <dc:creator>faisal</dc:creator>
  <dc:description/>
  <dc:language>en-US</dc:language>
  <cp:lastModifiedBy>B.Shanawani</cp:lastModifiedBy>
  <dcterms:modified xsi:type="dcterms:W3CDTF">2011-09-25T08:41:26Z</dcterms:modified>
  <cp:revision>94</cp:revision>
  <dc:subject/>
  <dc:title>Division Of Pediculed TRAM, as an option for the correction of Abdominal wall defect, post breast reconstruction</dc:title>
</cp:coreProperties>
</file>