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ACF8-9593-4D8C-90DF-A0E8BDF47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8E6F-E093-43FC-BC6D-7852291D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F7B2-B200-4B1B-AD2E-2C481309E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0AAB-0C01-41B0-9ED5-9F0DC7BC7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2ED3-B5FD-4547-B206-72A7B972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BBE4-C94B-4E99-9929-41DB8977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92CD-FB0D-4DBE-ACB0-94D55BAB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77BB-6845-4F73-A67C-D3182F70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72A1-C609-456D-BB7E-FD4AB0AE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4209-8FFC-49E7-A5D3-BE0DCAFF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3A92-FCC8-43CC-9190-BD4E1B38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D796-D719-4AE2-B631-8C84005C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41D0-4E1C-4F09-99C2-0B9CE620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8BA0-7FCF-4C21-8522-DEA35E9A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A9FE-6E2F-4A36-B587-9190647C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4D4B-49EE-4EBA-9421-DF823F6F3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9401-6DD0-4295-A6AE-BBB777B58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EA5BC-2471-4224-9DA5-A7AFB3E9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189E0-F988-445E-9ABC-235AC632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A5A7D-3A69-4D0E-9149-483166EE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BE5AA-FC74-4313-A5BF-620F397F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CDF9A-4955-4770-8EB7-152C9235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5E3D-7542-470A-838D-9B4D4F4F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D0F67-9D07-4B3C-B7B3-43C238CD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6891F-A830-4FE8-9547-B05355DF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931A0-B37A-4B14-B6AB-9440F678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9E484-B9C6-480E-9B58-FE4DC257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A3C59-2226-4484-A14A-D1B07D3E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80C72-5878-4312-BF0E-2267E5B1E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09B36-4B16-471D-8F8E-EC8BD53A1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0E5F4-C051-41D7-B1AD-7A6E1789E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A2F13-386A-451E-BEB6-DC98DA33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21AD7-5D9D-4C37-8893-DA7954BE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99AC-E495-4676-9E5B-D0C5AEA5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6237A-847E-4631-AA30-8559291C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0D150-8E45-4C40-926B-0287D237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93945-3A18-4A03-99CB-81D88B88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7575C-6BF4-4447-BFC2-AA74014C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6D7D5-A383-44C1-8DC1-22D3841C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91E58-4EF3-4398-8953-DB77AA2C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A1F8E-4B8C-47F4-95C0-9376FA6D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7DF29-D27D-4ACB-A77B-F6E51D497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9C77D-76F5-426D-A290-D29E54BC6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B5250-ACAF-4670-8E79-A0716D0C9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07EC-833C-45B9-AD7F-3C5B61A5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83D0B-F9C0-421E-B9EE-5B546932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D5031-5DC0-4917-A8A2-060AEAF6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4F68E-7DE7-43A9-A76E-4E3E14B0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79850-760E-493A-A74A-FEAE3330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0A325-601B-42D0-AFA1-87ACF0C7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44AB4-7314-4146-A8A0-7A724B41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94C4A-4928-4D03-97A5-6B652DA6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C9798-32EA-4F1C-BAB5-9585F774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1B7A6-46B6-4E91-B298-B79C3FFB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490F6-FC1E-40A3-A405-BCF489C9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EC35-D4AE-4DF7-80C8-BE628A33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9671E-FFF4-445C-8FDF-BA2C6B0A7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F0F98-6BD4-42B7-9CB6-76C296BAC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AC41C-D1B6-41BD-821C-F625D9E1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166E9-B563-4127-9711-53CBD42F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49373-F003-4966-8E2A-B3127F92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DA3F3-294E-4303-B10A-5B676826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D9568-98CE-4DE3-BC3F-5AE26E36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BFEA8-01FE-439F-B924-945BDB5B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7837F-15F3-499C-B1AC-36D5BFA9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74774-DA45-4FD8-8B0D-0E2C2BB6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CFF6-7E1A-4873-A0B0-D1268005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033F0-96EC-42C5-B3CF-89AA0C07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184F3-4314-4D6F-B5A9-AE41434B1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5B0C7-2185-48CF-A9F9-E171BF97A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8E57A-D622-4414-ADF7-7974492EB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24C41-B04A-48BD-B4E1-E2084573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41027-C19C-4B3E-855A-9495FE67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76307-6669-4D74-A5F8-EEC45D5F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787F8-097D-43CC-A352-8CA6D2B5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669CB-F962-4754-B171-C4E1B2E5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EDBC1-912C-47DB-BC9A-0F6A4EA0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DE49-16FC-4ABE-85A9-5A65F637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33FA5-6240-4676-B6F0-939C1A93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EF82F-FDB7-4579-B132-CEAAA30D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F39B4-737F-404C-A38D-3763692C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A51A6-F007-4359-BEF3-9E024D6D1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1083F-9457-4620-A4A1-8AEF8705C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EFE34-9FA8-4B54-926E-76BC14972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B621A-A259-4493-BA83-C023B9FE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B286B-C2C1-4618-9F5A-EAB6A406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EA4A6-19B2-4C68-8545-5397B652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A47A6-7C5C-4F62-89E7-D979E57F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4D7C-E459-4249-8CE6-E3E6E62C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B62CB-B638-4E07-A5B0-6666372B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D284A-E991-42E1-BDF2-AAC2E5C1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E3B0C-72BE-4205-AD45-4CDAA6B2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C1A70-78DF-4F6B-94EE-697861EA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AD745-D220-44EF-A999-E83FF8DB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943D7-F09D-4A63-9DBD-630406F89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2F679-1B7F-4668-B448-06D1D725C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2E31-0695-4F25-93E4-AB610B56D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DSCN8455"/>
          <p:cNvPicPr/>
          <p:nvPr/>
        </p:nvPicPr>
        <p:blipFill>
          <a:blip r:embed="rId2"/>
          <a:stretch/>
        </p:blipFill>
        <p:spPr>
          <a:xfrm>
            <a:off x="0" y="-33480"/>
            <a:ext cx="9144000" cy="692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ADFA-FD1E-49A8-9DF7-5B6615BF1A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F822-7FF9-4791-9248-0A04AE577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7" descr="DSCN8455"/>
          <p:cNvPicPr/>
          <p:nvPr/>
        </p:nvPicPr>
        <p:blipFill>
          <a:blip r:embed="rId2"/>
          <a:stretch/>
        </p:blipFill>
        <p:spPr>
          <a:xfrm>
            <a:off x="0" y="-33480"/>
            <a:ext cx="9144000" cy="692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E040-5034-4AC5-BD8C-D387BA7BE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A873-ADA8-4741-BE48-CDDD8D994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59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60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3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5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8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9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2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73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74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5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6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7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8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9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0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1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8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9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0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1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2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3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4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5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6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7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8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9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0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1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2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3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6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7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8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9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0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1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2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3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4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5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6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7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9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0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1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2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3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4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5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6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7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8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9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0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1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2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3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4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5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6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7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8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9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0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1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2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3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4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5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6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7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8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9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0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1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2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3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4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5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6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7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8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9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0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1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2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3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4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5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6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7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8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9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0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1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2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3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4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5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6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7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8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9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0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1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2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3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4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5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6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7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8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9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0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1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2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3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4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5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6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9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0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1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2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5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6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7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8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3055-91EE-4DF9-B562-09ACB783D9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5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5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6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dt" idx="19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B6F2-5FF7-4F79-9726-1F7B500BA4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4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4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5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5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57DD-3C75-41C3-A851-91591C3A5C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88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Division of TRAM Pedicle for Contour Deformity Following Breast Reconstruction; A Case report, and Review of the literature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. Adnan Gelidan MD FRCS(C), FAC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lastic Surge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e Operative     Post Operativ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55" name="Picture 7" descr="DSCN6403"/>
          <p:cNvPicPr/>
          <p:nvPr/>
        </p:nvPicPr>
        <p:blipFill>
          <a:blip r:embed="rId1"/>
          <a:stretch/>
        </p:blipFill>
        <p:spPr>
          <a:xfrm>
            <a:off x="711360" y="1600200"/>
            <a:ext cx="3375000" cy="44989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8" descr="DSCN7142"/>
          <p:cNvPicPr/>
          <p:nvPr/>
        </p:nvPicPr>
        <p:blipFill>
          <a:blip r:embed="rId2"/>
          <a:stretch/>
        </p:blipFill>
        <p:spPr>
          <a:xfrm>
            <a:off x="5057640" y="1600200"/>
            <a:ext cx="3375000" cy="44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e Operative     Post Operativ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58" name="Picture 10" descr="DSCN6404"/>
          <p:cNvPicPr/>
          <p:nvPr/>
        </p:nvPicPr>
        <p:blipFill>
          <a:blip r:embed="rId1"/>
          <a:stretch/>
        </p:blipFill>
        <p:spPr>
          <a:xfrm>
            <a:off x="380880" y="1600200"/>
            <a:ext cx="4114800" cy="49528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2" descr="DSCN7144"/>
          <p:cNvPicPr/>
          <p:nvPr/>
        </p:nvPicPr>
        <p:blipFill>
          <a:blip r:embed="rId2"/>
          <a:stretch/>
        </p:blipFill>
        <p:spPr>
          <a:xfrm>
            <a:off x="4876920" y="1600200"/>
            <a:ext cx="355572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Discussion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bdominal Wall Bulge &amp; Herni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of the commonest complication Of TRAM fl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dominal strength 46%, ↓ Exercise ability 25%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PT&gt;SP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rect Closure &gt; Mesh Clos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orer situp performance in Direct closure Vs Mesh Clos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jective Assessmen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Questionnair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ctive Assessmen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mpared with a control group, Matched for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ge, Weight, and Heigh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PRS(1994), Mizgala, Hartrampf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bdominal Wall Bulge &amp; Herni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1 Pt’s, evaluated for hernia, and abdominal bulg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jective “ Pt’s complain” Vs Objective ”Muscular testing”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rnia r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5% Mesh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9.5% Direct Closur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in and weakness ↑ in DP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Ann chir plast sur(1997), Bennet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tour Abnormality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our abnormality occurs in all methods of pedicled TRAM flap elev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1 Pt’s, → Abnormal contour 13P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pper abdominal bulge 3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er abdominal bulge 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pigastric fullness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PRS(2002), Nahabedian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Review Of Literature 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Secondary Use Of Rectus Muscle Pedicle For TRAM Flap Volume Deficiency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Shape, and volume deficien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3 Pt’s Underwent TRAM flap breast reconstruction “No Radiotherapy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ision 8 Weeks after →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re muscle bulge dissect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orized Neovasculrity Based on the chest wall perforator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major complications; Minor sero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tions against this approach in the radiated breast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Ann of Plas Sur(1998), Restifo)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ondroplas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article spoke about the use of chondroplasty in correcting chest wall bulge 2ry to TRAM flap breast reconstr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 Chondroplasty is good technique for correction of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genital costal margin deformity“93% success rate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oint arthroplasty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rmal chondroplasty wit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ipol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nopolar          Radiofrequency energ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brasion Chondroplas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ser Chondroplas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Line 8"/>
          <p:cNvSpPr/>
          <p:nvPr/>
        </p:nvSpPr>
        <p:spPr>
          <a:xfrm>
            <a:off x="3276720" y="44956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Line 9"/>
          <p:cNvSpPr/>
          <p:nvPr/>
        </p:nvSpPr>
        <p:spPr>
          <a:xfrm>
            <a:off x="3429000" y="44956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Line 11"/>
          <p:cNvSpPr/>
          <p:nvPr/>
        </p:nvSpPr>
        <p:spPr>
          <a:xfrm flipH="1">
            <a:off x="3276360" y="49528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Upper abdominal contour deformity can be corrected to some extent, by division of the TRAM muscle pedi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must be aware of any underlying chest wall deformity, that may lead to an incomplete correction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vision of the TRAM pedicle appears safe in both the irradiated, and Non – irradiated brea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may be safe in the Non- irradiated breast as early as 8 week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ivided muscle pedicle can be used to improve Contour, and Volume deformities of the breast mou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nk yo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se Report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3 Y/O, Female, Hyperthyroidis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x to have, Lt breast Invasive Well differentiated ductal carcinoma (Dec.1999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RM, 3 Sentinel LN Bx (Jan.200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ear Margins, All Sentinel LN were – ve For Maligna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 Op radiotherapy + Chemotherap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moxif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se Re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layed Breast reconstruction with Contra-lateral pedicle TRAM flap (March 200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ented to plastic Surgery clinic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t breast Asymmetry, Lt smaller 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sence of IMF medial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gnificant Ant. Abdominal wall deformit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lge ↑ with Exerci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nly flexing her abdom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sible Rectus Muscle contraction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e - Operative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41" name="Picture 12" descr="DSCN6403"/>
          <p:cNvPicPr/>
          <p:nvPr/>
        </p:nvPicPr>
        <p:blipFill>
          <a:blip r:embed="rId1"/>
          <a:stretch/>
        </p:blipFill>
        <p:spPr>
          <a:xfrm>
            <a:off x="304920" y="1600200"/>
            <a:ext cx="4038480" cy="49528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4" descr="DSCN6404"/>
          <p:cNvPicPr/>
          <p:nvPr/>
        </p:nvPicPr>
        <p:blipFill>
          <a:blip r:embed="rId2"/>
          <a:stretch/>
        </p:blipFill>
        <p:spPr>
          <a:xfrm>
            <a:off x="4800600" y="1600200"/>
            <a:ext cx="403848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cedure Performed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vious Inferior Incision used for expos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M muscle, Pedicle identifi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or Dopplar Signal from the Pedicle Vess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dicle Vessel Dissected, Clamp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change in the Flap perfusion, after 10 min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cedure Performed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bleeding, from skin edg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dicle was Divided, with the muscle, which was used to refashion the medial aspect of the brea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rovement of the abdominal wall contour, But there was contribution from 6-7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rib costall margin, to  ↑ projec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cedure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48" name="Picture 7" descr="DSCN7090"/>
          <p:cNvPicPr/>
          <p:nvPr/>
        </p:nvPicPr>
        <p:blipFill>
          <a:blip r:embed="rId1"/>
          <a:stretch/>
        </p:blipFill>
        <p:spPr>
          <a:xfrm>
            <a:off x="301680" y="2276640"/>
            <a:ext cx="4194000" cy="31446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8" descr="DSCN7091"/>
          <p:cNvPicPr/>
          <p:nvPr/>
        </p:nvPicPr>
        <p:blipFill>
          <a:blip r:embed="rId2"/>
          <a:stretch/>
        </p:blipFill>
        <p:spPr>
          <a:xfrm>
            <a:off x="4648320" y="2276640"/>
            <a:ext cx="4194000" cy="31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st – Op Course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eventful cour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ap was viable, worm, good capillary fill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harged home on Day 3 Post-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en in the clinic 3 weeks later “Flap was, Viable, with good capillary filling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palpable fat necrosis, or Firmnes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uture Pla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t will have an implant in the Lt breast to match the Rt s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oracic Surgery consult → ? Possible Costal Margin Chondroplas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03:29:19Z</dcterms:created>
  <dc:creator>faisal</dc:creator>
  <dc:description/>
  <dc:language>en-US</dc:language>
  <cp:lastModifiedBy>B.Shanawani</cp:lastModifiedBy>
  <dcterms:modified xsi:type="dcterms:W3CDTF">2011-09-25T08:41:26Z</dcterms:modified>
  <cp:revision>94</cp:revision>
  <dc:subject/>
  <dc:title>Division Of Pediculed TRAM, as an option for the correction of Abdominal wall defect, post breast reconstruction</dc:title>
</cp:coreProperties>
</file>