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DDEC-F018-4B59-B0EC-547B1B36E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C63E-F1D9-4E19-A5E6-801F4DBBE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DA03-D25F-42E4-9A1E-2C972EF23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7297-0C43-4042-B515-AA417F552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A560-D80F-4152-BED5-5245CE2FC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3573-6E77-4F4F-9485-BE345BE3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D62C-CFBC-4F08-B1A7-D0EB24115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553B-68A0-4675-9A45-DD455D26F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1576-3382-4715-86BA-D35B9073C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8470-FE44-40C8-A1FE-022E01F2E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9B9E-7AE6-440D-BE7B-351A77981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A57E-2A28-4418-B383-539864299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0C94-56AA-45CD-B0C5-D78C9E272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E8FE-25BE-4649-B163-E33042A60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5EE6-7389-4D1D-A6E1-5B658D755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C71-9F30-424D-AA40-A7E2C89C2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9E9-20BB-4174-97F9-145C3F0AF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BA7C-F64B-4630-9880-7F99763C2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93BA-5766-4C54-BEF6-B37FA3F9B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6D5D-051C-46C6-BAC0-A3FE8FBB2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2A88-9AA8-4A58-9A2B-CD15B2F37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20BD-4AC3-4E6F-899F-BE395FE47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E17C-F5E1-44FB-B7CC-A0B642112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8E98-FBAE-4881-A584-8ECCB0EBA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263B-EC8D-4FB8-9AD8-CB67714BF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00F5-45B5-46B1-A196-4556EE50D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BCA3-05D2-4877-92EA-EE608B3DB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0B36-24EA-49D9-85FB-ED25FB5F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2932-87D9-4D28-8FBC-75E60A021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126F-B72A-4AAE-8761-34584F66E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6DC8-8339-4624-9F65-92F89B9E8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16CF-0D4C-4D33-8882-D21DD728D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7EAF-2610-4B18-BC0C-188586709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B809-F3FF-4AFC-8D9A-39A0BA049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B813-F547-4F7E-935F-68B85A060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44B3-E84D-465E-A043-5172A85DF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026B-FB2F-48B7-A4A0-2B0980A16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CAA-D10D-4AA3-BF77-3A466632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06E-8863-4C32-AF8C-140B1E86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C90-334C-4FF4-9AAC-A30BB7D9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B87-AC05-4388-97AD-B9F2DF5E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1BE2-E211-417D-AC22-AD2D1608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566E-0E10-4B90-8055-A251A190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AB66-7BA6-4B5E-BCFD-F8FA38CC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F1D2-585E-4C1F-A13C-0B1C7AD0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B125-1C91-42B8-8640-1F60B071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31F1-D9AE-4E86-A6F6-26664E75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264C-C306-4F53-9E6B-3A5038B6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189-5A91-4CE0-B39A-3B3E2259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4F31-889D-4637-BA5E-5A9E01D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5CAD-7AE5-4DED-8C33-966714A6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1F97-A811-4EC3-A9BA-B22CB89F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7ACB-40D8-4ED1-9153-D3FF27C7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8DCF-39CF-464B-8F26-2715E5D1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F3A-F8DE-44FC-B2D5-D2C53AA0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1E5-A32D-4B85-ABC0-753B8C24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D09-07AB-4E1B-B918-0DBE9C84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C74-7C5F-4810-B571-EA79C2C7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F95-7619-41CB-BEE2-61F5042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233-6927-4DDE-B501-02CEE9F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AF2-3861-4B5D-B854-025797EC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254E-581A-4759-8CF5-4D06A3E692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F381-130C-4604-97BB-BA28048AE5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dumedia-sciences.com/en/a543-direct-enzyme-linked-immunosorbent-assay-elisa" TargetMode="External"/><Relationship Id="rId2" Type="http://schemas.openxmlformats.org/officeDocument/2006/relationships/hyperlink" Target="http://www.sumanasinc.com/webcontent/animations/content/ELISA.html" TargetMode="External"/><Relationship Id="rId3" Type="http://schemas.openxmlformats.org/officeDocument/2006/relationships/hyperlink" Target="http://www.biology.ualberta.ca/facilities/multimedia/uploads/procedures/elisa-sound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ELISA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560" y="3141720"/>
            <a:ext cx="6248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 Linked Immunosorb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تحاليل المناعية المرتب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3852720" y="3186000"/>
          <a:ext cx="14385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2720" y="3186000"/>
                    <a:ext cx="14385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Picture 3" descr="C:\Documents and Settings\nashwao\My Documents\My Pictures\image004.jpg"/>
          <p:cNvPicPr/>
          <p:nvPr/>
        </p:nvPicPr>
        <p:blipFill>
          <a:blip r:embed="rId3"/>
          <a:stretch/>
        </p:blipFill>
        <p:spPr>
          <a:xfrm>
            <a:off x="1285920" y="428760"/>
            <a:ext cx="6143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0066"/>
                </a:solidFill>
                <a:latin typeface="Arial"/>
              </a:rPr>
              <a:t>طرق تصنيع الأجسام المضادة الخاصة بالتحاليل المناعية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ناك أكثر من طريقة لتصنيع الأجسام المضادة و أحد أكثر هذه الطرق شيوعا لتصنيع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مخصص لجسم ما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و حقن هذا الجسم مرتين متباعدة فترة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أسابيع لأرنب وبعد عدة أسابيع من الحقن يتم سحب دم من الأرنب وعمل طرد مركزي للحصول على السيرم المحتوي على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مطلو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لكن هذا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يسمى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clonal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لأنه ناتج تصنيع عدة خلاي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0066"/>
                </a:solidFill>
                <a:latin typeface="Arial"/>
              </a:rPr>
              <a:t>تابع- طرق تصنيع الأجسام المضادة </a:t>
            </a:r>
            <a:r>
              <a:rPr b="1" lang="ar-SA" sz="4000" spc="-1" strike="noStrike">
                <a:solidFill>
                  <a:srgbClr val="330066"/>
                </a:solidFill>
                <a:latin typeface="Arial"/>
              </a:rPr>
              <a:t>الخاصة بالتحاليل المناعية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ناك طريقة لتصنيع أكثر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تخصصا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oclonal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وهو ناتج تصني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مجموعة خلايا متماثلة تماما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 line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ونحصل على هذه الخلايا بدمج خلية مصنعة للجسم المضاد مع خلية سرطانية لها القدرة على الانقسام الى مالا نها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nashwao\Desktop\ELISA\image009.gif"/>
          <p:cNvPicPr/>
          <p:nvPr/>
        </p:nvPicPr>
        <p:blipFill>
          <a:blip r:embed="rId1"/>
          <a:stretch/>
        </p:blipFill>
        <p:spPr>
          <a:xfrm>
            <a:off x="1357200" y="428760"/>
            <a:ext cx="64296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4883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ما هي تقنية</a:t>
            </a: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ELIS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ذه التقنية تستخدم لقياس تركيز مادة جزيئية مثل الهرمونات والعقاقير في السائل الحيوي كالسيرم . هذه المادة الجزيئية تقاس عن طريق معرفة كمية الأجسام المضاد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تي ارتبطت ب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استخدامات تقنية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ISA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84" name="Organization Chart 6"/>
          <p:cNvGrpSpPr/>
          <p:nvPr/>
        </p:nvGrpSpPr>
        <p:grpSpPr>
          <a:xfrm>
            <a:off x="431640" y="1684440"/>
            <a:ext cx="8208360" cy="4390920"/>
            <a:chOff x="431640" y="1684440"/>
            <a:chExt cx="8208360" cy="4390920"/>
          </a:xfrm>
        </p:grpSpPr>
        <p:cxnSp>
          <p:nvCxnSpPr>
            <p:cNvPr id="185" name="_s2052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532840" y="2442600"/>
              <a:ext cx="878760" cy="287352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2053"/>
            <p:cNvCxnSpPr>
              <a:stCxn id="189" idx="0"/>
              <a:endCxn id="187" idx="2"/>
            </p:cNvCxnSpPr>
            <p:nvPr/>
          </p:nvCxnSpPr>
          <p:spPr>
            <a:xfrm flipV="1">
              <a:off x="4536000" y="3440160"/>
              <a:ext cx="3600" cy="87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54"/>
            <p:cNvCxnSpPr>
              <a:stCxn id="191" idx="0"/>
              <a:endCxn id="187" idx="2"/>
            </p:cNvCxnSpPr>
            <p:nvPr/>
          </p:nvCxnSpPr>
          <p:spPr>
            <a:xfrm flipH="1" flipV="1" rot="5400000">
              <a:off x="2660040" y="2442960"/>
              <a:ext cx="878760" cy="287352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7" name="_s2055"/>
            <p:cNvSpPr/>
            <p:nvPr/>
          </p:nvSpPr>
          <p:spPr>
            <a:xfrm>
              <a:off x="3304440" y="1684440"/>
              <a:ext cx="2462400" cy="1756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استخدامات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LIS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6"/>
            <p:cNvSpPr/>
            <p:nvPr/>
          </p:nvSpPr>
          <p:spPr>
            <a:xfrm>
              <a:off x="431640" y="4318920"/>
              <a:ext cx="2462400" cy="1756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للكشف عن وجو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الأنتيجينات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2057"/>
            <p:cNvSpPr/>
            <p:nvPr/>
          </p:nvSpPr>
          <p:spPr>
            <a:xfrm>
              <a:off x="3304440" y="4318920"/>
              <a:ext cx="2462400" cy="1756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للكشف عن تركيز</a:t>
              </a: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الأجسام المضادة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58"/>
            <p:cNvSpPr/>
            <p:nvPr/>
          </p:nvSpPr>
          <p:spPr>
            <a:xfrm>
              <a:off x="6177600" y="4318920"/>
              <a:ext cx="2462400" cy="1756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في الصناعات الغذائية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تقنية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ISA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990000"/>
                </a:solidFill>
                <a:latin typeface="Arial"/>
              </a:rPr>
              <a:t>تنقسم إلى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قياسات مناعية تنافسي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itive ELIS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قياسات مناعية غير تنافسي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dwich ELI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etitive ELI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في هذه الحالة يتنافس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طلوب قياسه في العينة م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eled Antig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للارتباط بالجسم المضاد وفي هذه الحالة تكون العلاقة عكسية بين كمي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مطلوب قياسه مع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eled Antigen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istamine_fig2"/>
          <p:cNvPicPr/>
          <p:nvPr/>
        </p:nvPicPr>
        <p:blipFill>
          <a:blip r:embed="rId1"/>
          <a:stretch/>
        </p:blipFill>
        <p:spPr>
          <a:xfrm>
            <a:off x="75564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ndwich ELI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هناك حالتي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أ- إما أن يكون المطلوب الكشف ع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وقياس تركيزه في العينة ففي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هذه الحالة يكون طبق  الاليزا مغطى بالجسم المضاد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C:\Documents and Settings\nashwao\Desktop\ELISA\ELISA.png"/>
          <p:cNvPicPr/>
          <p:nvPr/>
        </p:nvPicPr>
        <p:blipFill>
          <a:blip r:embed="rId1"/>
          <a:stretch/>
        </p:blipFill>
        <p:spPr>
          <a:xfrm>
            <a:off x="357120" y="3546360"/>
            <a:ext cx="37148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تعريفات عامة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</a:rPr>
              <a:t>ما هي الأجسام المضادة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nti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هي مركبات موجودة ضمن الجهاز المناعي للجسم وتصنع بشكل خاص عند تعرض الجسم لأجسام غري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Documents and Settings\nashwao\Desktop\ELISA\antibody.gif"/>
          <p:cNvPicPr/>
          <p:nvPr/>
        </p:nvPicPr>
        <p:blipFill>
          <a:blip r:embed="rId1"/>
          <a:stretch/>
        </p:blipFill>
        <p:spPr>
          <a:xfrm>
            <a:off x="1000080" y="3643200"/>
            <a:ext cx="33577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رتب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عينة مع الجسم المضاد وبعد ذلك يرتبط الجسم المضاد بجسم مضاد آخر ويكون الجسم المضاد الآخر مرتبط بإنزيم ثم تضاف المادة الأساس للإنزيم ويتم حساب كم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 طريق قياس كمية ناتج التفاع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elisa[1]"/>
          <p:cNvPicPr/>
          <p:nvPr/>
        </p:nvPicPr>
        <p:blipFill>
          <a:blip r:embed="rId1"/>
          <a:stretch/>
        </p:blipFill>
        <p:spPr>
          <a:xfrm>
            <a:off x="468360" y="1557360"/>
            <a:ext cx="80596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ب- الحالة الثانية أن يكون المطلب الكشف ع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وقياس تركيزه في العينة فف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هذه الحالة يكون طبق  الاليزا مغطى 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رتب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عينة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وجود في الطبق وبعد ذلك يرتبط الجسم المضاد بجسم مضاد آخر ويكون الجسم المضاد الآخر مرتبط بإنزيم ثم تضاف المادة الأساس للإنزيم ويتم حساب كم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 طريق قياس كمية ناتج التفاع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elisa3[1]"/>
          <p:cNvPicPr/>
          <p:nvPr/>
        </p:nvPicPr>
        <p:blipFill>
          <a:blip r:embed="rId1"/>
          <a:srcRect l="0" t="10150" r="0" b="34788"/>
          <a:stretch/>
        </p:blipFill>
        <p:spPr>
          <a:xfrm>
            <a:off x="900000" y="1714680"/>
            <a:ext cx="7272360" cy="2714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elisa3[1]"/>
          <p:cNvPicPr/>
          <p:nvPr/>
        </p:nvPicPr>
        <p:blipFill>
          <a:blip r:embed="rId2"/>
          <a:srcRect l="0" t="65031" r="17222" b="0"/>
          <a:stretch/>
        </p:blipFill>
        <p:spPr>
          <a:xfrm>
            <a:off x="1643040" y="4500720"/>
            <a:ext cx="601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0066"/>
                </a:solidFill>
                <a:latin typeface="Arial"/>
              </a:rPr>
              <a:t>مثال على طريقة عمل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Sandwich ELISA</a:t>
            </a: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قبل الشروع في العمل يجب قراءة التعليمات بدقة شديدة لأن أي خطأ  قد يؤدي الى فساد التجربة وخسارة قيمة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Kit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 وهي مكلفة ج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نستخدم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t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(مجموعة المحاليل المستخدمة في التحاليل المناعية ) حيث أن لكل جسم مطلوب الكشف عنه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t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مخصو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74134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تابع- </a:t>
            </a:r>
            <a:r>
              <a:rPr b="1" lang="ar-SA" sz="4000" spc="-1" strike="noStrike">
                <a:solidFill>
                  <a:srgbClr val="330066"/>
                </a:solidFill>
                <a:latin typeface="Arial"/>
              </a:rPr>
              <a:t>مثال على طريقة عمل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Sandwich ELISA</a:t>
            </a:r>
            <a:r>
              <a:rPr b="1" lang="ar-SA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1</a:t>
            </a:r>
            <a:r>
              <a:rPr b="0" lang="ar-SA" sz="3600" spc="-1" strike="noStrike">
                <a:solidFill>
                  <a:srgbClr val="cc66ff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يتم ترقيم الطبق الخاص المكون من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خانة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ls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) بدقة وتستخدم الخانا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ls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أولى لرسم المنحنى القياسي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curve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C:\Documents and Settings\nashwao\Desktop\ELISA\images.jpg"/>
          <p:cNvPicPr/>
          <p:nvPr/>
        </p:nvPicPr>
        <p:blipFill>
          <a:blip r:embed="rId1"/>
          <a:stretch/>
        </p:blipFill>
        <p:spPr>
          <a:xfrm>
            <a:off x="2714760" y="4143240"/>
            <a:ext cx="32144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286840" cy="17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تابع- مثال على طريقة عمل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andwich ELISA</a:t>
            </a:r>
            <a:r>
              <a:rPr b="1" lang="ar-SA" sz="5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14200" y="2000160"/>
            <a:ext cx="851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3600" spc="-1" strike="noStrike">
                <a:solidFill>
                  <a:srgbClr val="cc66ff"/>
                </a:solidFill>
                <a:latin typeface="Arial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ثم يتم وضع العينة المراد فحصها في الطبق ويفضل تكرار كل عينة مرتين أو ثلاث مرا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plicate or Tripli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بعد ظهور النتائج يؤخذ المتوس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66ff"/>
                </a:solidFill>
                <a:latin typeface="Arial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تستخدم عينة ضابطة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lity control samp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وهذه العينة تأتي مع مجموعة المحالي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t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) وهي ذات تركيز محدد من قبل الشركة المصنعة وتعامل تماما مثل العينة المفحوص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28760" y="19998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66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ترك العينات لفترة زمنية محددة حتى يلتص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الطبق بعد ذلك يغسل الطبق لإزالة ما تبقى من الع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cc66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تم اضافة محلول يحتوي على أجسام مضادة للبروتين المطلوب الكشف عنه وهذه الأجسام تسمى الأجسام المضادة الأول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357200" y="428760"/>
            <a:ext cx="6072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تابع- مثال على طريقة عمل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andwich ELISA</a:t>
            </a: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66ff"/>
                </a:solidFill>
                <a:latin typeface="Arial"/>
              </a:rPr>
              <a:t>6</a:t>
            </a:r>
            <a:r>
              <a:rPr b="0" lang="ar-SA" sz="3600" spc="-1" strike="noStrike">
                <a:solidFill>
                  <a:srgbClr val="cc66ff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تتم اضافة أجسام مضادة ثاني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Antibodies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للأجسام المضادة الأولي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ary Antibodies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هذه يمكنها الارتباط بالطبق فقط في حال ارتباط الأجسام المضادة الأولية بالعينة (هذه الأجسام المضادة الثانية يرتبط بها انزيم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dwich ELI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482040" y="428760"/>
            <a:ext cx="818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تابع- مثال على طريقة عم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andwich ELISA</a:t>
            </a:r>
            <a:r>
              <a:rPr b="1" lang="ar-SA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66ff"/>
                </a:solidFill>
                <a:latin typeface="Arial"/>
              </a:rPr>
              <a:t>7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م اضافة المادة الأساس للإنزيم المرتبط بالأجسام المضادة الثانية فيقوم الإنزيم بتحويل المادة الأساس الى ناتج مل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66ff"/>
                </a:solidFill>
                <a:latin typeface="Arial"/>
              </a:rPr>
              <a:t>8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سب كمية ناتج التفاعل ضوئيا باستخدام جهاز الحاسو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كون ك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اتج التفاعل متناسبة طرديا مع كم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ع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24920" y="571680"/>
            <a:ext cx="818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تابع- مثال على طريقة عم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andwich ELISA</a:t>
            </a: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0066"/>
                </a:solidFill>
                <a:latin typeface="Arial"/>
              </a:rPr>
              <a:t>تابع- تعريفات عام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8568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و جسم مسؤول عن اثارة الجهاز المناعي للجسم وبالتحديد اثارة الأجسام المض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00"/>
                </a:solidFill>
                <a:latin typeface="Arial"/>
              </a:rPr>
              <a:t>التحاليل المناعية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اختبارات بيوكيميائية لقياس مستوى مادة معينة في السائل الحيوي (سيرم, بول,لعاب, دموع) بواسطة ارتبا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خصص 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elisa-plate[1]"/>
          <p:cNvPicPr/>
          <p:nvPr/>
        </p:nvPicPr>
        <p:blipFill>
          <a:blip r:embed="rId1"/>
          <a:stretch/>
        </p:blipFill>
        <p:spPr>
          <a:xfrm>
            <a:off x="900000" y="1916280"/>
            <a:ext cx="72010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النتائج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بعد قراءة نتائج الامتصاص في جهاز قارئ الاليزا نقوم برسم المنحنى القياسي على ورق الرسم البياني بحيث نستخدم المحور السيني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-axis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للتركي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nt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والمحور الصادي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-ax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للامتصا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orp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5"/>
          <p:cNvCxnSpPr/>
          <p:nvPr/>
        </p:nvCxnSpPr>
        <p:spPr>
          <a:xfrm>
            <a:off x="3000240" y="5857920"/>
            <a:ext cx="350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Straight Arrow Connector 9"/>
          <p:cNvCxnSpPr/>
          <p:nvPr/>
        </p:nvCxnSpPr>
        <p:spPr>
          <a:xfrm flipV="1">
            <a:off x="2998800" y="4001400"/>
            <a:ext cx="2160" cy="18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TextBox 16"/>
          <p:cNvSpPr/>
          <p:nvPr/>
        </p:nvSpPr>
        <p:spPr>
          <a:xfrm>
            <a:off x="1571760" y="4357800"/>
            <a:ext cx="13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ption 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7"/>
          <p:cNvSpPr/>
          <p:nvPr/>
        </p:nvSpPr>
        <p:spPr>
          <a:xfrm>
            <a:off x="4228920" y="600084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n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تابع-النتائج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نقوم بتحديد تركيزات المحاليل القياسي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s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على المنحنى السيني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-ax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ثم نحدد قراءة كل محلول قياسي على المنحنى الصادي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-ax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ونرسم المنحنى القياس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Documents and Settings\nashwao\Desktop\ELISA\maxline_28_8.jpg"/>
          <p:cNvPicPr/>
          <p:nvPr/>
        </p:nvPicPr>
        <p:blipFill>
          <a:blip r:embed="rId1"/>
          <a:stretch/>
        </p:blipFill>
        <p:spPr>
          <a:xfrm>
            <a:off x="571680" y="1143000"/>
            <a:ext cx="7358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تابع-النتائج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8760" y="18568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يستخدم هذا المنحنى لقياس تركيز كل عينة بحيث نأتي عند قراءة الامتصاص على المحور الصادي ونحدد  النقطة المقابلة لها على المنحنى وبعد ذلك نحدد  التركيز على المنحنى السين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4"/>
          <p:cNvCxnSpPr/>
          <p:nvPr/>
        </p:nvCxnSpPr>
        <p:spPr>
          <a:xfrm>
            <a:off x="2786040" y="5643720"/>
            <a:ext cx="285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Straight Arrow Connector 6"/>
          <p:cNvCxnSpPr/>
          <p:nvPr/>
        </p:nvCxnSpPr>
        <p:spPr>
          <a:xfrm flipV="1">
            <a:off x="2714760" y="3857040"/>
            <a:ext cx="2160" cy="178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Straight Connector 9"/>
          <p:cNvSpPr/>
          <p:nvPr/>
        </p:nvSpPr>
        <p:spPr>
          <a:xfrm>
            <a:off x="2786040" y="4429080"/>
            <a:ext cx="357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14"/>
          <p:cNvSpPr/>
          <p:nvPr/>
        </p:nvSpPr>
        <p:spPr>
          <a:xfrm flipV="1">
            <a:off x="2714760" y="4285800"/>
            <a:ext cx="1857240" cy="13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16"/>
          <p:cNvSpPr/>
          <p:nvPr/>
        </p:nvSpPr>
        <p:spPr>
          <a:xfrm>
            <a:off x="3286080" y="442908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9"/>
          <p:cNvSpPr/>
          <p:nvPr/>
        </p:nvSpPr>
        <p:spPr>
          <a:xfrm>
            <a:off x="3857760" y="4429080"/>
            <a:ext cx="500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21"/>
          <p:cNvSpPr/>
          <p:nvPr/>
        </p:nvSpPr>
        <p:spPr>
          <a:xfrm flipH="1">
            <a:off x="4357800" y="450072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3"/>
          <p:cNvSpPr/>
          <p:nvPr/>
        </p:nvSpPr>
        <p:spPr>
          <a:xfrm flipH="1">
            <a:off x="4355640" y="535788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6"/>
          <p:cNvSpPr/>
          <p:nvPr/>
        </p:nvSpPr>
        <p:spPr>
          <a:xfrm flipH="1">
            <a:off x="4355640" y="500220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6"/>
          <p:cNvSpPr/>
          <p:nvPr/>
        </p:nvSpPr>
        <p:spPr>
          <a:xfrm>
            <a:off x="1214280" y="4286160"/>
            <a:ext cx="13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ption 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3371760" y="571500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n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تابع-النتائج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نحسب تركيز العينة الضابطة من المنحنى وإذا كان في الحدود الطبيعية المحددة من الشركة المصنعة فهذا يعني أن التجربة ناجحة ويمكن اعتماد النتائج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edumedia-sciences.com/en/a543-direct-enzyme-linked-immunosorbent-assay-eli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sumanasinc.com/webcontent/animations/content/ELISA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biology.ualberta.ca/facilities/multimedia/uploads/procedures/elisa-sound.sw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1571760" y="571680"/>
            <a:ext cx="48574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lated web sit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nashwao\Desktop\ELISA\antigen_antibody 1.gif"/>
          <p:cNvPicPr/>
          <p:nvPr/>
        </p:nvPicPr>
        <p:blipFill>
          <a:blip r:embed="rId1"/>
          <a:stretch/>
        </p:blipFill>
        <p:spPr>
          <a:xfrm>
            <a:off x="1785960" y="928800"/>
            <a:ext cx="56437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0066"/>
                </a:solidFill>
                <a:latin typeface="Arial"/>
              </a:rPr>
              <a:t>تابع- تعريفات عامة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nal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المادة الحيوكيميائية التي يتم قياسها وفي التحاليل المناعية يكو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إما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حالات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ntig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</a:rPr>
              <a:t>يكون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ntigen</a:t>
            </a:r>
            <a:r>
              <a:rPr b="0" lang="ar-SA" sz="3600" spc="-1" strike="noStrike">
                <a:solidFill>
                  <a:srgbClr val="990000"/>
                </a:solidFill>
                <a:latin typeface="Arial"/>
              </a:rPr>
              <a:t> إما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وجود في الجسم بشكل طبيعي مثل الهرمون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تم تصنيعه في الجسم في حالات مرضية مثال: هرمو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ذي يفرز من المشيمة بشكل طبيعي أثناء الحمل يمكن افرازه في بعض أنواع السرطانات حتى عند الرج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غير موجود في الأحوال العادية مثل المخدر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مقدمة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 rtl="1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تم تصنيع الأجسام المضاد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ies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في حال التعرض لأجسام غريب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s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تكون هذه الأجسام المضادة ذات تخصصية وألف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Affinit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للأجسام الغريبة التي أثارت تصنيعها مثل البروتينات والسكريات العديدة و الأحماض النو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Documents and Settings\nashwao\Desktop\ELISA\Antigen_Antibody.gif"/>
          <p:cNvPicPr/>
          <p:nvPr/>
        </p:nvPicPr>
        <p:blipFill>
          <a:blip r:embed="rId1"/>
          <a:stretch/>
        </p:blipFill>
        <p:spPr>
          <a:xfrm>
            <a:off x="1000080" y="1785960"/>
            <a:ext cx="65721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تابع- مقدمة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تعرف الأجسام المضادة على الجز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ic determina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حتوي الجسم على خلايا مصنعة للأجسام المض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8:48:45Z</dcterms:created>
  <dc:creator>DOMAIN</dc:creator>
  <dc:description/>
  <dc:language>en-US</dc:language>
  <cp:lastModifiedBy>pc</cp:lastModifiedBy>
  <dcterms:modified xsi:type="dcterms:W3CDTF">2011-11-28T08:45:07Z</dcterms:modified>
  <cp:revision>52</cp:revision>
  <dc:subject/>
  <dc:title>ELISA جها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