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7B7E9-0236-477B-87DB-27AB69045F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4829A-6C65-49FA-A975-7028E60AB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16932-C98F-4DFC-B91D-998B5B2C1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8CFB6-B429-4C9E-9B02-BF3740B1B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3690E-A9CA-4CD5-ADF5-32333FA5A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5BECA-D394-492A-8379-41CDBA105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DA8AC-6CD9-45BD-B865-4C60361FE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CD91B-B1AA-472D-B625-C0D5D34E1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8ADE9-AF81-4E1F-B2D0-631E80292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AE955-07AC-41C1-91BF-6B424DB0D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14C12-93B6-4E77-9578-9E6281D77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E08E7-E778-494D-A84D-FCE98F56B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F5770-C161-4827-AD4F-2800CEFB1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00209-F154-41E7-8649-820F9C761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A62F-3910-4E9A-BE92-D48E807FC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71C9C-C7DD-4170-BE77-E90CE9041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5BFBD-616D-41E9-8ADD-F2042E143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02F5F-440C-438B-AB83-A1C4265E4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73F6D-AF20-498B-B5F2-D12E694E4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E25BC-E1D1-4AD4-833B-EF316E79F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BD7F8-CA0D-455A-952D-14643FCD8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A3FB1-BB0E-476B-A4D1-D3951EEF0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EF977-10B3-43D9-B0D1-A7B1CAAAD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2CC46-79B7-460A-B2B6-C0D68DD9D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661FE-3F74-4144-87D4-2CAE75210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6F498-586E-40A9-9B1D-805AD09C9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55763-1145-4A3A-923D-0E33C7663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C54B0-031C-4E92-8282-4C04D7853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4D6E4-FF46-4E92-88E8-ABE493F9A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20C4A-8A45-4B41-8D10-4F1C4D695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1C01-1F6E-4F15-845B-4910186C3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162E-7E86-4090-95D9-6893D482C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F3B54-7313-477F-8A38-29E0DF4E5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8CB59-6FA1-4767-BF7A-A2EBF517B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5AB9E-91C4-4039-9ADA-87833F2DE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787EA-86CE-4138-B07B-1DE96A045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A79A1-B08E-4629-8210-8477CEC06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DA7D-4A80-498B-A444-4F526C5B3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5046-831D-4FA6-B205-CF6AEDFFF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0B69-397A-44A8-8C5C-FC299BE2A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01DC-6F6F-4653-A579-D262709E0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A7999-0AEC-4B61-8E68-410FC0D83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5D54B-E6F9-4A62-85EB-456577599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B2521-13C5-4B40-88D7-AF153F945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DDE0F-EB34-4A86-8438-208F85A44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D0BBB-19B2-4C08-A8B1-D8C6B17BC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C863A-E560-4609-8BFC-A37B2F376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48E70-465A-468B-8ABF-F8D7DDD6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76BD-3221-46FA-9BDD-67F1D0564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EFA13-BF50-421F-A2EB-E4B1816B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E78A5-1540-4F36-ACAA-AB848A89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1AA18-2D5E-4409-B5FF-D515AD772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17A17-24F8-41E1-A9E6-6663ACE1F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D4D17-7BEE-42E1-B26A-FB02CA099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8804-8A71-4BFF-AF50-43BA19F6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C880-8111-441F-BE20-89D4A063C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A8E8-02E5-4CB3-8566-F528C1AB1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35CB-0003-4E74-B542-03C7C372A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6183-2829-408E-ACA3-0966CD14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7F52-4BFE-415B-8976-76E25519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32E7-84F6-4642-8BF5-CCEBFD84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78AE7-29B4-4431-BD9B-2B27CD05943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9B94F-FD94-4D42-A06D-903B5D5E63E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edumedia-sciences.com/en/a543-direct-enzyme-linked-immunosorbent-assay-elisa" TargetMode="External"/><Relationship Id="rId2" Type="http://schemas.openxmlformats.org/officeDocument/2006/relationships/hyperlink" Target="http://www.sumanasinc.com/webcontent/animations/content/ELISA.html" TargetMode="External"/><Relationship Id="rId3" Type="http://schemas.openxmlformats.org/officeDocument/2006/relationships/hyperlink" Target="http://www.biology.ualberta.ca/facilities/multimedia/uploads/procedures/elisa-sound.swf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ELISA</a:t>
            </a:r>
            <a:br>
              <a:rPr sz="4800"/>
            </a:b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26560" y="3141720"/>
            <a:ext cx="624852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zyme Linked Immunosorb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التحاليل المناعية المرتبط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Object 2"/>
          <p:cNvGraphicFramePr/>
          <p:nvPr/>
        </p:nvGraphicFramePr>
        <p:xfrm>
          <a:off x="3852720" y="3186000"/>
          <a:ext cx="1438560" cy="4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2720" y="3186000"/>
                    <a:ext cx="143856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5" name="Picture 3" descr="C:\Documents and Settings\nashwao\My Documents\My Pictures\image004.jpg"/>
          <p:cNvPicPr/>
          <p:nvPr/>
        </p:nvPicPr>
        <p:blipFill>
          <a:blip r:embed="rId3"/>
          <a:stretch/>
        </p:blipFill>
        <p:spPr>
          <a:xfrm>
            <a:off x="1285920" y="428760"/>
            <a:ext cx="614376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0066"/>
                </a:solidFill>
                <a:latin typeface="Arial"/>
              </a:rPr>
              <a:t>طرق تصنيع الأجسام المضادة الخاصة بالتحاليل المناعية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هناك أكثر من طريقة لتصنيع الأجسام المضادة و أحد أكثر هذه الطرق شيوعا لتصنيع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tibody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مخصص لجسم ما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tige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هو حقن هذا الجسم مرتين متباعدة فترة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أسابيع لأرنب وبعد عدة أسابيع من الحقن يتم سحب دم من الأرنب وعمل طرد مركزي للحصول على السيرم المحتوي على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tibody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المطلو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ولكن هذا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tibody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يسمى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lyclonal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لأنه ناتج تصنيع عدة خلاي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0066"/>
                </a:solidFill>
                <a:latin typeface="Arial"/>
              </a:rPr>
              <a:t>تابع- طرق تصنيع الأجسام المضادة </a:t>
            </a:r>
            <a:r>
              <a:rPr b="1" lang="ar-SA" sz="4000" spc="-1" strike="noStrike">
                <a:solidFill>
                  <a:srgbClr val="330066"/>
                </a:solidFill>
                <a:latin typeface="Arial"/>
              </a:rPr>
              <a:t>الخاصة بالتحاليل المناعية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هناك طريقة لتصنيع أكثر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tibody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تخصصا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noclonal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وهو ناتج تصنيع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مجموعة خلايا متماثلة تماما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ll line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ونحصل على هذه الخلايا بدمج خلية مصنعة للجسم المضاد مع خلية سرطانية لها القدرة على الانقسام الى مالا نها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C:\Documents and Settings\nashwao\Desktop\ELISA\image009.gif"/>
          <p:cNvPicPr/>
          <p:nvPr/>
        </p:nvPicPr>
        <p:blipFill>
          <a:blip r:embed="rId1"/>
          <a:stretch/>
        </p:blipFill>
        <p:spPr>
          <a:xfrm>
            <a:off x="1357200" y="428760"/>
            <a:ext cx="642960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748836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330066"/>
                </a:solidFill>
                <a:latin typeface="Arial"/>
              </a:rPr>
              <a:t>ما هي تقنية</a:t>
            </a:r>
            <a:r>
              <a:rPr b="1" lang="ar-SA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ELISA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هذه التقنية تستخدم لقياس تركيز مادة جزيئية مثل الهرمونات والعقاقير في السائل الحيوي كالسيرم . هذه المادة الجزيئية تقاس عن طريق معرفة كمية الأجسام المضادة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tibody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التي ارتبطت ب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ti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900" spc="-1" strike="noStrike">
                <a:solidFill>
                  <a:srgbClr val="330066"/>
                </a:solidFill>
                <a:latin typeface="Arial"/>
              </a:rPr>
              <a:t>استخدامات تقنية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ISA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ar-SA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84" name="Organization Chart 6"/>
          <p:cNvGrpSpPr/>
          <p:nvPr/>
        </p:nvGrpSpPr>
        <p:grpSpPr>
          <a:xfrm>
            <a:off x="431640" y="1684440"/>
            <a:ext cx="8208360" cy="4390920"/>
            <a:chOff x="431640" y="1684440"/>
            <a:chExt cx="8208360" cy="4390920"/>
          </a:xfrm>
        </p:grpSpPr>
        <p:cxnSp>
          <p:nvCxnSpPr>
            <p:cNvPr id="185" name="_s2052"/>
            <p:cNvCxnSpPr>
              <a:stCxn id="186" idx="0"/>
              <a:endCxn id="187" idx="2"/>
            </p:cNvCxnSpPr>
            <p:nvPr/>
          </p:nvCxnSpPr>
          <p:spPr>
            <a:xfrm flipV="1" rot="16200000">
              <a:off x="5532840" y="2442600"/>
              <a:ext cx="878760" cy="2873520"/>
            </a:xfrm>
            <a:prstGeom prst="bentConnector3">
              <a:avLst>
                <a:gd name="adj1" fmla="val 129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8" name="_s2053"/>
            <p:cNvCxnSpPr>
              <a:stCxn id="189" idx="0"/>
              <a:endCxn id="187" idx="2"/>
            </p:cNvCxnSpPr>
            <p:nvPr/>
          </p:nvCxnSpPr>
          <p:spPr>
            <a:xfrm flipV="1">
              <a:off x="4536000" y="3440160"/>
              <a:ext cx="3600" cy="878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0" name="_s2054"/>
            <p:cNvCxnSpPr>
              <a:stCxn id="191" idx="0"/>
              <a:endCxn id="187" idx="2"/>
            </p:cNvCxnSpPr>
            <p:nvPr/>
          </p:nvCxnSpPr>
          <p:spPr>
            <a:xfrm flipH="1" flipV="1" rot="5400000">
              <a:off x="2660040" y="2442960"/>
              <a:ext cx="878760" cy="2873520"/>
            </a:xfrm>
            <a:prstGeom prst="bentConnector3">
              <a:avLst>
                <a:gd name="adj1" fmla="val 129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7" name="_s2055"/>
            <p:cNvSpPr/>
            <p:nvPr/>
          </p:nvSpPr>
          <p:spPr>
            <a:xfrm>
              <a:off x="3304440" y="1684440"/>
              <a:ext cx="2462400" cy="175644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100" spc="-1" strike="noStrike">
                  <a:solidFill>
                    <a:srgbClr val="000000"/>
                  </a:solidFill>
                  <a:latin typeface="Arial"/>
                </a:rPr>
                <a:t>استخدامات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ELIS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2056"/>
            <p:cNvSpPr/>
            <p:nvPr/>
          </p:nvSpPr>
          <p:spPr>
            <a:xfrm>
              <a:off x="431640" y="4318920"/>
              <a:ext cx="2462400" cy="175644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100" spc="-1" strike="noStrike">
                  <a:solidFill>
                    <a:srgbClr val="000000"/>
                  </a:solidFill>
                  <a:latin typeface="Arial"/>
                </a:rPr>
                <a:t>للكشف عن وجود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100" spc="-1" strike="noStrike">
                  <a:solidFill>
                    <a:srgbClr val="000000"/>
                  </a:solidFill>
                  <a:latin typeface="Arial"/>
                </a:rPr>
                <a:t>الأنتيجينات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2057"/>
            <p:cNvSpPr/>
            <p:nvPr/>
          </p:nvSpPr>
          <p:spPr>
            <a:xfrm>
              <a:off x="3304440" y="4318920"/>
              <a:ext cx="2462400" cy="175644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100" spc="-1" strike="noStrike">
                  <a:solidFill>
                    <a:srgbClr val="000000"/>
                  </a:solidFill>
                  <a:latin typeface="Arial"/>
                </a:rPr>
                <a:t>للكشف عن تركيز</a:t>
              </a:r>
              <a:r>
                <a:rPr b="0" lang="ar-SA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100" spc="-1" strike="noStrike">
                  <a:solidFill>
                    <a:srgbClr val="000000"/>
                  </a:solidFill>
                  <a:latin typeface="Arial"/>
                </a:rPr>
                <a:t>الأجسام المضادة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2058"/>
            <p:cNvSpPr/>
            <p:nvPr/>
          </p:nvSpPr>
          <p:spPr>
            <a:xfrm>
              <a:off x="6177600" y="4318920"/>
              <a:ext cx="2462400" cy="175644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100" spc="-1" strike="noStrike">
                  <a:solidFill>
                    <a:srgbClr val="000000"/>
                  </a:solidFill>
                  <a:latin typeface="Arial"/>
                </a:rPr>
                <a:t>في الصناعات الغذائية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900" spc="-1" strike="noStrike">
                <a:solidFill>
                  <a:srgbClr val="330066"/>
                </a:solidFill>
                <a:latin typeface="Arial"/>
              </a:rPr>
              <a:t>تقنية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 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ISA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ar-SA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990000"/>
                </a:solidFill>
                <a:latin typeface="Arial"/>
              </a:rPr>
              <a:t>تنقسم إلى</a:t>
            </a: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- قياسات مناعية تنافسية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etitive ELIS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- قياسات مناعية غير تنافسية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ndwich ELI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mpetitive ELIS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في هذه الحالة يتنافس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tigen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المطلوب قياسه في العينة مع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eled Antige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للارتباط بالجسم المضاد وفي هذه الحالة تكون العلاقة عكسية بين كمية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tigen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المطلوب قياسه مع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eled Antigen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histamine_fig2"/>
          <p:cNvPicPr/>
          <p:nvPr/>
        </p:nvPicPr>
        <p:blipFill>
          <a:blip r:embed="rId1"/>
          <a:stretch/>
        </p:blipFill>
        <p:spPr>
          <a:xfrm>
            <a:off x="755640" y="1844640"/>
            <a:ext cx="73454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andwich ELIS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8584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هناك حالتين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أ- إما أن يكون المطلوب الكشف عن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gen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  وقياس تركيزه في العينة ففي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هذه الحالة يكون طبق  الاليزا مغطى بالجسم المضاد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tibody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5" descr="C:\Documents and Settings\nashwao\Desktop\ELISA\ELISA.png"/>
          <p:cNvPicPr/>
          <p:nvPr/>
        </p:nvPicPr>
        <p:blipFill>
          <a:blip r:embed="rId1"/>
          <a:stretch/>
        </p:blipFill>
        <p:spPr>
          <a:xfrm>
            <a:off x="357120" y="3546360"/>
            <a:ext cx="371484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330066"/>
                </a:solidFill>
                <a:latin typeface="Arial"/>
              </a:rPr>
              <a:t>تعريفات عامة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90000"/>
                </a:solidFill>
                <a:latin typeface="Arial"/>
              </a:rPr>
              <a:t>ما هي الأجسام المضادة </a:t>
            </a: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Antibo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هي مركبات موجودة ضمن الجهاز المناعي للجسم وتصنع بشكل خاص عند تعرض الجسم لأجسام غريب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C:\Documents and Settings\nashwao\Desktop\ELISA\antibody.gif"/>
          <p:cNvPicPr/>
          <p:nvPr/>
        </p:nvPicPr>
        <p:blipFill>
          <a:blip r:embed="rId1"/>
          <a:stretch/>
        </p:blipFill>
        <p:spPr>
          <a:xfrm>
            <a:off x="1000080" y="3643200"/>
            <a:ext cx="33577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رتبط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gen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في العينة مع الجسم المضاد وبعد ذلك يرتبط الجسم المضاد بجسم مضاد آخر ويكون الجسم المضاد الآخر مرتبط بإنزيم ثم تضاف المادة الأساس للإنزيم ويتم حساب كمي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gen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عن طريق قياس كمية ناتج التفاع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elisa[1]"/>
          <p:cNvPicPr/>
          <p:nvPr/>
        </p:nvPicPr>
        <p:blipFill>
          <a:blip r:embed="rId1"/>
          <a:stretch/>
        </p:blipFill>
        <p:spPr>
          <a:xfrm>
            <a:off x="468360" y="1557360"/>
            <a:ext cx="8059680" cy="45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ب- الحالة الثانية أن يكون المطلب الكشف عن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body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 وقياس تركيزه في العينة ففي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هذه الحالة يكون طبق  الاليزا مغطى 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gen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رتبط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body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في العينة م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gen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الموجود في الطبق وبعد ذلك يرتبط الجسم المضاد بجسم مضاد آخر ويكون الجسم المضاد الآخر مرتبط بإنزيم ثم تضاف المادة الأساس للإنزيم ويتم حساب كمي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bod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عن طريق قياس كمية ناتج التفاع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elisa3[1]"/>
          <p:cNvPicPr/>
          <p:nvPr/>
        </p:nvPicPr>
        <p:blipFill>
          <a:blip r:embed="rId1"/>
          <a:srcRect l="0" t="10150" r="0" b="34788"/>
          <a:stretch/>
        </p:blipFill>
        <p:spPr>
          <a:xfrm>
            <a:off x="900000" y="1714680"/>
            <a:ext cx="7272360" cy="27144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elisa3[1]"/>
          <p:cNvPicPr/>
          <p:nvPr/>
        </p:nvPicPr>
        <p:blipFill>
          <a:blip r:embed="rId2"/>
          <a:srcRect l="0" t="65031" r="17222" b="0"/>
          <a:stretch/>
        </p:blipFill>
        <p:spPr>
          <a:xfrm>
            <a:off x="1643040" y="4500720"/>
            <a:ext cx="601992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99680" y="4287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0066"/>
                </a:solidFill>
                <a:latin typeface="Arial"/>
              </a:rPr>
              <a:t>مثال على طريقة عمل</a:t>
            </a:r>
            <a:br>
              <a:rPr sz="4400"/>
            </a:b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Sandwich ELISA</a:t>
            </a:r>
            <a:r>
              <a:rPr b="1" lang="ar-SA" sz="48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3300"/>
                </a:solidFill>
                <a:latin typeface="Arial"/>
              </a:rPr>
              <a:t>قبل الشروع في العمل يجب قراءة التعليمات بدقة شديدة لأن أي خطأ  قد يؤدي الى فساد التجربة وخسارة قيمة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Kit</a:t>
            </a:r>
            <a:r>
              <a:rPr b="1" lang="ar-SA" sz="3600" spc="-1" strike="noStrike">
                <a:solidFill>
                  <a:srgbClr val="ff3300"/>
                </a:solidFill>
                <a:latin typeface="Arial"/>
              </a:rPr>
              <a:t> وهي مكلفة جد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نستخدم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t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(مجموعة المحاليل المستخدمة في التحاليل المناعية ) حيث أن لكل جسم مطلوب الكشف عنه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t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مخصو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28400" y="428400"/>
            <a:ext cx="741348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900" spc="-1" strike="noStrike">
                <a:solidFill>
                  <a:srgbClr val="330066"/>
                </a:solidFill>
                <a:latin typeface="Arial"/>
              </a:rPr>
              <a:t>تابع- </a:t>
            </a:r>
            <a:r>
              <a:rPr b="1" lang="ar-SA" sz="4000" spc="-1" strike="noStrike">
                <a:solidFill>
                  <a:srgbClr val="330066"/>
                </a:solidFill>
                <a:latin typeface="Arial"/>
              </a:rPr>
              <a:t>مثال على طريقة عمل</a:t>
            </a: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Sandwich ELISA</a:t>
            </a:r>
            <a:r>
              <a:rPr b="1" lang="ar-SA" sz="44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2296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ff"/>
                </a:solidFill>
                <a:latin typeface="Arial"/>
              </a:rPr>
              <a:t>1</a:t>
            </a:r>
            <a:r>
              <a:rPr b="0" lang="ar-SA" sz="3600" spc="-1" strike="noStrike">
                <a:solidFill>
                  <a:srgbClr val="cc66ff"/>
                </a:solidFill>
                <a:latin typeface="Arial"/>
              </a:rPr>
              <a:t>-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يتم ترقيم الطبق الخاص المكون من 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96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خانة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lls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) بدقة وتستخدم الخانات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lls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الأولى لرسم المنحنى القياسي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ndard curve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C:\Documents and Settings\nashwao\Desktop\ELISA\images.jpg"/>
          <p:cNvPicPr/>
          <p:nvPr/>
        </p:nvPicPr>
        <p:blipFill>
          <a:blip r:embed="rId1"/>
          <a:stretch/>
        </p:blipFill>
        <p:spPr>
          <a:xfrm>
            <a:off x="2714760" y="4143240"/>
            <a:ext cx="321444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286840" cy="179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330066"/>
                </a:solidFill>
                <a:latin typeface="Arial"/>
              </a:rPr>
              <a:t>تابع- مثال على طريقة عمل </a:t>
            </a: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Sandwich ELISA</a:t>
            </a:r>
            <a:r>
              <a:rPr b="1" lang="ar-SA" sz="54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14200" y="2000160"/>
            <a:ext cx="85154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just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SA" sz="3600" spc="-1" strike="noStrike">
                <a:solidFill>
                  <a:srgbClr val="cc66ff"/>
                </a:solidFill>
                <a:latin typeface="Arial"/>
              </a:rPr>
              <a:t>2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- ثم يتم وضع العينة المراد فحصها في الطبق ويفضل تكرار كل عينة مرتين أو ثلاث مرات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uplicate or Triplic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وبعد ظهور النتائج يؤخذ المتوس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c66ff"/>
                </a:solidFill>
                <a:latin typeface="Arial"/>
              </a:rPr>
              <a:t>3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- تستخدم عينة ضابطة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ality control sampl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وهذه العينة تأتي مع مجموعة المحاليل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t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) وهي ذات تركيز محدد من قبل الشركة المصنعة وتعامل تماما مثل العينة المفحوص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28760" y="19998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66ff"/>
                </a:solidFill>
                <a:latin typeface="Arial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تترك العينات لفترة زمنية محددة حتى يلتص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te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بالطبق بعد ذلك يغسل الطبق لإزالة ما تبقى من العين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cc66ff"/>
                </a:solidFill>
                <a:latin typeface="Arial"/>
              </a:rPr>
              <a:t>5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تتم اضافة محلول يحتوي على أجسام مضادة للبروتين المطلوب الكشف عنه وهذه الأجسام تسمى الأجسام المضادة الأولي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ary Antibo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1357200" y="428760"/>
            <a:ext cx="6072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330066"/>
                </a:solidFill>
                <a:latin typeface="Arial"/>
              </a:rPr>
              <a:t>تابع- مثال على طريقة عمل </a:t>
            </a: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Sandwich ELISA</a:t>
            </a:r>
            <a:r>
              <a:rPr b="1" lang="ar-SA" sz="4800" spc="-1" strike="noStrike">
                <a:solidFill>
                  <a:srgbClr val="330066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250920" y="14842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66ff"/>
                </a:solidFill>
                <a:latin typeface="Arial"/>
              </a:rPr>
              <a:t>6</a:t>
            </a:r>
            <a:r>
              <a:rPr b="0" lang="ar-SA" sz="3600" spc="-1" strike="noStrike">
                <a:solidFill>
                  <a:srgbClr val="cc66ff"/>
                </a:solidFill>
                <a:latin typeface="Arial"/>
              </a:rPr>
              <a:t>-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تتم اضافة أجسام مضادة ثانية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ary Antibodies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للأجسام المضادة الأولية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mary Antibodies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وهذه يمكنها الارتباط بالطبق فقط في حال ارتباط الأجسام المضادة الأولية بالعينة (هذه الأجسام المضادة الثانية يرتبط بها انزيم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ndwich ELI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2"/>
          <p:cNvSpPr/>
          <p:nvPr/>
        </p:nvSpPr>
        <p:spPr>
          <a:xfrm>
            <a:off x="482040" y="428760"/>
            <a:ext cx="8187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330066"/>
                </a:solidFill>
                <a:latin typeface="Arial"/>
              </a:rPr>
              <a:t>تابع- مثال على طريقة عم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Sandwich ELISA</a:t>
            </a:r>
            <a:r>
              <a:rPr b="1" lang="ar-SA" sz="1800" spc="-1" strike="noStrike">
                <a:solidFill>
                  <a:srgbClr val="33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539640" y="17002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66ff"/>
                </a:solidFill>
                <a:latin typeface="Arial"/>
              </a:rPr>
              <a:t>7-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تم اضافة المادة الأساس للإنزيم المرتبط بالأجسام المضادة الثانية فيقوم الإنزيم بتحويل المادة الأساس الى ناتج ملو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66ff"/>
                </a:solidFill>
                <a:latin typeface="Arial"/>
              </a:rPr>
              <a:t>8-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حسب كمية ناتج التفاعل ضوئيا باستخدام جهاز الحاسو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تكون كم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ناتج التفاعل متناسبة طرديا مع كمي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te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في العين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124920" y="571680"/>
            <a:ext cx="8187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330066"/>
                </a:solidFill>
                <a:latin typeface="Arial"/>
              </a:rPr>
              <a:t>تابع- مثال على طريقة عم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Sandwich ELISA</a:t>
            </a:r>
            <a:r>
              <a:rPr b="1" lang="ar-SA" sz="4800" spc="-1" strike="noStrike">
                <a:solidFill>
                  <a:srgbClr val="330066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0066"/>
                </a:solidFill>
                <a:latin typeface="Arial"/>
              </a:rPr>
              <a:t>تابع- تعريفات عامة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57120" y="185688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Ant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هو جسم مسؤول عن اثارة الجهاز المناعي للجسم وبالتحديد اثارة الأجسام المضا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 rtl="1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90000"/>
                </a:solidFill>
                <a:latin typeface="Arial"/>
              </a:rPr>
              <a:t>التحاليل المناعية 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Immunoas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هي اختبارات بيوكيميائية لقياس مستوى مادة معينة في السائل الحيوي (سيرم, بول,لعاب, دموع) بواسطة ارتباط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gen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م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body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المخصص ل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elisa-plate[1]"/>
          <p:cNvPicPr/>
          <p:nvPr/>
        </p:nvPicPr>
        <p:blipFill>
          <a:blip r:embed="rId1"/>
          <a:stretch/>
        </p:blipFill>
        <p:spPr>
          <a:xfrm>
            <a:off x="900000" y="1916280"/>
            <a:ext cx="720108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900" spc="-1" strike="noStrike">
                <a:solidFill>
                  <a:srgbClr val="330066"/>
                </a:solidFill>
                <a:latin typeface="Arial"/>
              </a:rPr>
              <a:t>النتائج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بعد قراءة نتائج الامتصاص في جهاز قارئ الاليزا نقوم برسم المنحنى القياسي على ورق الرسم البياني بحيث نستخدم المحور السيني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-axis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للتركيز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entr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والمحور الصادي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-ax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 للامتصاص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bsorp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Straight Arrow Connector 5"/>
          <p:cNvCxnSpPr/>
          <p:nvPr/>
        </p:nvCxnSpPr>
        <p:spPr>
          <a:xfrm>
            <a:off x="3000240" y="5857920"/>
            <a:ext cx="35013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6" name="Straight Arrow Connector 9"/>
          <p:cNvCxnSpPr/>
          <p:nvPr/>
        </p:nvCxnSpPr>
        <p:spPr>
          <a:xfrm flipV="1">
            <a:off x="2998800" y="4001400"/>
            <a:ext cx="2160" cy="18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7" name="TextBox 16"/>
          <p:cNvSpPr/>
          <p:nvPr/>
        </p:nvSpPr>
        <p:spPr>
          <a:xfrm>
            <a:off x="1571760" y="4357800"/>
            <a:ext cx="139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orption  n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7"/>
          <p:cNvSpPr/>
          <p:nvPr/>
        </p:nvSpPr>
        <p:spPr>
          <a:xfrm>
            <a:off x="4228920" y="6000840"/>
            <a:ext cx="222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entration ng/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900" spc="-1" strike="noStrike">
                <a:solidFill>
                  <a:srgbClr val="330066"/>
                </a:solidFill>
                <a:latin typeface="Arial"/>
              </a:rPr>
              <a:t>تابع-النتائج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نقوم بتحديد تركيزات المحاليل القياسية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ndards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على المنحنى السيني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-ax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ثم نحدد قراءة كل محلول قياسي على المنحنى الصادي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-ax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 ونرسم المنحنى القياس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C:\Documents and Settings\nashwao\Desktop\ELISA\maxline_28_8.jpg"/>
          <p:cNvPicPr/>
          <p:nvPr/>
        </p:nvPicPr>
        <p:blipFill>
          <a:blip r:embed="rId1"/>
          <a:stretch/>
        </p:blipFill>
        <p:spPr>
          <a:xfrm>
            <a:off x="571680" y="1143000"/>
            <a:ext cx="735804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900" spc="-1" strike="noStrike">
                <a:solidFill>
                  <a:srgbClr val="330066"/>
                </a:solidFill>
                <a:latin typeface="Arial"/>
              </a:rPr>
              <a:t>تابع-النتائج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28760" y="185688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يستخدم هذا المنحنى لقياس تركيز كل عينة بحيث نأتي عند قراءة الامتصاص على المحور الصادي ونحدد  النقطة المقابلة لها على المنحنى وبعد ذلك نحدد  التركيز على المنحنى السين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4" name="Straight Arrow Connector 4"/>
          <p:cNvCxnSpPr/>
          <p:nvPr/>
        </p:nvCxnSpPr>
        <p:spPr>
          <a:xfrm>
            <a:off x="2786040" y="5643720"/>
            <a:ext cx="28584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5" name="Straight Arrow Connector 6"/>
          <p:cNvCxnSpPr/>
          <p:nvPr/>
        </p:nvCxnSpPr>
        <p:spPr>
          <a:xfrm flipV="1">
            <a:off x="2714760" y="3857040"/>
            <a:ext cx="2160" cy="178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6" name="Straight Connector 9"/>
          <p:cNvSpPr/>
          <p:nvPr/>
        </p:nvSpPr>
        <p:spPr>
          <a:xfrm>
            <a:off x="2786040" y="4429080"/>
            <a:ext cx="357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traight Connector 14"/>
          <p:cNvSpPr/>
          <p:nvPr/>
        </p:nvSpPr>
        <p:spPr>
          <a:xfrm flipV="1">
            <a:off x="2714760" y="4285800"/>
            <a:ext cx="1857240" cy="135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traight Connector 16"/>
          <p:cNvSpPr/>
          <p:nvPr/>
        </p:nvSpPr>
        <p:spPr>
          <a:xfrm>
            <a:off x="3286080" y="4429080"/>
            <a:ext cx="4287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traight Connector 19"/>
          <p:cNvSpPr/>
          <p:nvPr/>
        </p:nvSpPr>
        <p:spPr>
          <a:xfrm>
            <a:off x="3857760" y="4429080"/>
            <a:ext cx="500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traight Connector 21"/>
          <p:cNvSpPr/>
          <p:nvPr/>
        </p:nvSpPr>
        <p:spPr>
          <a:xfrm flipH="1">
            <a:off x="4357800" y="4500720"/>
            <a:ext cx="144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traight Connector 23"/>
          <p:cNvSpPr/>
          <p:nvPr/>
        </p:nvSpPr>
        <p:spPr>
          <a:xfrm flipH="1">
            <a:off x="4355640" y="5357880"/>
            <a:ext cx="18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traight Connector 26"/>
          <p:cNvSpPr/>
          <p:nvPr/>
        </p:nvSpPr>
        <p:spPr>
          <a:xfrm flipH="1">
            <a:off x="4355640" y="5002200"/>
            <a:ext cx="18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6"/>
          <p:cNvSpPr/>
          <p:nvPr/>
        </p:nvSpPr>
        <p:spPr>
          <a:xfrm>
            <a:off x="1214280" y="4286160"/>
            <a:ext cx="139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orption  n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7"/>
          <p:cNvSpPr/>
          <p:nvPr/>
        </p:nvSpPr>
        <p:spPr>
          <a:xfrm>
            <a:off x="3371760" y="5715000"/>
            <a:ext cx="222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entration ng/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900" spc="-1" strike="noStrike">
                <a:solidFill>
                  <a:srgbClr val="330066"/>
                </a:solidFill>
                <a:latin typeface="Arial"/>
              </a:rPr>
              <a:t>تابع-النتائج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نحسب تركيز العينة الضابطة من المنحنى وإذا كان في الحدود الطبيعية المحددة من الشركة المصنعة فهذا يعني أن التجربة ناجحة ويمكن اعتماد النتائج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www.edumedia-sciences.com/en/a543-direct-enzyme-linked-immunosorbent-assay-eli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http://www.sumanasinc.com/webcontent/animations/content/ELISA.htm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3"/>
              </a:rPr>
              <a:t>http://www.biology.ualberta.ca/facilities/multimedia/uploads/procedures/elisa-sound.sw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3"/>
          <p:cNvSpPr/>
          <p:nvPr/>
        </p:nvSpPr>
        <p:spPr>
          <a:xfrm>
            <a:off x="1571760" y="571680"/>
            <a:ext cx="485748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lated web sit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C:\Documents and Settings\nashwao\Desktop\ELISA\antigen_antibody 1.gif"/>
          <p:cNvPicPr/>
          <p:nvPr/>
        </p:nvPicPr>
        <p:blipFill>
          <a:blip r:embed="rId1"/>
          <a:stretch/>
        </p:blipFill>
        <p:spPr>
          <a:xfrm>
            <a:off x="1785960" y="928800"/>
            <a:ext cx="564372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0066"/>
                </a:solidFill>
                <a:latin typeface="Arial"/>
              </a:rPr>
              <a:t>تابع- تعريفات عامة</a:t>
            </a: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Analy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هي المادة الحيوكيميائية التي يتم قياسها وفي التحاليل المناعية يكون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te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إما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body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أو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330066"/>
                </a:solidFill>
                <a:latin typeface="Arial"/>
              </a:rPr>
              <a:t>حالات </a:t>
            </a: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Antigen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5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90000"/>
                </a:solidFill>
                <a:latin typeface="Arial"/>
              </a:rPr>
              <a:t>يكون </a:t>
            </a: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Antigen</a:t>
            </a:r>
            <a:r>
              <a:rPr b="0" lang="ar-SA" sz="3600" spc="-1" strike="noStrike">
                <a:solidFill>
                  <a:srgbClr val="990000"/>
                </a:solidFill>
                <a:latin typeface="Arial"/>
              </a:rPr>
              <a:t> إما</a:t>
            </a: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موجود في الجسم بشكل طبيعي مثل الهرمونا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يتم تصنيعه في الجسم في حالات مرضية مثال: هرمون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C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الذي يفرز من المشيمة بشكل طبيعي أثناء الحمل يمكن افرازه في بعض أنواع السرطانات حتى عند الرجا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غير موجود في الأحوال العادية مثل المخدرا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330066"/>
                </a:solidFill>
                <a:latin typeface="Arial"/>
              </a:rPr>
              <a:t>مقدمة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 rtl="1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يتم تصنيع الأجسام المضادة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tibodies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في حال التعرض لأجسام غريبة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tigens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وتكون هذه الأجسام المضادة ذات تخصصية وألفة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ecific Affinity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للأجسام الغريبة التي أثارت تصنيعها مثل البروتينات والسكريات العديدة و الأحماض النوو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C:\Documents and Settings\nashwao\Desktop\ELISA\Antigen_Antibody.gif"/>
          <p:cNvPicPr/>
          <p:nvPr/>
        </p:nvPicPr>
        <p:blipFill>
          <a:blip r:embed="rId1"/>
          <a:stretch/>
        </p:blipFill>
        <p:spPr>
          <a:xfrm>
            <a:off x="1000080" y="1785960"/>
            <a:ext cx="657216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330066"/>
                </a:solidFill>
                <a:latin typeface="Arial"/>
              </a:rPr>
              <a:t>تابع- مقدمة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تتعرف الأجسام المضادة على الجزء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tigenic determinan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يحتوي الجسم على خلايا مصنعة للأجسام المضاد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4T08:48:45Z</dcterms:created>
  <dc:creator>DOMAIN</dc:creator>
  <dc:description/>
  <dc:language>en-US</dc:language>
  <cp:lastModifiedBy>pc</cp:lastModifiedBy>
  <dcterms:modified xsi:type="dcterms:W3CDTF">2011-11-28T08:45:07Z</dcterms:modified>
  <cp:revision>52</cp:revision>
  <dc:subject/>
  <dc:title>ELISA جها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