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4F1E7-BAE8-42CD-BE93-2EADF1A76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45E1A-9A73-4B94-96D3-09BC4625F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D8181-F393-4801-8982-AC056F53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03F8C-9E94-4EDE-BCDB-D3603DD58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D0991A-459D-425A-9DA5-A3E74E37F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239D76-EDB1-43B2-A4E5-6D2E00854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4AE615-7ECE-4325-8A28-D062BD327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2C8EF6-938E-4F63-9EFD-B727B4B6E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8438CA-3F95-4EDA-A376-B13CE3B41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0B5BA4-9425-4DE4-8731-E28E035AB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D0A0CD-1889-452F-95E7-3B0CAFCB9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BEBF9-0F1D-4B80-8885-3FD428819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40F9CF-5A01-4B2B-9A01-670DAE643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53BC08-EAB9-4E75-853C-A4393BF1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587E6C-E592-427B-B318-ECE96A6EA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9988EE6-C0A8-443C-A87A-1A2A30776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E0CD3E-3582-46CD-ABCD-646CBB65D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49E2-E16E-46DA-A747-07A2DDFEA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6BF6-9C1C-4413-9B80-55DF4BC82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8D0E-4023-47F7-B170-768A35F69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2EC1-3C52-4870-97A6-73BA2D74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A86E-A342-43C1-8B10-B23F55624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9757-AD11-4A06-8ADD-0DC99C6E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2DF8-CC6B-45B5-8BC2-000FAAAED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6B8D-CA31-4A81-AB53-90975AC54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0659-D4EF-4738-BD3F-4DFE39D179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152"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part of the Earth’s cru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earthquakes is faulting. During faulting, energy is released.  Rocks continue to mov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Francisco Quak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06, movement along the San Andreas fault caused an earthquake in San Francis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faults occur between the surface and a depth of 70 kilo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beneath the surface where the rocks break and move is called the focus. The focus is the underground origin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ll</dc:creator>
  <dc:description/>
  <dc:language>en-US</dc:language>
  <cp:lastModifiedBy>ksu</cp:lastModifiedBy>
  <dcterms:modified xsi:type="dcterms:W3CDTF">2011-11-01T10:56:57Z</dcterms:modified>
  <cp:revision>1</cp:revision>
  <dc:subject/>
  <dc:title>Earthquakes and Volcanoes</dc:title>
</cp:coreProperties>
</file>