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907C3-E921-414B-BAD0-149F2C690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53B3B-FF64-4BFE-BC29-C49D833E2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B64FC-6883-4331-9F44-001CE397F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48F88-94CE-46F5-8E77-7CC9048F2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FDDA0F0-8971-4B1D-8227-7371D158D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999861B-141C-40CE-B2ED-EEA56F86B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9D95E4A-0BE3-4B10-AFFC-5CC464316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BDE4BED-00A6-4882-8189-0C96CD0EB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4451139-CD29-4C21-A75E-E400DA6E6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40619E4-B82D-40D0-BBCD-6EFDBDDD0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E5301B-AA06-4389-8337-1BAC47627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C841F-3F41-4B60-BE8C-3A39C6D06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6E9DD2-080A-4EA2-8CF0-2DD8003CB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259340-66BB-4E41-8439-89A283779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BC856B0-B29D-4DB9-A9E5-B762BE9FF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9AC09D6-3BC7-4FBF-BC0D-68D094D28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8CEC041-5947-42F6-9AAF-9ECA84373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C921B-72F2-4C16-BD45-8101074EE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F5DBF-0C24-49EC-8A3B-6F8B6A269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2B7E1-E100-4C33-AEDA-B90CCB813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9F263-2E35-40B2-B2DD-6A2C21C06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3900D-FCF5-45B6-9E8E-EFD969DA1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40CA3-1A23-470F-8056-9F736419F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110A1-3221-438C-A0E3-1418DBB13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C54A-C07B-48B2-AC9F-BE19143CB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EE3DF-05CD-4092-9AE9-CF03414F0BB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 and Volcanoes</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ary Waves</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do not travel through the Earth as fast as P waves do are called secondary or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travel through solids but not liquids or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cause particles to move from side to side. They move at right angles to the direction of the wa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rface Waves</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west moving seismic waves are called surface waves or L wav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originate on the Earth’s surface at the epicenter.  They move along the surface the way waves travel in the ocean.  The Earth’s surface moves up and down with each L wav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cause most of the dam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Seismograph</a:t>
            </a: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nted in 1893 by John Milne, a seismograph detects and measures seismic wav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eight attached to a spring remains nearly still even when the Earth moves.  A pen attached to the weight records any movement on a roll of paper on a constantly rotating drum. The drum moves with the Earth and affects the 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logists</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ologists study earthquakes. They can determine the strength of an earthquake by the height of the wavy line recorded on the pap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ismograph record of waves is called a seismogra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chter scale is used to calculate the strength of an earthqua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Richter Scale</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damage created by an earthquake depends on several factor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quake’s strength</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rock and soil that underlie an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pulation of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buildings in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at which the earthquake occ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have identified warning signals the help predict earthquakes with greater accurac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changes occur in the speed of P and S waves before an earthquake occur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slight changes in the tilt of the Earth’s surface can be detec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scientists believe animals behavior is aff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rmation of a Volcano</a:t>
            </a:r>
            <a:endParaRPr b="0" lang="en-US" sz="4400" spc="-1" strike="noStrike">
              <a:solidFill>
                <a:srgbClr val="e3e3ff"/>
              </a:solidFill>
              <a:latin typeface="Arial"/>
            </a:endParaRPr>
          </a:p>
        </p:txBody>
      </p:sp>
      <p:pic>
        <p:nvPicPr>
          <p:cNvPr id="152" name="Picture 5" descr="Volcano"/>
          <p:cNvPicPr/>
          <p:nvPr/>
        </p:nvPicPr>
        <p:blipFill>
          <a:blip r:embed="rId1"/>
          <a:stretch/>
        </p:blipFill>
        <p:spPr>
          <a:xfrm>
            <a:off x="2701800" y="1600200"/>
            <a:ext cx="373860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ma</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ep within the Earth, under tremendous pressure and at great temperatures, rock exists as a hot liquid called magma.  This molten rock is found in pockets called magma chamb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va</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magma reaches the surface, it is called lava.  The place in the Earth’s surface through which magma and other materials reach the surface is called a volcano.  In some places, lava can build up to forma cone-shaped mounta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pening from which lava erupts is the vent.  Volcanoes often have more than one v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ark-Colored Lava</a:t>
            </a:r>
            <a:endParaRPr b="0" lang="en-US" sz="44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types of la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is dark-colored and contains a lot of water. This is rich in iron and magnesium and cools to form igneous rocks such as basalt.  This lava is thin and runny and most tends to flow.  The islands of Hawaii and Iceland were formed by many lava flow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a:t>
            </a:r>
            <a:endParaRPr b="0" lang="en-US" sz="4400" spc="-1" strike="noStrike">
              <a:solidFill>
                <a:srgbClr val="e3e3ff"/>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arthquake is the shaking and trembling that results from the sudden movement of part of the Earth’s cru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common cause of earthquakes is faulting. During faulting, energy is released.  Rocks continue to move until the energy is used 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ight-Colored Lava</a:t>
            </a:r>
            <a:endParaRPr b="0" lang="en-US" sz="44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cond type of lava is light in color. This lava, contains little water and is rich in silicon and aluminum. Light-colored lava causes explosive eruptions. Silicon tends to harden in the vents and form rocks.  Steam and new lava build up under the rocks.  When the pressure becomes great, a violent explosion occurs. When this type of lava cools it form the igneous rock, rhyolite, which resembles gran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bination Lava</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type of lava has a chemical composition similar to that of both the dark-colored type and the light-colored type.  Different varieties of igneous rocks in the Earth’s crust, such as andesite, are form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aseous Lava</a:t>
            </a: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urth type of lava contains large amounts of gases such as steam and carbon dioxide.  When this lava hardens, it forms rocks with many holes in them, due to gas bubbles. Pumice and scoria are igneous rocks formed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Eruptions</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volcanic eruptions, many rock fragments are blown into the air. The smallest particles are called volcanic dust. (less than 0.25 m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Ash ( 0.25 -5mm) falls to the Earth and forms small rock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bombs (a few cm to several meters) are molten and harden as they travel through the a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ypes of Volcanoes</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olcanic eruptions form different types of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nder con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eld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site volcano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s</a:t>
            </a:r>
            <a:endParaRPr b="0" lang="en-US" sz="44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made mostly of cinders and other rock particles that have been blown into the air are called cinder cones.  Cinder cones form from explosive eruptions.  Because the material is loosely arranged, the cones are not high.  The have a narrow base and steep sides such as Paricutin in Mexi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composed of quiet flows are called shield volcanoes.  Because it is rummy, the lava flows over a large area.  After several eruptions, a dome-shaped mountain is formed such as Mauna Loa (4km over sea level) in the Hawaiian Isla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e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built up of alternating layers of rock particles and lava are called composite volcanoes.  During the formation of a composite volcano, a violent eruption first occurs, hurling volcanic bombs, cinder and ash out of the vent.  Then a quiet eruption, produces lava flow that covers the rock particles.  After alternating eruptions, a cone-shaped mountain forms such as Mount Vesuvi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rater</a:t>
            </a:r>
            <a:endParaRPr b="0" lang="en-US" sz="4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ften a funnel-shaped pit or depression at the top of a volcanic cone.  This pit is called a crater.  If the crater becomes very large as a result of the collapse of its walls, it is called a caldera.  A caldera may also form when the top of a volcano explodes or collap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Activity</a:t>
            </a:r>
            <a:endParaRPr b="0" lang="en-US" sz="44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are rather unpredictable .  Some erupt regularly, others have not erupted in modern history.  Scientists classify them as active, dormant or extin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n Andreas Fault</a:t>
            </a: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n Andreas fault extends 960 km from Mexico to the north of Californ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to the west is moving north.  The land to the east of the fault is moving south.  All the rocks do not move at the same time so earthquakes occur in one area and then an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tive Volcanoes</a:t>
            </a:r>
            <a:endParaRPr b="0" lang="en-US" sz="44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ive volcano is one that erupts wither continually or periodically such as Mount Katmai in Alaska and Mount St. Helens in the Cascade R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ormant Volcano</a:t>
            </a:r>
            <a:endParaRPr b="0" lang="en-US" sz="4400" spc="-1" strike="noStrike">
              <a:solidFill>
                <a:srgbClr val="e3e3ff"/>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that has been known to erupt within modern times but is now inactive is classified as a dormant volcano.  Mount Rainier in Washington state are example of dormant volcanoes in the United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inct Volcano</a:t>
            </a: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not known to have erupted within modern history is classified as an extinct volcano.  They have been worn away almost to the level of their magma chamber.  Scientists can be wrong.  Mount St. Helens was considered to be dormant but erupted after long periods of ina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and Earthquake Zones</a:t>
            </a: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ajor earthquakes and volcanic eruptions occur in three zones of the world.  Scientists believe that there is a great deal of movement and activity in the Earth’s crust in these three z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major earthquake and volcano zone extends nearly all the way around the edge of the Pacific Ocean.  This zone goes through New Zealand, the Philippines, Japan, Alaska and along the western coasts of North and South America.  The San Andreas fault is part of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diterranean Zone</a:t>
            </a:r>
            <a:endParaRPr b="0" lang="en-US" sz="4400" spc="-1" strike="noStrike">
              <a:solidFill>
                <a:srgbClr val="e3e3ff"/>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cond Major earthquake and volcano zone is located near the Mediterranean Zone and extends across Asia into India.  Many countries in the zone, including Italy, Greece and Turkey, have violent earthquakes.  Many volcanic eruptions also occur in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id-Atlantic Ridge Zone</a:t>
            </a:r>
            <a:endParaRPr b="0" lang="en-US" sz="4400" spc="-1" strike="noStrike">
              <a:solidFill>
                <a:srgbClr val="e3e3ff"/>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major earthquake and volcano zone extends through Iceland and to the middle of the Atlantic Ocean.  There is under the ocean a long range of volcanic mountains called the Mid-Atlantic Ocean Range.  Scientists believe that the volcano and earthquake activity are due to the formation of new parts of the Earth’s crust along the ridge. The volcanic island of Iceland is part of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n Francisco Quake</a:t>
            </a: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06, movement along the San Andreas fault caused an earthquake in San Francis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sunamis</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quakes which occur on the ocean floor produce giant sea waves called tsunamis.  Tsunamis can travel at speeds of 700 to 800 km per hour.  As they approach the coast, they can reach heights of greater than 20 met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cus</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faults occur between the surface and a depth of 70 kilomet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int beneath the surface where the rocks break and move is called the focus. The focus is the underground origin of an earthqua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enter</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ly above the focus, on the Earth’s surface is the epicenter.  Earthquake waves reach the epicenter first.  During an earthquake, the most violent shaking is found at the epicen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Waves</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hree main types of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a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imary Waves</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travel fastest are P waves.  They travel through solids, liquids and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ove at different speeds depending on the density of the material through which they are moving.  As they move deeper in the Earth they move fas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waves are push-pull wav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ll</dc:creator>
  <dc:description/>
  <dc:language>en-US</dc:language>
  <cp:lastModifiedBy>ksu</cp:lastModifiedBy>
  <dcterms:modified xsi:type="dcterms:W3CDTF">2011-11-01T10:56:57Z</dcterms:modified>
  <cp:revision>1</cp:revision>
  <dc:subject/>
  <dc:title>Earthquakes and Volcanoes</dc:title>
</cp:coreProperties>
</file>