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43730-23A8-464D-AC8E-9AA892593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53011-70A9-428D-B1AE-86B437FBE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9D6B8-78EA-47E0-B306-67519C236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2A546-E5AC-4FB8-B141-FFA29F6DE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45A6F9E-0259-403F-947D-4F6D5A5DF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AB5D1F-77B5-427F-A935-177C4B760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14319C-379A-4A0E-A11B-77270193A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EC53CB-1097-4897-A165-05FB7E9FE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64B67E-C4D4-4EF7-B3C5-27810C348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B471104-CCBB-4119-9C0A-AD56B8E8C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C69E38-3782-48CC-B2B8-00B4EDA33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0CB88-CB1F-4AF0-9A8D-FA9787EF7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46A875-9D1C-44CB-80C3-54DB0BC71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4E792A-DE0F-409F-B6B6-9CC8EF5E6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5E33E2-3153-447E-AD59-A29D42313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3B5B4B2-2F2A-4C64-B8E4-1F9235115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E011038-5F3C-41CD-B403-816A7832C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AECCD-0660-41C0-9506-8B818C8DC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FD901-C7D1-40A8-B4CF-71A2C2795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D1363-FA06-4EA1-B965-10855318D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0154-87C6-41AE-8B5D-C2A410229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68B4-4033-40B6-AE7F-36A5F7475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5DB47-9391-4D7F-A4D3-7925A5E7C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D1D5C-E3EC-4A29-92EF-F6B81B826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7AF4-FBE6-4D1B-9D0F-E8F4D459F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C5E7-0606-4916-92EA-B20DD4DC0D0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of an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152"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part of the Earth’s cru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cause of earthquakes is faulting. During faulting, energy is released.  Rocks continue to mov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Francisco Quake</a:t>
            </a: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06, movement along the San Andreas fault caused an earthquake in San Francis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faults occur between the surface and a depth of 70 kilo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int beneath the surface where the rocks break and move is called the focus. The focus is the underground origin of an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ll</dc:creator>
  <dc:description/>
  <dc:language>en-US</dc:language>
  <cp:lastModifiedBy>ksu</cp:lastModifiedBy>
  <dcterms:modified xsi:type="dcterms:W3CDTF">2011-11-01T10:56:57Z</dcterms:modified>
  <cp:revision>1</cp:revision>
  <dc:subject/>
  <dc:title>Earthquakes and Volcanoes</dc:title>
</cp:coreProperties>
</file>