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E64CD-8402-4882-9B06-074A69724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CE325-2BC8-40DF-ABF7-E034A3E84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B0DF0-CDCE-4969-9A41-9429E1652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02014-0F45-40EB-9317-C77F8F899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028B77C-C076-4851-99B8-ABB8A5BBF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53099A-0CEF-4C8E-A539-EA29FDD37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B74AAF-42BE-4898-A38C-B92DBE7A7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583141-05B6-4D34-9228-4B3CD5D8E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E2D679-3316-4430-8238-DC1E8F648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DF0A15-B203-4C09-9F37-CC4B01F13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EED125-BBA6-4C4C-A7C5-A96E70182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03418-DC2A-477D-8B13-654D0C46E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9831B0-7869-4156-895F-B099A8CB1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839608-D0F4-4ECE-AC02-F86FB0635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A91FE4-1174-4A97-9CE0-DABB6C21E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B65E31F-6DD3-43CB-A0EC-C8C307371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8B32EF6-3641-4199-ACC8-FAA2A08B6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B949B-ECAA-4027-A870-26BC29FC4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EA443-E48F-4034-8D11-0084BE2E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FCF54-8556-45D9-A185-77FCA9406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69679-22CC-41B6-B254-6D5E21BE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5EE90-5314-4864-919C-C9F93791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77A1-8B4F-412B-A33A-1E537B18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7E611-E80E-4D6E-949B-CDEE6EDA5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5135-692D-475C-8CB0-31CC7893C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BD70-29FA-414F-BEB9-2039DE2D1D0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of an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152"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part of the Earth’s cru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cause of earthquakes is faulting. During faulting, energy is released.  Rocks continue to mov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Francisco Quake</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06, movement along the San Andreas fault caused an earthquake in San Francis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faults occur between the surface and a depth of 70 kilo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int beneath the surface where the rocks break and move is called the focus. The focus is the underground origin of an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ll</dc:creator>
  <dc:description/>
  <dc:language>en-US</dc:language>
  <cp:lastModifiedBy>ksu</cp:lastModifiedBy>
  <dcterms:modified xsi:type="dcterms:W3CDTF">2011-11-01T10:56:57Z</dcterms:modified>
  <cp:revision>1</cp:revision>
  <dc:subject/>
  <dc:title>Earthquakes and Volcanoes</dc:title>
</cp:coreProperties>
</file>