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3C1-13D9-4DDF-B787-0703668A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D02-70E5-4FDE-8B73-4FEEFE59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B96-408F-4049-B168-ABA56127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9B8-C81A-40A4-AB60-1FEB7A71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C8C-E146-48F5-8E74-BB5CC0C6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BE7-B945-4622-8A96-90BF6215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E26-8001-4C11-8DA8-699B9E00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048-9C9C-4669-AADA-C7E09C68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90C-38F5-4EBC-B811-FE3F8FC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52A-E6CC-4FD6-A55F-9886A6E7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B39-6636-40BD-B1F5-F3CC6762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090-AB26-4CF4-BB57-105A1A63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83D0-836C-4593-852D-B930B7D5D0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Andalus"/>
                <a:ea typeface="Andalus"/>
              </a:rPr>
              <a:t>Electron Transport and</a:t>
            </a:r>
            <a:br>
              <a:rPr sz="4400"/>
            </a:br>
            <a:r>
              <a:rPr b="0" lang="en-GB" sz="4400" spc="-1" strike="noStrike">
                <a:solidFill>
                  <a:srgbClr val="0070c0"/>
                </a:solidFill>
                <a:latin typeface="Andalus"/>
                <a:ea typeface="Andalus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5572080" y="3429000"/>
            <a:ext cx="32385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440320" cy="395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5951520" y="1700280"/>
            <a:ext cx="31924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00040" y="1933560"/>
            <a:ext cx="8001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Oxidative Phosphory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NADH and FADH2 formed in glycolysis, fatty acid oxidation, and the citric acid cycle are energy-rich molecules. because each contains a pair of electrons having a high transfer potential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n these electrons are used to reduce molecular oxygen to water, a large amount of free energy is liberated, which can be used to generate AT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xidative phosphorylation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in which ATP is formed as a result of the transfer of electrons from NADH or FADH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a series of electron carri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2943360" cy="636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429000" y="714240"/>
            <a:ext cx="5500800" cy="2757600"/>
          </a:xfrm>
          <a:prstGeom prst="rect">
            <a:avLst/>
          </a:prstGeom>
          <a:ln w="0">
            <a:noFill/>
          </a:ln>
        </p:spPr>
      </p:pic>
      <p:grpSp>
        <p:nvGrpSpPr>
          <p:cNvPr id="47" name="Rectangle 3"/>
          <p:cNvGrpSpPr/>
          <p:nvPr/>
        </p:nvGrpSpPr>
        <p:grpSpPr>
          <a:xfrm>
            <a:off x="3297240" y="512640"/>
            <a:ext cx="5761080" cy="3048120"/>
            <a:chOff x="3297240" y="512640"/>
            <a:chExt cx="5761080" cy="3048120"/>
          </a:xfrm>
        </p:grpSpPr>
        <p:pic>
          <p:nvPicPr>
            <p:cNvPr id="48" name="Rectangle 3" descr=""/>
            <p:cNvPicPr/>
            <p:nvPr/>
          </p:nvPicPr>
          <p:blipFill>
            <a:blip r:embed="rId3"/>
            <a:stretch/>
          </p:blipFill>
          <p:spPr>
            <a:xfrm>
              <a:off x="3297240" y="512640"/>
              <a:ext cx="5761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29000" y="642960"/>
              <a:ext cx="55008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Rectangle 4"/>
          <p:cNvGrpSpPr/>
          <p:nvPr/>
        </p:nvGrpSpPr>
        <p:grpSpPr>
          <a:xfrm>
            <a:off x="122400" y="122400"/>
            <a:ext cx="3327120" cy="6686280"/>
            <a:chOff x="122400" y="122400"/>
            <a:chExt cx="3327120" cy="6686280"/>
          </a:xfrm>
        </p:grpSpPr>
        <p:pic>
          <p:nvPicPr>
            <p:cNvPr id="51" name="Rectangle 4" descr=""/>
            <p:cNvPicPr/>
            <p:nvPr/>
          </p:nvPicPr>
          <p:blipFill>
            <a:blip r:embed="rId4"/>
            <a:stretch/>
          </p:blipFill>
          <p:spPr>
            <a:xfrm>
              <a:off x="122400" y="122400"/>
              <a:ext cx="3327120" cy="66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85840" y="285840"/>
              <a:ext cx="3000240" cy="63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7"/>
          <p:cNvSpPr/>
          <p:nvPr/>
        </p:nvSpPr>
        <p:spPr>
          <a:xfrm>
            <a:off x="3571920" y="3643200"/>
            <a:ext cx="5286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inner mitochondrial membrane contains 5 separate enzyme complexes, called compelexes I, II, III, IV and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ach complex accepts or donates electrons to mobile carrier, such as coenzyme Q and cytochrom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electrons ultimately combine with oxygen and protons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3429000" y="2286000"/>
            <a:ext cx="1254240" cy="1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6"/>
          <a:stretch/>
        </p:blipFill>
        <p:spPr>
          <a:xfrm>
            <a:off x="5572080" y="1808280"/>
            <a:ext cx="71460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Electron Transport and Oxidative Phosphorylation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Are Membrane-Associated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electron transport and oxidative phosphorylation are localized in mitochondria, which are also the sites of TCA cycle activity and fatty acid oxi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everal enzymes that utilize ATP (such as creatine kinase and adenylate kinase) are found in the intermembrane sp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19920" y="4786200"/>
            <a:ext cx="3124080" cy="2071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7295040" y="421488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uter 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5"/>
          <p:cNvSpPr/>
          <p:nvPr/>
        </p:nvSpPr>
        <p:spPr>
          <a:xfrm flipH="1">
            <a:off x="8071920" y="5214960"/>
            <a:ext cx="428760" cy="35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567920" y="457200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ner 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7"/>
          <p:cNvSpPr/>
          <p:nvPr/>
        </p:nvSpPr>
        <p:spPr>
          <a:xfrm flipH="1">
            <a:off x="6857640" y="4500720"/>
            <a:ext cx="500040" cy="35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860080" y="6072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ist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9"/>
          <p:cNvSpPr/>
          <p:nvPr/>
        </p:nvSpPr>
        <p:spPr>
          <a:xfrm flipV="1">
            <a:off x="6643800" y="5500800"/>
            <a:ext cx="428400" cy="642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0"/>
          <p:cNvSpPr/>
          <p:nvPr/>
        </p:nvSpPr>
        <p:spPr>
          <a:xfrm flipV="1">
            <a:off x="6643800" y="5572080"/>
            <a:ext cx="928440" cy="571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216840" y="635796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 flipH="1">
            <a:off x="6858000" y="5785560"/>
            <a:ext cx="1000080" cy="714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3"/>
          <p:cNvSpPr/>
          <p:nvPr/>
        </p:nvSpPr>
        <p:spPr>
          <a:xfrm flipH="1">
            <a:off x="7286760" y="4857840"/>
            <a:ext cx="35712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7715160" y="492912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low of electrons from NADH or FADH2 to O2 through protein complexes located in the mitochondrial inner membrane leads to the </a:t>
            </a:r>
            <a:r>
              <a:rPr b="0" lang="en-GB" sz="24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pumping of proton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the mitochondrial matr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ing uneven distribution of protons generates a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ient and a transmembrane electrical potential that creates </a:t>
            </a:r>
            <a:r>
              <a:rPr b="0" lang="en-GB" sz="24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a proton-motive fo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is synthesized when protons flow back to the mitochondrial matrix through an enzyme comple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34480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57120" y="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Fir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rbon fuels are oxidized in the citric acid cycle to yield electrons with high transfer potent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Then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</a:t>
            </a: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lectron-motive forc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verted into a </a:t>
            </a: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ton-motive fo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Final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proton-motive force is converted into phosphoryl transfer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714920" y="4357800"/>
            <a:ext cx="4176720" cy="22860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171360" y="4529160"/>
            <a:ext cx="4394160" cy="2182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4643280" y="4357800"/>
            <a:ext cx="4286520" cy="2357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42920" y="4429080"/>
            <a:ext cx="4357800" cy="2286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8584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The conversion of electron-motive force into proton-motive force is carried out by three electron-driven proton pum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 NADH-Q oxidoreduct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 Q-cytochrome c oxidoreduct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 cytochrome c oxid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These large transmembrane complexes contain multiple oxidation-reduction centers, including quinones, flavins, iron-sulfur clusters, hemes, and copper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phase of oxidative phosphorylation is carried out by ATP synth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High-Energy Electrons: Redox Potentials and Free-Energy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ergy electrons and redox potentials are of fundamental importance in oxidative phosphoryl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xidative phosphorylation, the electron transfer potential of NADH or FADH2 is converted into the phosphoryl transfer potential of AT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we need quantitative expressions for these forms of free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429000" y="3643200"/>
            <a:ext cx="2716200" cy="300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571760" y="1500120"/>
            <a:ext cx="585792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(loss of electrons) of one compound is always accompanied by reduction (gain of electrons) of a second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he oxidation of NADH to NAD+ accompanied by the reduction of FAD+ to FADH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7:09:19Z</dcterms:created>
  <dc:creator>Sooad</dc:creator>
  <dc:description/>
  <dc:language>en-US</dc:language>
  <cp:lastModifiedBy>Administrator</cp:lastModifiedBy>
  <dcterms:modified xsi:type="dcterms:W3CDTF">2011-05-10T06:49:24Z</dcterms:modified>
  <cp:revision>22</cp:revision>
  <dc:subject/>
  <dc:title>Slide 1</dc:title>
</cp:coreProperties>
</file>