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4F54E-F3BB-4894-AFE3-F24F6673207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E56A3-98CD-40A6-AF30-0E7C9398311F}" type="slidenum">
              <a:rPr b="0" lang="ar-SA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DE569-E434-4B6A-896B-FF9D63CC16DD}" type="slidenum">
              <a:rPr b="0" lang="ar-SA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C37FC-FF27-433B-B9FD-9B0F75181CAE}" type="slidenum">
              <a:rPr b="0" lang="ar-SA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E28A2-5101-44E3-AFCD-CAF78253079F}" type="slidenum">
              <a:rPr b="0" lang="ar-SA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D109-8770-48B6-9CD5-158D022C0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89EA-B61B-4AAC-9F28-BF1EE6AB1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33ED-CD6B-4658-B11D-B40178146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FED0-A642-4318-9986-9E4D7D002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C3C9-1A6E-4063-93DE-FAE71C453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6C8E-67D6-4468-B29A-01221A6D7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6CCF-EFE7-49C0-996E-AF518CC70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BBE4-0255-428D-A26A-DC240B219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0CE4-DD73-4FE4-A06A-CB841B21B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D961-3B80-47E7-AFD3-2E27E4B40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7CD6-A126-45DF-B87A-5BF51D81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8ACB-1959-4A36-88A3-B000EA045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E41BB-75F8-4413-AD1F-D1341C027258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ioenergetic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nergy sour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588000" y="4698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CH 341 lecture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Rectangle 43" descr=""/>
          <p:cNvPicPr/>
          <p:nvPr/>
        </p:nvPicPr>
        <p:blipFill>
          <a:blip r:embed="rId1"/>
          <a:stretch/>
        </p:blipFill>
        <p:spPr>
          <a:xfrm>
            <a:off x="1835280" y="1268280"/>
            <a:ext cx="5545080" cy="41133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588000" y="404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CH 341 lecture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6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C5D63-3437-4985-A88F-CECA3B3B4939}" type="slidenum">
              <a:rPr b="0" lang="ar-SA" sz="2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is Bioenergetics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43909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study of </a:t>
            </a:r>
            <a:r>
              <a:rPr b="1" lang="en-US" sz="3200" spc="-1" strike="noStrike">
                <a:solidFill>
                  <a:srgbClr val="86d1ec"/>
                </a:solidFill>
                <a:latin typeface="Times New Roman"/>
                <a:ea typeface="Times New Roman"/>
              </a:rPr>
              <a:t>energy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 </a:t>
            </a:r>
            <a:r>
              <a:rPr b="1" lang="en-US" sz="3200" spc="-1" strike="noStrike">
                <a:solidFill>
                  <a:srgbClr val="86d1ec"/>
                </a:solidFill>
                <a:latin typeface="Times New Roman"/>
                <a:ea typeface="Times New Roman"/>
              </a:rPr>
              <a:t>living system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nvironments) and the</a:t>
            </a:r>
            <a:r>
              <a:rPr b="1" lang="en-US" sz="3200" spc="-1" strike="noStrike">
                <a:solidFill>
                  <a:srgbClr val="86d1ec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86d1ec"/>
                </a:solidFill>
                <a:latin typeface="Times New Roman"/>
                <a:ea typeface="Times New Roman"/>
              </a:rPr>
              <a:t>organism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plants and animals) that utilize th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9" descr="061219_stevefrancis_vmed_1130a"/>
          <p:cNvPicPr/>
          <p:nvPr/>
        </p:nvPicPr>
        <p:blipFill>
          <a:blip r:embed="rId1"/>
          <a:stretch/>
        </p:blipFill>
        <p:spPr>
          <a:xfrm>
            <a:off x="5268960" y="1600200"/>
            <a:ext cx="2798640" cy="45306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588000" y="333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CH 341 lecture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erg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d by all organis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y be </a:t>
            </a:r>
            <a:r>
              <a:rPr b="1" lang="en-US" sz="36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Kinetic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 </a:t>
            </a:r>
            <a:r>
              <a:rPr b="1" lang="en-US" sz="36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Potential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ner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9" descr="e1fd5aab-a2c1-4c50-a04e-ff1f8f0eab10-big"/>
          <p:cNvPicPr/>
          <p:nvPr/>
        </p:nvPicPr>
        <p:blipFill>
          <a:blip r:embed="rId3"/>
          <a:stretch/>
        </p:blipFill>
        <p:spPr>
          <a:xfrm>
            <a:off x="4653000" y="2443320"/>
            <a:ext cx="4033800" cy="28447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588000" y="404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CH 341 lecture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inetic Energ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2327040"/>
            <a:ext cx="4643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y of Mo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t and light energy are examp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6" descr="energy10b[1]"/>
          <p:cNvPicPr/>
          <p:nvPr/>
        </p:nvPicPr>
        <p:blipFill>
          <a:blip r:embed="rId3"/>
          <a:stretch/>
        </p:blipFill>
        <p:spPr>
          <a:xfrm>
            <a:off x="5076720" y="1989000"/>
            <a:ext cx="3807000" cy="45309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588000" y="404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CH 341 lecture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7" dur="2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otential Energ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4392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y of posi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ludes energy stored in chemical bon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6" descr="model7[1]"/>
          <p:cNvPicPr/>
          <p:nvPr/>
        </p:nvPicPr>
        <p:blipFill>
          <a:blip r:embed="rId3"/>
          <a:stretch/>
        </p:blipFill>
        <p:spPr>
          <a:xfrm>
            <a:off x="4800600" y="2276640"/>
            <a:ext cx="4343400" cy="37400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6588000" y="404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CH 341 lecture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8T12:00:17Z</dcterms:created>
  <dc:creator>Yano</dc:creator>
  <dc:description/>
  <dc:language>en-US</dc:language>
  <cp:lastModifiedBy>Sooad</cp:lastModifiedBy>
  <dcterms:modified xsi:type="dcterms:W3CDTF">2010-10-02T17:44:01Z</dcterms:modified>
  <cp:revision>13</cp:revision>
  <dc:subject/>
  <dc:title>Food Chain</dc:title>
</cp:coreProperties>
</file>