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A566-87AA-42C6-A236-E1724D5CF3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EBC-A1BD-4E08-B004-10648C9455F7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14F-BD78-482B-A288-C3A49A655E49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42A-A5CC-481A-AEC5-DEDD39FB1537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1FD-9C6B-4B1B-92F6-0554F5A839CC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838-B9BF-41F9-B64D-D785FE3D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56A-7E41-4551-9395-66C89EBE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566-BCD5-4CC6-BA32-BDC50A5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569-BF78-43EA-9642-A14F9B40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307-2E09-4341-8F4F-7E291A77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43F-7F68-48A3-891D-DB3374B4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303-40B7-47B8-9776-8447D5B5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F73-8F71-400F-B912-0DEA528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F62-F7E0-41FA-9AAA-6971B114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535-2DBC-4D7D-8A64-A48B50EE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6CE-CEF4-443E-A511-71F4848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8DB-1C47-4CA2-A2DF-9E116657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FDE1-01C8-4CDA-BE26-5D8E85C247E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energe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ergy sou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43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45080" cy="411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214-097A-4348-BD79-818AF2AD6974}" type="slidenum">
              <a:rPr b="0" lang="ar-SA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Bioenergetic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90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udy of 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energ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living system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vironments) and the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organism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lants and animals) that utiliz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268960" y="1600200"/>
            <a:ext cx="2798640" cy="453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by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Kinetic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otentia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e1fd5aab-a2c1-4c50-a04e-ff1f8f0eab10-big"/>
          <p:cNvPicPr/>
          <p:nvPr/>
        </p:nvPicPr>
        <p:blipFill>
          <a:blip r:embed="rId3"/>
          <a:stretch/>
        </p:blipFill>
        <p:spPr>
          <a:xfrm>
            <a:off x="4653000" y="2443320"/>
            <a:ext cx="4033800" cy="284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tic Ener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of Mo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and light energy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energy10b[1]"/>
          <p:cNvPicPr/>
          <p:nvPr/>
        </p:nvPicPr>
        <p:blipFill>
          <a:blip r:embed="rId3"/>
          <a:stretch/>
        </p:blipFill>
        <p:spPr>
          <a:xfrm>
            <a:off x="5076720" y="1989000"/>
            <a:ext cx="3807000" cy="4530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ential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439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of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energy stored in chemical b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model7[1]"/>
          <p:cNvPicPr/>
          <p:nvPr/>
        </p:nvPicPr>
        <p:blipFill>
          <a:blip r:embed="rId3"/>
          <a:stretch/>
        </p:blipFill>
        <p:spPr>
          <a:xfrm>
            <a:off x="4800600" y="22766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2:00:17Z</dcterms:created>
  <dc:creator>Yano</dc:creator>
  <dc:description/>
  <dc:language>en-US</dc:language>
  <cp:lastModifiedBy>Sooad</cp:lastModifiedBy>
  <dcterms:modified xsi:type="dcterms:W3CDTF">2010-10-02T17:44:01Z</dcterms:modified>
  <cp:revision>13</cp:revision>
  <dc:subject/>
  <dc:title>Food Chain</dc:title>
</cp:coreProperties>
</file>