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79F-7853-4E1F-92B4-351B41FF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C7F-7A0F-406F-AA2A-EBA33819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CD77-2ACC-4B21-8E8E-0B77C132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27D-C569-40F7-9DA6-14E81805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73A06-76DA-4295-967B-A6618143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CCFED-7CCD-4B3D-ADFA-1E395BC1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9A0FA-299E-470B-8FE6-8CFC0763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AA11F-5B07-4F13-A06F-018D25FC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448D9-AD4D-4B4A-B706-9B842397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05F3C-BCBA-4DAC-9259-352544E9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7C857-3DA3-4D8B-B3B7-A6BFB9C5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E49-0272-489F-8AEF-A3E6E5CC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B71F3-5427-420F-BE12-0DD4E1A5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4A3BE-5087-4339-86BC-4A79AC53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1AA40-259B-4688-866C-6D10102F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52E78-B0CA-49C7-B51A-6E9D38FB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54B36-5802-46DE-9BB9-5D29C607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6CE-A932-43CF-BB60-37C2855D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F439-2BDB-4BC5-B3FB-AB2D599A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7F4C-82E9-4921-8F83-3966482A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32D-4DDC-4C19-A9BA-979C2018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898-112C-44C7-8E69-65C73BD7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4F7-1C62-4A78-8ACB-B6664564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9E9A-F621-4792-8965-61F6BFA0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687C-472C-4578-B5D6-9BB17E093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8699-50C7-440C-B6D8-99CF7B914D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676520" y="3808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ross section of a volc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volcanocolor"/>
          <p:cNvPicPr/>
          <p:nvPr/>
        </p:nvPicPr>
        <p:blipFill>
          <a:blip r:embed="rId1"/>
          <a:stretch/>
        </p:blipFill>
        <p:spPr>
          <a:xfrm>
            <a:off x="0" y="960480"/>
            <a:ext cx="91440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Picture13"/>
          <p:cNvPicPr/>
          <p:nvPr/>
        </p:nvPicPr>
        <p:blipFill>
          <a:blip r:embed="rId1"/>
          <a:stretch/>
        </p:blipFill>
        <p:spPr>
          <a:xfrm>
            <a:off x="1219320" y="609480"/>
            <a:ext cx="6489720" cy="4356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04920" y="541008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t. Vesuvius, which erupted in 79 A.D. in Italy, was a classic Plinian eruption. Very hot ash falls killed thousands of people in the city of Pompei. Ash falls as high as 17 feet buried the cit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533520" y="609480"/>
            <a:ext cx="83055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canoes are classified by the eruption type and by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canic cone shap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three basic cone shapes and six eruption types.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e cone shapes ar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inder cones, shield cones, an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site cones or stratovolcano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Picture3"/>
          <p:cNvPicPr/>
          <p:nvPr/>
        </p:nvPicPr>
        <p:blipFill>
          <a:blip r:embed="rId1"/>
          <a:stretch/>
        </p:blipFill>
        <p:spPr>
          <a:xfrm>
            <a:off x="1981080" y="2666880"/>
            <a:ext cx="445788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icture4"/>
          <p:cNvPicPr/>
          <p:nvPr/>
        </p:nvPicPr>
        <p:blipFill>
          <a:blip r:embed="rId1"/>
          <a:stretch/>
        </p:blipFill>
        <p:spPr>
          <a:xfrm>
            <a:off x="1295280" y="533520"/>
            <a:ext cx="6248520" cy="2247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457200" y="3352680"/>
            <a:ext cx="83059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ix eruption types are in order from least explosive to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explosive;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celandic, Hawaiian, Strombolian, Vulcanian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elean, and Plinia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how, as the eruptions become more violent, the con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pes become more steeply construct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Picture5"/>
          <p:cNvPicPr/>
          <p:nvPr/>
        </p:nvPicPr>
        <p:blipFill>
          <a:blip r:embed="rId1"/>
          <a:stretch/>
        </p:blipFill>
        <p:spPr>
          <a:xfrm>
            <a:off x="1523880" y="380880"/>
            <a:ext cx="629928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380880" y="68580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celandic, flood, or fissure erup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all terms for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canic eruptions that flood the surface of the Earth with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sive amounts of very hot, very thin, runny lav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28600" y="4572000"/>
            <a:ext cx="8077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awaiian erup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similar to Icelandic eruptio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use both eruption types have many fissures bringing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va to the surface. Both types of eruptions are known for thei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autiful fire fountains like the one shown above. The lav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 flows from both types of eruptions is very hot, thin,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ny which allows for fast flowing lava flow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Picture7"/>
          <p:cNvPicPr/>
          <p:nvPr/>
        </p:nvPicPr>
        <p:blipFill>
          <a:blip r:embed="rId1"/>
          <a:stretch/>
        </p:blipFill>
        <p:spPr>
          <a:xfrm>
            <a:off x="1219320" y="1981080"/>
            <a:ext cx="58417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80880" y="533520"/>
            <a:ext cx="8382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ombolian erup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short lived explosive eruptions that shoot very thick and pasty lava into the air along with bursts of steam and ga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mbolian eruptions usually produce little or no lava. Because of this the cones that are produced by this type of eruption is a very steep sided cone called a cinder con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Picture9"/>
          <p:cNvPicPr/>
          <p:nvPr/>
        </p:nvPicPr>
        <p:blipFill>
          <a:blip r:embed="rId1"/>
          <a:stretch/>
        </p:blipFill>
        <p:spPr>
          <a:xfrm>
            <a:off x="4724280" y="2743200"/>
            <a:ext cx="4095720" cy="3900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228600" y="35053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04920" y="36576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oto shows a strombolian eruption taking place from a cinder c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457200" y="609480"/>
            <a:ext cx="807732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Vulcani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ruptions are more violent and explosive th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mbolian eruption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ulcanian eruptions are named after the island of Vulcano of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ast of Italy. This is the same island that gave u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e "Volcano". Vulcanian eruptions contain high dar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uds of steam, ash, and g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sh plume builds a cauliflower shaped head and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nner more treetrunk-like base. When the volcano qui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upting ash and gases it then ejects thick pasty lava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ulcanian eruptions usually build a steep sided cone that 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symetrical than a cinder c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Picture11"/>
          <p:cNvPicPr/>
          <p:nvPr/>
        </p:nvPicPr>
        <p:blipFill>
          <a:blip r:embed="rId1"/>
          <a:stretch/>
        </p:blipFill>
        <p:spPr>
          <a:xfrm>
            <a:off x="380880" y="942840"/>
            <a:ext cx="853452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228600" y="76212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elean and Plini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ruptions are the most dangerous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osive of the eruption types.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elean erup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named f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tastophic eruption on the island of Martinique in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bean Sea in 1902. The eruption and the pyroclastic flow th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ed killed 29,000 people almost instantly. "Glowing clouds"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s and ash flew down the mountain at over 70 miles per hou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04920" y="320040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linian erup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he most explosive of the erupti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s. Mt. St. Helens eruption was a plinian eruption. Plini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uptions are characterized by a very high ash cloud that ri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wards to 50,000 feet (almost 10 miles) high. Very deadl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yroclastic flows are also part of plinian eruption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3:17:48Z</dcterms:created>
  <dc:creator>HWH</dc:creator>
  <dc:description/>
  <dc:language>en-US</dc:language>
  <cp:lastModifiedBy>Dell</cp:lastModifiedBy>
  <dcterms:modified xsi:type="dcterms:W3CDTF">2011-10-06T00:33:42Z</dcterms:modified>
  <cp:revision>3</cp:revision>
  <dc:subject/>
  <dc:title>Slide 1</dc:title>
</cp:coreProperties>
</file>