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C0E-74A9-4066-9DAC-0BB2A449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9CC-4E1C-4A6C-A95E-2AC1E8B1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5C4-A505-401A-A11D-FFBEB716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4B7-4345-4FC1-A33B-6D9CCF9F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1DEB6-5A8B-4A2B-A706-8A3D7D9B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0B982-3015-4B6E-8E6C-5635A1FF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270EA-F653-4EEE-A455-5E9DB77A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95EC3-1F9F-4BF9-8E01-D5B81CBE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6CF21-BFAD-4967-8206-E2397419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5EC6A-D786-4809-A2D3-7CE4F8F3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7C30A-92FF-40C6-AC88-61A3B989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D92-71ED-433D-9497-51C5F6A1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2AC96-6BC5-4DDF-8E63-9C4FE6EA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17822-FBEF-4336-B780-48C1DC5A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4C9E0-700D-468C-B2CE-6E7EE69A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DD12E-AB82-4CB0-93DD-A02D2818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026DD-87C7-4738-980F-C21A0965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A1B4-15DB-4FFA-B0AF-2D59734B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0F1-B9FF-49E2-BE48-A6676462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ED5-A1A3-4F59-BA19-09B25595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BAD-20C2-405E-B35A-19C9BB20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EC3-0151-44AD-9CE4-725AB25B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E41-FBB0-439B-909E-2F0894B8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623-5B5E-4E2A-9ACD-9C9F9AB7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333C-D8E0-476A-A367-26E08361C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8EE7-BEEA-40F7-A3FE-3EBC990FE9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676520" y="380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ross section of a volc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volcanocolor"/>
          <p:cNvPicPr/>
          <p:nvPr/>
        </p:nvPicPr>
        <p:blipFill>
          <a:blip r:embed="rId1"/>
          <a:stretch/>
        </p:blipFill>
        <p:spPr>
          <a:xfrm>
            <a:off x="0" y="960480"/>
            <a:ext cx="9144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Picture13"/>
          <p:cNvPicPr/>
          <p:nvPr/>
        </p:nvPicPr>
        <p:blipFill>
          <a:blip r:embed="rId1"/>
          <a:stretch/>
        </p:blipFill>
        <p:spPr>
          <a:xfrm>
            <a:off x="1219320" y="609480"/>
            <a:ext cx="6489720" cy="4356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04920" y="541008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t. Vesuvius, which erupted in 79 A.D. in Italy, was a classic Plinian eruption. Very hot ash falls killed thousands of people in the city of Pompei. Ash falls as high as 17 feet buried the cit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533520" y="609480"/>
            <a:ext cx="83055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canoes are classified by the eruption type and by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canic cone shap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hree basic cone shapes and six eruption types.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e cone shapes ar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inder cones, shield cones, an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site cones or stratovolcano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Picture3"/>
          <p:cNvPicPr/>
          <p:nvPr/>
        </p:nvPicPr>
        <p:blipFill>
          <a:blip r:embed="rId1"/>
          <a:stretch/>
        </p:blipFill>
        <p:spPr>
          <a:xfrm>
            <a:off x="1981080" y="2666880"/>
            <a:ext cx="445788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icture4"/>
          <p:cNvPicPr/>
          <p:nvPr/>
        </p:nvPicPr>
        <p:blipFill>
          <a:blip r:embed="rId1"/>
          <a:stretch/>
        </p:blipFill>
        <p:spPr>
          <a:xfrm>
            <a:off x="1295280" y="533520"/>
            <a:ext cx="6248520" cy="2247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57200" y="3352680"/>
            <a:ext cx="83059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ix eruption types are in order from least explosive to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explosive;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celandic, Hawaiian, Strombolian, Vulcanian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elean, and Plinia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how, as the eruptions become more violent, the con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pes become more steeply construct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icture5"/>
          <p:cNvPicPr/>
          <p:nvPr/>
        </p:nvPicPr>
        <p:blipFill>
          <a:blip r:embed="rId1"/>
          <a:stretch/>
        </p:blipFill>
        <p:spPr>
          <a:xfrm>
            <a:off x="1523880" y="380880"/>
            <a:ext cx="629928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380880" y="6858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celandic, flood, or fissure erup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all terms for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canic eruptions that flood the surface of the Earth with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sive amounts of very hot, very thin, runny lav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4572000"/>
            <a:ext cx="8077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awaiian erup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similar to Icelandic eruptio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ause both eruption types have many fissures bringing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va to the surface. Both types of eruptions are known for thei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utiful fire fountains like the one shown above. The lav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flows from both types of eruptions is very hot, thin,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ny which allows for fast flowing lava flow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Picture7"/>
          <p:cNvPicPr/>
          <p:nvPr/>
        </p:nvPicPr>
        <p:blipFill>
          <a:blip r:embed="rId1"/>
          <a:stretch/>
        </p:blipFill>
        <p:spPr>
          <a:xfrm>
            <a:off x="1219320" y="1981080"/>
            <a:ext cx="58417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80880" y="533520"/>
            <a:ext cx="8382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ombolian erup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short lived explosive eruptions that shoot very thick and pasty lava into the air along with bursts of steam and ga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mbolian eruptions usually produce little or no lava. Because of this the cones that are produced by this type of eruption is a very steep sided cone called a cinder con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Picture9"/>
          <p:cNvPicPr/>
          <p:nvPr/>
        </p:nvPicPr>
        <p:blipFill>
          <a:blip r:embed="rId1"/>
          <a:stretch/>
        </p:blipFill>
        <p:spPr>
          <a:xfrm>
            <a:off x="4724280" y="2743200"/>
            <a:ext cx="4095720" cy="390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228600" y="35053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04920" y="36576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oto shows a strombolian eruption taking place from a cinder c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457200" y="609480"/>
            <a:ext cx="807732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ulcani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ruptions are more violent and explosive th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mbolian eruptio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ulcanian eruptions are named after the island of Vulcano of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ast of Italy. This is the same island that gave u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me "Volcano". Vulcanian eruptions contain high dar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uds of steam, ash, and g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sh plume builds a cauliflower shaped head and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nner more treetrunk-like base. When the volcano qui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upting ash and gases it then ejects thick pasty lava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ulcanian eruptions usually build a steep sided cone that 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symetrical than a cinder c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icture11"/>
          <p:cNvPicPr/>
          <p:nvPr/>
        </p:nvPicPr>
        <p:blipFill>
          <a:blip r:embed="rId1"/>
          <a:stretch/>
        </p:blipFill>
        <p:spPr>
          <a:xfrm>
            <a:off x="380880" y="942840"/>
            <a:ext cx="853452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228600" y="76212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elean and Plinia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ruptions are the most dangerous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osive of the eruption types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elean erup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named f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tastophic eruption on the island of Martinique in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bean Sea in 1902. The eruption and the pyroclastic flow th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ed killed 29,000 people almost instantly. "Glowing clouds"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s and ash flew down the mountain at over 70 miles per hou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04920" y="320040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linian erup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most explosive of the erupt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s. Mt. St. Helens eruption was a plinian eruption. Plini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uptions are characterized by a very high ash cloud that ri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wards to 50,000 feet (almost 10 miles) high. Very deadl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yroclastic flows are also part of plinian eruption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17:48Z</dcterms:created>
  <dc:creator>HWH</dc:creator>
  <dc:description/>
  <dc:language>en-US</dc:language>
  <cp:lastModifiedBy>Dell</cp:lastModifiedBy>
  <dcterms:modified xsi:type="dcterms:W3CDTF">2011-10-06T00:33:42Z</dcterms:modified>
  <cp:revision>3</cp:revision>
  <dc:subject/>
  <dc:title>Slide 1</dc:title>
</cp:coreProperties>
</file>