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807-A86D-41B8-AABA-40B2A860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2AD-8446-41CE-9A8C-7023F3CA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CCB-F9B0-422A-B909-1DFC16E1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D5C-7467-412A-8A25-6A128518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C5180-D9EC-47E9-A21F-D702231C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D35C2-7E38-4D6A-8EEB-95059B8D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F6F36-F639-4596-ABEA-841D7333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E9DA3-71BA-4A85-9FC4-253F8C87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FC17E-63F2-4678-B979-4885D951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38007-3AC5-480A-A634-580CE0A2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18E39-BE34-4742-9784-2030506F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785-8086-4E16-9103-445F6614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6A9E6-499D-4B02-BBE7-C9F43947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82FDE-34FC-4CCF-B77E-1D6182D8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FF313-72AC-4258-9D7C-D901672F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639CD-1885-4567-AAB2-388AE827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2D495-943F-4BF2-9EF7-69C4EC95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5FA-860E-4187-B183-669149D1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094-41F5-4FA8-BFDB-26740A02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6C7-48B6-4CA8-A312-44706F2B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F9A-820B-41AD-84A9-50453C29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99D-3224-4C2D-8E53-054259B8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C4C-9A6E-4F65-9D5A-7DF7B820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1E1-2767-4D7B-9E52-79F63930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BDDF-D63F-4A39-A25D-5D8F87D1D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9FA6-0200-46C3-9F28-4B0EB3285B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676520" y="380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ross section of a volc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volcanocolor"/>
          <p:cNvPicPr/>
          <p:nvPr/>
        </p:nvPicPr>
        <p:blipFill>
          <a:blip r:embed="rId1"/>
          <a:stretch/>
        </p:blipFill>
        <p:spPr>
          <a:xfrm>
            <a:off x="0" y="960480"/>
            <a:ext cx="91440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Picture13"/>
          <p:cNvPicPr/>
          <p:nvPr/>
        </p:nvPicPr>
        <p:blipFill>
          <a:blip r:embed="rId1"/>
          <a:stretch/>
        </p:blipFill>
        <p:spPr>
          <a:xfrm>
            <a:off x="1219320" y="609480"/>
            <a:ext cx="6489720" cy="4356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04920" y="541008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t. Vesuvius, which erupted in 79 A.D. in Italy, was a classic Plinian eruption. Very hot ash falls killed thousands of people in the city of Pompei. Ash falls as high as 17 feet buried the cit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533520" y="609480"/>
            <a:ext cx="83055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canoes are classified by the eruption type and by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canic cone shap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hree basic cone shapes and six eruption types.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cone shapes ar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inder cones, shield cones, an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site cones or stratovolcano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Picture3"/>
          <p:cNvPicPr/>
          <p:nvPr/>
        </p:nvPicPr>
        <p:blipFill>
          <a:blip r:embed="rId1"/>
          <a:stretch/>
        </p:blipFill>
        <p:spPr>
          <a:xfrm>
            <a:off x="1981080" y="2666880"/>
            <a:ext cx="445788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icture4"/>
          <p:cNvPicPr/>
          <p:nvPr/>
        </p:nvPicPr>
        <p:blipFill>
          <a:blip r:embed="rId1"/>
          <a:stretch/>
        </p:blipFill>
        <p:spPr>
          <a:xfrm>
            <a:off x="1295280" y="533520"/>
            <a:ext cx="6248520" cy="2247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57200" y="3352680"/>
            <a:ext cx="83059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ix eruption types are in order from least explosive to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explosive;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celandic, Hawaiian, Strombolian, Vulcanian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elean, and Plinia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how, as the eruptions become more violent, the con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pes become more steeply construct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icture5"/>
          <p:cNvPicPr/>
          <p:nvPr/>
        </p:nvPicPr>
        <p:blipFill>
          <a:blip r:embed="rId1"/>
          <a:stretch/>
        </p:blipFill>
        <p:spPr>
          <a:xfrm>
            <a:off x="1523880" y="380880"/>
            <a:ext cx="629928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380880" y="68580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celandic, flood, or fissure erup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all terms for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canic eruptions that flood the surface of the Earth with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sive amounts of very hot, very thin, runny lav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28600" y="4572000"/>
            <a:ext cx="8077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awaiian erup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similar to Icelandic erupti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both eruption types have many fissures bringing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va to the surface. Both types of eruptions are known for thei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autiful fire fountains like the one shown above. The lav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flows from both types of eruptions is very hot, thin,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ny which allows for fast flowing lava flow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Picture7"/>
          <p:cNvPicPr/>
          <p:nvPr/>
        </p:nvPicPr>
        <p:blipFill>
          <a:blip r:embed="rId1"/>
          <a:stretch/>
        </p:blipFill>
        <p:spPr>
          <a:xfrm>
            <a:off x="1219320" y="1981080"/>
            <a:ext cx="58417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80880" y="533520"/>
            <a:ext cx="8382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ombolian erup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short lived explosive eruptions that shoot very thick and pasty lava into the air along with bursts of steam and ga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mbolian eruptions usually produce little or no lava. Because of this the cones that are produced by this type of eruption is a very steep sided cone called a cinder con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Picture9"/>
          <p:cNvPicPr/>
          <p:nvPr/>
        </p:nvPicPr>
        <p:blipFill>
          <a:blip r:embed="rId1"/>
          <a:stretch/>
        </p:blipFill>
        <p:spPr>
          <a:xfrm>
            <a:off x="4724280" y="2743200"/>
            <a:ext cx="4095720" cy="390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228600" y="35053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04920" y="36576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oto shows a strombolian eruption taking place from a cinder c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457200" y="609480"/>
            <a:ext cx="807732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Vulcani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ruptions are more violent and explosive th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mbolian eruption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ulcanian eruptions are named after the island of Vulcano of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ast of Italy. This is the same island that gave u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 "Volcano". Vulcanian eruptions contain high dar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uds of steam, ash, and g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sh plume builds a cauliflower shaped head and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nner more treetrunk-like base. When the volcano qui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upting ash and gases it then ejects thick pasty lava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ulcanian eruptions usually build a steep sided cone that 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symetrical than a cinder c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Picture11"/>
          <p:cNvPicPr/>
          <p:nvPr/>
        </p:nvPicPr>
        <p:blipFill>
          <a:blip r:embed="rId1"/>
          <a:stretch/>
        </p:blipFill>
        <p:spPr>
          <a:xfrm>
            <a:off x="380880" y="942840"/>
            <a:ext cx="853452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228600" y="76212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elean and Plini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ruptions are the most dangerous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osive of the eruption types.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elean erup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named f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tastophic eruption on the island of Martinique in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bean Sea in 1902. The eruption and the pyroclastic flow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ed killed 29,000 people almost instantly. "Glowing clouds"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s and ash flew down the mountain at over 70 miles per hou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04920" y="320040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linian erup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most explosive of the erupt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s. Mt. St. Helens eruption was a plinian eruption. Plini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uptions are characterized by a very high ash cloud that ri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wards to 50,000 feet (almost 10 miles) high. Very deadl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yroclastic flows are also part of plinian eruption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3:17:48Z</dcterms:created>
  <dc:creator>HWH</dc:creator>
  <dc:description/>
  <dc:language>en-US</dc:language>
  <cp:lastModifiedBy>Dell</cp:lastModifiedBy>
  <dcterms:modified xsi:type="dcterms:W3CDTF">2011-10-06T00:33:42Z</dcterms:modified>
  <cp:revision>3</cp:revision>
  <dc:subject/>
  <dc:title>Slide 1</dc:title>
</cp:coreProperties>
</file>