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E9AE-CD93-48FD-835F-58953C03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0B5-EA76-4CF8-8D4C-A8038AF6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6B7C-CB1E-4BE2-B1E0-DF7B6E5D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E5F3-05B0-4E4C-A9CF-DD22CFA5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EB607-F774-4D4F-8CA9-EE63BD60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8256A-2513-470C-8F16-87987453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3C035-4A58-4DB0-9660-9217D42D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8C427-8E38-40FD-82B2-564D57F8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A1F82-5151-45E9-8770-B402616F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B24BE-957A-4FF0-90EC-8844F4F2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52A15-FE35-4E6E-9EBA-22F9E16F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1D3A-D834-4CE5-AE7B-B915EB00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6E468-BA34-489D-9D24-EE7BC29C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A6C1E-A6B8-4429-8BF9-A288C462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46A0F-25C2-4290-A579-82B0AB93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84A0D-5E69-4F86-9379-4E9CE945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E643D-A9A4-4158-A3A7-154361CC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F81-D15C-43C4-BC7F-0D993B77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A529-F09C-4B59-B32B-5F4E060C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149A-9515-403A-8514-535DF573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EAE7-075D-4983-A1A7-0DBB29F7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3E3-EF21-468B-A6F6-BC17704A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543-1BF8-4CBB-91BE-893DBBE7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9C2E-F2EC-46D8-BD62-A872E2F3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7662-8C95-43C4-9CEF-D42079241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21AA-C59B-4F78-9959-CA86CCC5E7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1676520" y="3808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ross section of a volc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volcanocolor"/>
          <p:cNvPicPr/>
          <p:nvPr/>
        </p:nvPicPr>
        <p:blipFill>
          <a:blip r:embed="rId1"/>
          <a:stretch/>
        </p:blipFill>
        <p:spPr>
          <a:xfrm>
            <a:off x="0" y="960480"/>
            <a:ext cx="91440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Picture13"/>
          <p:cNvPicPr/>
          <p:nvPr/>
        </p:nvPicPr>
        <p:blipFill>
          <a:blip r:embed="rId1"/>
          <a:stretch/>
        </p:blipFill>
        <p:spPr>
          <a:xfrm>
            <a:off x="1219320" y="609480"/>
            <a:ext cx="6489720" cy="4356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04920" y="5410080"/>
            <a:ext cx="830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t. Vesuvius, which erupted in 79 A.D. in Italy, was a classic Plinian eruption. Very hot ash falls killed thousands of people in the city of Pompei. Ash falls as high as 17 feet buried the cit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533520" y="609480"/>
            <a:ext cx="83055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canoes are classified by the eruption type and by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canic cone shape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three basic cone shapes and six eruption types.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e cone shapes ar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inder cones, shield cones, an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site cones or stratovolcano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Picture3"/>
          <p:cNvPicPr/>
          <p:nvPr/>
        </p:nvPicPr>
        <p:blipFill>
          <a:blip r:embed="rId1"/>
          <a:stretch/>
        </p:blipFill>
        <p:spPr>
          <a:xfrm>
            <a:off x="1981080" y="2666880"/>
            <a:ext cx="445788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Picture4"/>
          <p:cNvPicPr/>
          <p:nvPr/>
        </p:nvPicPr>
        <p:blipFill>
          <a:blip r:embed="rId1"/>
          <a:stretch/>
        </p:blipFill>
        <p:spPr>
          <a:xfrm>
            <a:off x="1295280" y="533520"/>
            <a:ext cx="6248520" cy="22478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457200" y="3352680"/>
            <a:ext cx="83059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ix eruption types are in order from least explosive to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explosive;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celandic, Hawaiian, Strombolian, Vulcanian,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elean, and Plinia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ice how, as the eruptions become more violent, the con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pes become more steeply construct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Picture5"/>
          <p:cNvPicPr/>
          <p:nvPr/>
        </p:nvPicPr>
        <p:blipFill>
          <a:blip r:embed="rId1"/>
          <a:stretch/>
        </p:blipFill>
        <p:spPr>
          <a:xfrm>
            <a:off x="1523880" y="380880"/>
            <a:ext cx="629928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380880" y="68580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celandic, flood, or fissure erup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all terms for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canic eruptions that flood the surface of the Earth with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ssive amounts of very hot, very thin, runny lav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28600" y="4572000"/>
            <a:ext cx="8077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awaiian erup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similar to Icelandic eruptio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ause both eruption types have many fissures bringing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va to the surface. Both types of eruptions are known for thei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autiful fire fountains like the one shown above. The lav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 flows from both types of eruptions is very hot, thin,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ny which allows for fast flowing lava flow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Picture7"/>
          <p:cNvPicPr/>
          <p:nvPr/>
        </p:nvPicPr>
        <p:blipFill>
          <a:blip r:embed="rId1"/>
          <a:stretch/>
        </p:blipFill>
        <p:spPr>
          <a:xfrm>
            <a:off x="1219320" y="1981080"/>
            <a:ext cx="58417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80880" y="533520"/>
            <a:ext cx="8382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ombolian eruptio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short lived explosive eruptions that shoot very thick and pasty lava into the air along with bursts of steam and ga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mbolian eruptions usually produce little or no lava. Because of this the cones that are produced by this type of eruption is a very steep sided cone called a cinder cone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Picture9"/>
          <p:cNvPicPr/>
          <p:nvPr/>
        </p:nvPicPr>
        <p:blipFill>
          <a:blip r:embed="rId1"/>
          <a:stretch/>
        </p:blipFill>
        <p:spPr>
          <a:xfrm>
            <a:off x="4724280" y="2743200"/>
            <a:ext cx="4095720" cy="3900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228600" y="35053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04920" y="36576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oto shows a strombolian eruption taking place from a cinder c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457200" y="609480"/>
            <a:ext cx="807732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Vulcania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ruptions are more violent and explosive th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mbolian eruption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ulcanian eruptions are named after the island of Vulcano of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ast of Italy. This is the same island that gave u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e "Volcano". Vulcanian eruptions contain high dar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uds of steam, ash, and g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sh plume builds a cauliflower shaped head and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nner more treetrunk-like base. When the volcano qui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upting ash and gases it then ejects thick pasty lava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ulcanian eruptions usually build a steep sided cone that 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symetrical than a cinder co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Picture11"/>
          <p:cNvPicPr/>
          <p:nvPr/>
        </p:nvPicPr>
        <p:blipFill>
          <a:blip r:embed="rId1"/>
          <a:stretch/>
        </p:blipFill>
        <p:spPr>
          <a:xfrm>
            <a:off x="380880" y="942840"/>
            <a:ext cx="853452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228600" y="76212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elean and Plinia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ruptions are the most dangerous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osive of the eruption types.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elean erup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named f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atastophic eruption on the island of Martinique in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bean Sea in 1902. The eruption and the pyroclastic flow th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ed killed 29,000 people almost instantly. "Glowing clouds"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s and ash flew down the mountain at over 70 miles per hou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04920" y="3200400"/>
            <a:ext cx="8001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linian erup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the most explosive of the erupti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s. Mt. St. Helens eruption was a plinian eruption. Plini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uptions are characterized by a very high ash cloud that ri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wards to 50,000 feet (almost 10 miles) high. Very deadl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yroclastic flows are also part of plinian eruption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3:17:48Z</dcterms:created>
  <dc:creator>HWH</dc:creator>
  <dc:description/>
  <dc:language>en-US</dc:language>
  <cp:lastModifiedBy>Dell</cp:lastModifiedBy>
  <dcterms:modified xsi:type="dcterms:W3CDTF">2011-10-06T00:33:42Z</dcterms:modified>
  <cp:revision>3</cp:revision>
  <dc:subject/>
  <dc:title>Slide 1</dc:title>
</cp:coreProperties>
</file>