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57F5-123B-4EA0-95EC-EAA1A7793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BDE5-2977-44FE-A1A4-1B1231306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798F-08C9-4A43-9EDB-33E1EA832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FDE1-E361-46EF-A23A-F336BF853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D61D-2080-43DA-B64E-2FF595682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B552-0B16-4C19-B26C-50002D69D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686D-BC12-40DE-91A0-40587407B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AF70-E9D8-4685-AFB7-26F3F531F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B687-D59C-4D4D-8B58-08F820DE9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30FD-6330-4F7F-A2B1-B3989F3A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3159-B79C-436C-BD01-C1AADCA6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751E-753B-411C-8F6D-2A554F74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709BD-504B-49B5-AD48-D681AA3265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thical Dimensions of Nur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904760"/>
            <a:ext cx="64008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 ethical standards set forth by Saudi Nur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knowledge the dignity and worth of each individ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 issues related to patient’s rights from a nursing persp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mportance of eth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hanging nature of socie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ing nature of health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eed to protect the interests of people requiring or receiving health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ncreasing complexity and diversity of moral problems facing nur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ent moral accountability and responsibility expected of nur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king Ethical Deci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icult choice exists between actions that conflict with needs of one or more pers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al principles exist that can be used to provide some justification for the 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hoice is guided by a process of weighing reas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king Ethical Decisions (cont’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ecision must be freely and consciously cho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hoice is affected by personal feelings and by the particular context of the sit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hancing Ethical Decision-ma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oming aware of personal values and ethical aspects of nur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oming familiar with nursing code of eth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king continuing education to remain knowledgeable about ethical issues in nur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hancing Ethical Decision-ma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pecting the values, opinions, and responsibilities of other health care professio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cipating in or establishing ethic ro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ng on institutional ethics committ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ving for collaborative practi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on Ethical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V/AIDS cl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r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 or tissue transpla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-of-life deci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-containment issues (resource allo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aches of client confidenti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1532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de of Professional Conduct for Nur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feguarding and promoting the interests of patients and socie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hold and enhance the good standing reputation of the nursing profes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a means for nurses to exercise professional self reg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de of Professional Conduct is derived from the following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25142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un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vacy and confidenti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irnes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oun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09480" y="21337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y with cod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national health care initia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tain high standards and report, malpractice, suspect unethical, incompetent or unsafe c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honest and trust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 to promote interests of of patient.et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gn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09120" y="13712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ote, protect and advocate the dignity and respect of those patients who are vulner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the individuals value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pect the person regardless of race, sex, language, personal attributes,  nationality, social status, or the nature of their health probl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engthen patient’s confidence by giving adequate information and involving them in decisions regarding their own ca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va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acy is limiting access to a person, the person’s body, conservations, bodily functions, and objects immediately associated with the person unless access is necessary to give c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fidenti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dentiality means protecting all confidential information concerning pati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ing patient’s secrets obtained in the course of professional practice, does not entitle the nurse to hint at them in some way that exposes those secre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losure could only be made with cons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vacy and Confidenti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sure that the patients physical and emotional privacy  is protected at all times.Protect patients body from being exposed unnecessary while performing any proced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sure patient privacy when obtaining health personal inform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rain from obtaining information which is unnecessary to provide health c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tain patients cons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tients Righ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38080" y="1676520"/>
            <a:ext cx="784872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ients right to health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ight to make informed deci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ight to confidenti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ight to dignity including the right to die with dig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ight to be treated with resp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3T08:18:06Z</dcterms:created>
  <dc:creator>fiveashb</dc:creator>
  <dc:description/>
  <dc:language>en-US</dc:language>
  <cp:lastModifiedBy>Mutazz</cp:lastModifiedBy>
  <dcterms:modified xsi:type="dcterms:W3CDTF">2011-12-25T13:14:51Z</dcterms:modified>
  <cp:revision>5</cp:revision>
  <dc:subject/>
  <dc:title>Ethical Dimensions of Nursing</dc:title>
</cp:coreProperties>
</file>