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9D7-D71D-4CC9-B094-6FC1357D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0E1-F382-424E-91C4-0C77FEE6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99E-5C48-4F13-9405-97C8FA67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1DF-8E6E-4086-88B0-23F12A55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1A42-E516-462B-9AA6-A08F85D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EDA-A48C-41F3-A488-11AEDEE6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FE2-1A33-4998-BACE-C089AE01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DC5A-1B7B-4F01-A96E-262BCD0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57FA-DE1B-4D40-9631-9598B53F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AA9-A4C0-4343-9183-F3B3E55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C22-24FE-47C4-94B4-F7DBD4C2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F65-00DC-4DA4-8596-FC605E18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F979-A493-4454-B34F-DBCD49F65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ical Dimensions of Nu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ethical standards set forth by Saudi N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knowledge the dignity and worth of each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issues related to patient’s rights from a nursing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mportance of eth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anging nature of socie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nature of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ed to protect the interests of people requiring or receiving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increasing complexity and diversity of moral problems facing nur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ent moral accountability and responsibility expected of n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Ethical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choice exists between actions that conflict with needs of one or more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l principles exist that can be used to provide some justification for 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guided by a process of weighing r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Ethical Decision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must be freely and consciously cho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ice is affected by personal feelings and by the particular context of the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Ethical Decision-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aware of personal values and ethical aspects of nu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ing familiar with nursing code of et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king continuing education to remain knowledgeable about ethical issues in nur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Ethical Decision-m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ing the values, opinions, and responsibilities of other health care professio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ng in or establishing ethic 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ng on institutional ethics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ving for collaborative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Ethical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V/AIDS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or tissue transpla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-of-life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-containment issues (resource al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ches of client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of Professional Conduct for Nur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feguarding and promoting the interests of patients and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hold and enhance the good standing reputation of the nursing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means for nurses to exercise professional self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of Professional Conduct is derived from the following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514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 and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r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y with co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national health care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high standards and report, malpractice, suspect unethical, incompetent or unsafe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honest and trust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 to promote interests of of patient.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, protect and advocate the dignity and respect of those patients who are vulne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individuals valu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ect the person regardless of race, sex, language, personal attributes,  nationality, social status, or the nature of their health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en patient’s confidence by giving adequate information and involving them in decisions regarding their own ca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is limiting access to a person, the person’s body, conservations, bodily functions, and objects immediately associated with the person unless access is necessary to give c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 means protecting all confidential information concerning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ing patient’s secrets obtained in the course of professional practice, does not entitle the nurse to hint at them in some way that exposes those secret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 could only be made with con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vacy and Confidenti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at the patients physical and emotional privacy  is protected at all times.Protect patients body from being exposed unnecessary while performing any proced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patient privacy when obtaining health personal in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in from obtaining information which is unnecessary to provide health c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atients con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tients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s right to health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make informed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confidenti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dignity including the right to die with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ght to be treated with resp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8:18:06Z</dcterms:created>
  <dc:creator>fiveashb</dc:creator>
  <dc:description/>
  <dc:language>en-US</dc:language>
  <cp:lastModifiedBy>Mutazz</cp:lastModifiedBy>
  <dcterms:modified xsi:type="dcterms:W3CDTF">2011-12-25T13:14:51Z</dcterms:modified>
  <cp:revision>5</cp:revision>
  <dc:subject/>
  <dc:title>Ethical Dimensions of Nursing</dc:title>
</cp:coreProperties>
</file>