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BB88-B21E-4E67-9552-78E3A689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0BF1-0FB9-49BF-803C-D1922777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1879-A550-4534-B3EA-D157C856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2C9C-6900-40E3-8A42-15B94593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2DAA-9B47-4E1F-9E52-9AFE8A5E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4D9E-061C-47BC-B27D-4FDAAFED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A908-DC39-4538-AC5E-71D739F7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23FD-2E08-475E-A052-ABCF2528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E057-8CAA-4888-853B-BE1962A4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7785-B5A0-4464-B130-D328C818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25CA-B441-4947-8902-472E70C1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FDB-79FA-4F8E-A2FB-DC81D4D4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3E8A-DFDD-4269-BE1E-87DE4F14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1A89-1C23-4778-8CA7-F1608246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A2D6-40F1-4030-A428-DA9E5ECE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DB80-DA85-4DA4-8A6B-FC9BD08A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F553-CCF4-4555-9301-DAC10C52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40051-8C30-43F0-BE88-157386B2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67BA9-B579-4A50-A4B5-6F026DD9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6BF0B-C2F0-4D74-8008-70DA55A6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AD54D-ECE1-4F70-8E89-B28C7606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78126-58BB-4F63-A455-62CD03E1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BCB2-828F-4554-9AF4-7871F2AA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F9B9F-5229-426D-A7E6-584E926D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E8B7A-125A-402D-BCB2-0874C884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F812A-CFC6-4232-A9F4-584D76BF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0D8F7-6931-4F22-B94A-242EC83D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8093A-8C37-42E3-AABB-AF8160AB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60E49-6CC0-4128-925B-6AA3DDA7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8722A-7A0E-4576-BD31-6AD2C0C1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0F6CE-B545-4C4F-9596-3B6D1C6F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91110-B4BC-4DF7-B676-425CDD5D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9FA2E-361E-445F-87ED-4CA37429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D4B1-37E3-423F-A851-866A7F73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86AA8-E983-419D-A3D4-67147FE1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AE439-DF24-4005-89F4-6C3A2133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751D1-CAF1-4D38-9B46-B0C4A34E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D52CD-8A71-44C3-AF72-FD819E47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E3E53-2D06-434C-BBCB-467E4F1E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9F608-90C1-4CDB-A0EA-B2D50E5F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800B9-52C7-41B6-B2B3-B510EB22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3D33D-8347-4E64-9EE8-5E6BE417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5F877-C970-4C9F-8DB9-593F5F6A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50997-2143-488A-B5BF-616F3298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CCE5-7CAF-461C-A43D-A52B6B55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170AE-D3D2-424A-99B7-91454CA5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BE61D-5F1A-408C-88A3-E82625E8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CDFA1-D755-4FF7-90AA-AB433906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9F001-3D67-497E-A19F-408F0653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7703F-92E4-4E05-855C-16D5503E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CDD12-042E-464D-BCB3-4F1F574B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FCFF5-375D-42CB-9172-4C1CA79B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7DB79-48A6-4BFC-A6D8-1C7FEE91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5C191-BA0E-4A7D-8FDB-D85F2BF2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670E0-F556-47C9-A402-7F7A75B2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2B31-B4D8-4230-B738-EAB149D5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9A69B-22AC-4C9A-A233-352BFBAC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C2A0F-D410-4247-9F01-D2FD22C2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64358-B77B-44C3-A162-1FB7AC86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2E4CB-F37D-480A-B6E4-F569EEB7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534BA-EA7C-40C1-8EA6-D65C8897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E2152-C114-4F99-9B69-4232DE0E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FCABE-BFD9-4BA8-9B1D-2F10B2FA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716B6-7838-418D-9A67-A05BB18D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D7E30-6866-4E00-A0D4-25A197B0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06E65-5362-4A9D-85F4-0A4A4C7F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E107-90F6-44EE-A26B-5850BDEF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51135-DE82-460B-83C9-5541A4B7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3C039-D7D8-414F-B978-8F21868D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5E8C3-DFA6-469D-92D2-341D2F6A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9D14A-F865-45F9-9AEB-E9C9FD20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BF6A0-E99F-417B-85EE-BB40016D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6469E-1682-403F-924C-BBE85FDA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F2FA4-A459-4929-9312-C5AFD305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5B72B-D256-4A77-B9E5-73ACF19D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C9C17-FAA1-4D85-800C-ED4BF7BE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60255-2CA4-4574-8E5D-74A3A3DE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7D6-5CF1-4530-959B-882B611A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0F0C1-C005-4861-9F17-1A3B6FBB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81020-1BE9-4E8F-835B-536118DB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26E5A-BA29-4485-AE0E-25ABB3E7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83563-C9A3-40E4-B961-04B9C747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32DA8-66A0-49C6-8984-3FE0E9E3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C7565-6DBE-4CAD-8B9D-D94ACD4E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E7114-6A55-4E8E-96E9-5EAC1246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7D667-D393-4083-BC18-47AF1B78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61748-E621-4876-881A-2C778DFF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DF478-0860-4F89-8F03-25AF8925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57BB-6DB9-449A-BC4B-57AD7A99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4D891-FB74-4E01-A443-A36ECE0E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0EF5D-1E81-49EC-B7F8-994F49AE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9D3D7-6CC7-48AB-A44D-026DF620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EF656-8204-4830-BEC7-72B59981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A5C98-1671-4A06-97FB-2B6954F2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E3487-FBEA-47A8-8BBF-CD6615B4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ADBBC-BFCD-4019-8D42-B58BF4F0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6938-5385-44A9-94F9-C2EBBC5031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01CF-A0BE-4145-910F-BA75547562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8BF1-D1DD-4207-87DD-8F79A7BF26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C960-58FD-42C3-84C3-6DC11ED98D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5EC4-7A67-4DF8-8D54-4A9816D9C6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97DB-395C-43DF-8478-B5134165C9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71E1-6EE9-4E16-8FA4-1D80415D6F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AEBF-445C-479F-A798-FD759C0493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Video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3" name="Rounded Rectangle 3"/>
          <p:cNvSpPr/>
          <p:nvPr/>
        </p:nvSpPr>
        <p:spPr>
          <a:xfrm>
            <a:off x="2081160" y="2971800"/>
            <a:ext cx="5105520" cy="175248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5" name="Rounded Rectangle 3"/>
          <p:cNvSpPr/>
          <p:nvPr/>
        </p:nvSpPr>
        <p:spPr>
          <a:xfrm>
            <a:off x="2133720" y="2666880"/>
            <a:ext cx="5029200" cy="175284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7" name="Rounded Rectangle 3"/>
          <p:cNvSpPr/>
          <p:nvPr/>
        </p:nvSpPr>
        <p:spPr>
          <a:xfrm>
            <a:off x="1981080" y="2895480"/>
            <a:ext cx="5410440" cy="167652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3"/>
          <p:cNvSpPr/>
          <p:nvPr/>
        </p:nvSpPr>
        <p:spPr>
          <a:xfrm>
            <a:off x="2133720" y="2819520"/>
            <a:ext cx="4952880" cy="198108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1" name="Rounded Rectangle 3"/>
          <p:cNvSpPr/>
          <p:nvPr/>
        </p:nvSpPr>
        <p:spPr>
          <a:xfrm>
            <a:off x="2514600" y="2590920"/>
            <a:ext cx="4419720" cy="213336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3" name="Rounded Rectangle 3"/>
          <p:cNvSpPr/>
          <p:nvPr/>
        </p:nvSpPr>
        <p:spPr>
          <a:xfrm>
            <a:off x="2286000" y="2895480"/>
            <a:ext cx="4952880" cy="198144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12:28:10Z</dcterms:created>
  <dc:creator>ASUS</dc:creator>
  <dc:description/>
  <dc:language>en-US</dc:language>
  <cp:lastModifiedBy>Administrator</cp:lastModifiedBy>
  <dcterms:modified xsi:type="dcterms:W3CDTF">2012-03-12T07:25:03Z</dcterms:modified>
  <cp:revision>3</cp:revision>
  <dc:subject/>
  <dc:title>PowerPoint Presentation</dc:title>
</cp:coreProperties>
</file>