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C0B1-34C3-4BB8-B45D-0BD19C7C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061-3CF6-47C8-8C01-44B07B14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879-F703-4EEA-B486-1E9BDA06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7C0-AB23-4902-8657-7815D27E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3DD9-CB76-4B77-8E09-24AF8BC2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84EE-082B-4B23-939C-5675F1F3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FC66-8C75-405B-B710-D364A7ED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D5AC-6F6B-41CA-B207-8CA6CEA0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56D4-EFB2-4FCA-B447-3C2723D0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2B3B-F643-4345-8A1D-F58D4101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E218-4C56-4416-8429-09BDB212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612-2982-46B9-8D4D-7D9E3202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49CB-AE02-421B-92C2-8508E4D8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1DD4-AA00-4974-8E15-B277A3B0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8EBC-F08B-4A8A-B8E3-C798F309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BFD2-AB9B-493F-8D80-85ED5018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69AB-49AD-4D74-A651-4819CB73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C20A5-9B47-4974-AA47-37832315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DA72-B878-447A-83CB-61BC667E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36AE5-6A58-4C84-B670-274D1EEC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B4BB9-8293-42C7-A4DD-B4A5E6F1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D1034-6FC1-446C-8B65-E5377A95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DDF-8B43-4D14-8744-1D3F64B0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8E9AB-059C-4DA5-91B1-C812D9E3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6ADED-ED86-4C5D-A54B-2E316A9F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ED2F3-87DC-4FD7-832D-AF1881DB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24A8C-A86E-4CB9-B26C-77B3411E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A4D4D-37FB-4083-80BD-11875AA7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E3AD3-B496-4D51-B368-554D5FB1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2E06F-7FEC-413E-8E4F-0BAC44E8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ABD82-6A6D-4129-ADCC-0DE0F79D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0EFC1-10C1-4532-8394-7D04FD15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0A400-4766-462F-8884-CABD1468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918-AD55-41EC-971A-378E14CE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67582-24E2-42B6-9C0B-7245EBB7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C0189-99D0-451D-8374-D7564F31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003FA-3888-45EC-8A20-3076F5A0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32ABA-BE5F-48A6-B8EE-36C18B68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D9277-8604-4B10-96C1-17AA1272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62064-F8D5-4787-823D-F318EE3E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61815-E72F-4920-8D37-AC2E5BC1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40B94-E519-47DA-B51B-69D428A4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88D10-5E62-4D14-AB05-07D43C4C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488E0-6C30-4EF9-A86A-A5592112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E2C-7158-461D-8DE7-00F2571A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8AC74-5957-481A-8533-E45B65FB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F6E73-C720-4956-8B6A-2156A8AD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980CB-67B1-45C5-8EEE-13E01F88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F5DB4-0E5A-4F69-9A8F-8385EF24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26861-497C-45B2-962F-DA09A938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8BD2F-2781-46D1-BF9D-530DE05A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F8220-50AB-4993-843D-B130193F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25C65-BBC9-422C-96E1-028C328F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D203D-BF75-4E19-91C3-F3C8E69A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378C1-9482-4CF8-BF9C-A73DDE57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2B96-F453-49D6-BBE4-14440A8B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09B03-83A0-489D-B32D-7DB09AD6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5CEB6-BC26-4C92-8455-6D6CA758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C4D46-279E-4D30-8A00-A4D7354D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C1971-7E26-4017-8145-B13D2EA8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0FB45-97CB-41C4-846B-620B3CB7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0536B-E99A-45BA-A5D8-337DA805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95D43-30C5-4DB6-9B94-66A5127D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3E063-F25C-4629-8504-A6C61EC0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10B35-E2BC-4F1F-8687-3869782D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13AF8-88EC-4FD5-9820-2A4CE60F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120-E4FF-4F60-9129-6D904F7D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40A4E-D5F5-4822-9DB5-2FBEA385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DC9B0-BA83-46F2-B3AB-51E14F54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07A2C-2BAA-4FF9-8C45-AF655254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344B0-E342-4EE0-BD89-F813A4D2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35DD3-DF0A-4935-A51F-3F128AF9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FAEE1-4AD8-4FEB-95C2-D554456A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A650C-9A0D-4918-B671-9AB0BCE3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E6B26-086B-44CC-A24F-4A34496B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49348-197C-485B-8F2D-7ADCD060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DA153-69DE-403A-ABEA-8C14C304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360-6325-4786-8382-824E1FB9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7279E-92BC-4E18-A1F1-C8E91A15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12188-D094-446C-99ED-2259DE82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25211-5A8D-4035-BC0A-24A8E06A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D19BF-9DE9-42A1-B2F1-DE3B4E14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C2489-FB00-4BE1-AFC7-F54EFFE8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4B34C-0B5F-48F7-BB8E-473A80BE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94CC1-AC34-47B2-8A5D-7ABDA261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F4E7F-B2A7-4D84-AE74-2780BE25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9FAAE-4736-4E10-B908-51383963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1689A-05E8-4C52-B212-63E29860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02B1-65C7-4AA9-ACED-9A86AC2B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20C15-4669-40F9-89ED-A5EA8936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CF748-3BB0-465E-B995-8FDC548C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A4245-4E5F-4901-92D7-5A2E7A32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E4AD1-B8B1-4942-ABFB-C671C7E7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FC764-41CE-43E0-9B79-DD6C9C5B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C8C88-630A-4DCB-BF31-3067856F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43090-05C3-4A80-B2B1-A3D25F0F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CD64-31A9-4311-9694-37C4419C23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F4FB-18B9-4C89-A94F-972A2CD385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9EDE-C901-4058-9F14-8494BB9F5A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1384-7168-41EE-92DF-7BB0FC847E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0E11-8D2B-4137-94C5-86E73E8ED0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2179-9ACC-4772-864B-F45FC11290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F24D-A362-4470-BCE0-B070CCE746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0D2F-1441-45AB-9DEC-AAB16BC358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Vide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3" name="Rounded Rectangle 3"/>
          <p:cNvSpPr/>
          <p:nvPr/>
        </p:nvSpPr>
        <p:spPr>
          <a:xfrm>
            <a:off x="2081160" y="2971800"/>
            <a:ext cx="5105520" cy="17524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5" name="Rounded Rectangle 3"/>
          <p:cNvSpPr/>
          <p:nvPr/>
        </p:nvSpPr>
        <p:spPr>
          <a:xfrm>
            <a:off x="2133720" y="2666880"/>
            <a:ext cx="5029200" cy="175284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7" name="Rounded Rectangle 3"/>
          <p:cNvSpPr/>
          <p:nvPr/>
        </p:nvSpPr>
        <p:spPr>
          <a:xfrm>
            <a:off x="1981080" y="2895480"/>
            <a:ext cx="5410440" cy="167652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3"/>
          <p:cNvSpPr/>
          <p:nvPr/>
        </p:nvSpPr>
        <p:spPr>
          <a:xfrm>
            <a:off x="2133720" y="2819520"/>
            <a:ext cx="4952880" cy="19810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Rounded Rectangle 3"/>
          <p:cNvSpPr/>
          <p:nvPr/>
        </p:nvSpPr>
        <p:spPr>
          <a:xfrm>
            <a:off x="2514600" y="2590920"/>
            <a:ext cx="4419720" cy="213336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3" name="Rounded Rectangle 3"/>
          <p:cNvSpPr/>
          <p:nvPr/>
        </p:nvSpPr>
        <p:spPr>
          <a:xfrm>
            <a:off x="2286000" y="2895480"/>
            <a:ext cx="4952880" cy="198144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2:28:10Z</dcterms:created>
  <dc:creator>ASUS</dc:creator>
  <dc:description/>
  <dc:language>en-US</dc:language>
  <cp:lastModifiedBy>Administrator</cp:lastModifiedBy>
  <dcterms:modified xsi:type="dcterms:W3CDTF">2012-03-12T07:25:03Z</dcterms:modified>
  <cp:revision>3</cp:revision>
  <dc:subject/>
  <dc:title>PowerPoint Presentation</dc:title>
</cp:coreProperties>
</file>