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3C1-4B9D-4B7F-A668-CC5EA48A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E21-42AB-4FAF-B3BD-2C0A9551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239-950D-40D4-BED3-1CB78210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468-48B9-4FF0-A4A8-EEF815C4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5BD-53DF-4A99-8BCB-D66A735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C0D-AB39-4521-9EB8-9EB80AE9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D11-38C7-4495-B053-EB111C9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9FC-C11D-4AF9-A424-11698BEF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578-4925-4E82-A035-3BB723E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19-D35C-4236-85E1-FE31D9A0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33C-CF96-4C0A-B339-83A34173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E64-7327-4940-A2DB-B417F57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F9E1-6B66-4076-8C3E-CAF51D76F0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5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9436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4952880" cy="412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4280" y="2266920"/>
            <a:ext cx="3114720" cy="405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419720" y="5105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para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t 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04:48:59Z</dcterms:created>
  <dc:creator>خالد</dc:creator>
  <dc:description/>
  <dc:language>en-US</dc:language>
  <cp:lastModifiedBy>خالد</cp:lastModifiedBy>
  <dcterms:modified xsi:type="dcterms:W3CDTF">2013-03-06T04:49:22Z</dcterms:modified>
  <cp:revision>1</cp:revision>
  <dc:subject/>
  <dc:title>Slide 1</dc:title>
</cp:coreProperties>
</file>