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75ED-E353-450C-9255-C77DE783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21E9-A2D4-46CE-9983-FCC72A6B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A12-EC11-4C52-968D-0B48F2AB7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28D4-D070-448F-A814-ABB138066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439-03B6-4612-AB32-D203562D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74D0-E0F1-4F52-A544-98CDC69BF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512-7BFE-4282-9F92-803EEC25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0D56-CD22-4A4A-B5C0-3E7D2C08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BEA-F8A4-4861-9B26-E858498A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D095-1475-437A-8374-47A82DDC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4CE7-2F10-48B1-BD8B-98107D66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EEEE-ACEA-45BF-B0A3-4E3A85C5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C3A5-3E90-4C71-85B1-85C3AAE26D4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696080" cy="5541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81280" y="380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nim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Me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81480" y="594360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ached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733920" y="380880"/>
            <a:ext cx="4952880" cy="4127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14280" y="2266920"/>
            <a:ext cx="3114720" cy="4057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419720" y="51055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eparated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620120" cy="5334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05320" y="380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lant Mei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6T04:48:59Z</dcterms:created>
  <dc:creator>خالد</dc:creator>
  <dc:description/>
  <dc:language>en-US</dc:language>
  <cp:lastModifiedBy>خالد</cp:lastModifiedBy>
  <dcterms:modified xsi:type="dcterms:W3CDTF">2013-03-06T04:49:22Z</dcterms:modified>
  <cp:revision>1</cp:revision>
  <dc:subject/>
  <dc:title>Slide 1</dc:title>
</cp:coreProperties>
</file>