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4B4-28A6-49D6-9087-0F9BFBC4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0D6-5C4C-4642-ABD6-1474E6AC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061CC-28E3-47E1-8941-22451364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984D7-FC3D-434C-9127-7BD18430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2045D-D6AB-4CE1-B6CB-83003DF4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AFE98-9F0C-4D24-A7DE-9E060CBA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5FFD6-3103-421F-B40B-15C0F90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E04AC-2FDF-4C5C-9B68-D77840C0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F29E3-AEBE-4E61-8658-599C2BAF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47681-F883-4BC7-8A5C-EC2EF129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1DE54-2D38-49F5-BDBB-8A6F539B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E84A9-829F-4EA8-AB49-6CD02235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F0B-4301-475A-993A-8E0B6418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79C97-F6B8-4B9B-B912-FE2A251B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EDBB8-664A-413D-92F7-BEBBA1B7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AC35D-68E3-4A03-B40A-6F3DBB15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1D133-353E-471E-A5AF-4B9F35D1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25950-AE0F-4130-ACAD-8FA67BCF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F370E-CD29-4493-8B3B-AA31B649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40BAD-0740-4BAC-9E84-4BE7804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8F6C8-11FD-460E-82A9-3262F40A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3D06D-6F03-4D53-8D69-F9BC771C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E455A-F1EA-452F-8F2A-5B84DCFD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85F-F4DF-43AC-9B75-97D118CB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D4BAC-7D7C-4B3F-8E0F-9573D3D5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3931D-1EC7-46C2-A34C-11E55E90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D1209-2D62-4AE0-8C3F-64934602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96369-1E55-4947-833B-CDD7B762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FBF73-7F1F-4F56-9304-4A43F991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1B26E-C767-4D75-9D36-553A70F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9B09D-F783-44B3-BAC2-4C8D170D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BC97C-AFE6-4443-B7A4-8DECC8FF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7A84B-BC34-4F7C-9012-D87197C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E6877-11D2-4CE8-A3B8-98ECF084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02617-17C9-4857-AED5-35BAB98A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74C15-4E47-42A7-826B-29E8A21F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65E2D-DB04-4F45-9873-F13DE588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0AD80-3BBF-4A74-ABF8-FCF7EC67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E5300-D524-43CB-9E07-76DB0197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E43F0-E446-445D-B758-3635611B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27B76-F702-4D70-9880-113A05E1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46F08-395E-4090-AC9C-545200F7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A91C9-DFC7-4205-B48D-1317E202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7DE88-7235-48CA-8DF2-7FEFFE3F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D2DEA-E8DF-4696-97AF-515FB004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AFDA-4844-44D5-8EF0-74904BBC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81B99-415E-4CB2-9890-1D3EF884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B5FD8-BEEC-43CB-A1C6-B6FB1B27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8DC29-F862-4945-82C1-FB3A1283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F5216-0DD4-4E92-B211-7151B963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675CF-48E6-4B7A-836B-86937B4E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6ED5-40C8-4E69-B017-9F9E0F7E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43F8-027A-4231-8F55-1AE92E97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36B3-5D03-460B-97F4-7E7E421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5C86-FBAA-42CF-93C5-8C1980F4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10DD-C4A7-4EE6-BF68-5CFF8335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5AC-43B4-4625-99D6-C3165173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E3D3-F1F3-4AE5-95F3-99D300D4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62DB-989E-4D43-9AEA-D74217F0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CA0B-6DF2-4F44-B054-3325C3ED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A671-D654-4F4C-BE5A-64137ADD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9F89-071A-44D2-990C-A0897DEB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639C-01DE-4981-A460-CB9CB348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7C5E-F8EC-4DC0-9269-27C9076E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E5DB7-0DB7-4A54-8231-76BBF2E5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48323-0459-4C3C-BF30-18336F60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FB0E-3997-4949-BA5C-15A8E228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5D9-BA15-49A4-87A2-CCE1719A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60D4E-1E5A-480A-AF75-90E17E0F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FEA5-CA77-46C0-B4CC-A2EEB9E0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C7E93-9C3E-4321-B3B8-E97CEBA5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AAF3-46B0-4451-9D27-BD945E31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98FE-5AB1-47FA-93CD-6E390829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FB1D-7AC4-4652-88EE-621701B4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AEA3C-7DF2-4027-9920-48406703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20B38-C27B-4F7F-8776-AB7F2064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F377D-AE26-490D-A5EE-D17A1626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3929-C705-4186-9812-2CEECB05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A4C-D344-4B8C-B75B-7AA09D9D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D6DF-B404-44AE-9161-EB23B5A9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E882-EA34-4065-80F2-45900B50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BDB4-AE30-4AB7-95B1-49D80759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3B4BE-50EB-407F-BE6C-7CEE364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FD6C6-AF66-4A25-9AE5-79BC0AE1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67F9-3D26-4658-81EB-119721E9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EDA4-4621-4EBB-9A43-6AF76090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EAB1-5DA4-4B4A-81CE-6BE3B135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DF276-D684-4FB8-B154-E3640413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A77D4-C614-4596-A881-2B187FE0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C5D-57CE-497A-8C30-69FDDC0D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1BFB-273C-422F-87C5-8F16EB6F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2C2B-F787-4F21-949C-D906A905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CC4D3-5EFF-4D65-867F-9848B42B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A5DD6-831F-418B-8E88-28E6D18F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34E91-2876-496E-848F-A629C7CF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DBD5A-01B7-4BD6-90B6-D6E18C49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BAB5A-A3E6-4EE8-82FA-787CC73F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F89C-48E2-4CAD-BA26-01B9944A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BBC73-677E-4627-BBE1-1611CA6D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C248C-80B7-406B-B67D-5A902F7A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FFC-F353-4334-A07F-88B81BFD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40698-EDA5-4EDA-BAA4-36E6EAA9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29D9F-09D5-4AB6-BE92-5C3C7DD6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B293-ACE2-4693-9D4A-773950DF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BE906-7714-4985-B42A-30EAA597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04631-253A-4F5F-8C7F-43D038C2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35669-801F-4A20-9EE6-B27A45AA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4B04F-2CC6-4BA5-A4B8-9C020EB7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B872D-7C38-464E-8B46-DF54889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6B154-A93A-443A-9121-E8B1C673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A0D2C-7A3A-4C04-AC4A-9621032C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669-0968-4BFA-A4FB-270FBC03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AB067-5CA9-40DC-93D0-261A671F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E85F6-633D-4B43-8111-61F43A0C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BF0A7-7425-4C8F-9F07-B1F62B8B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0B9AC-20EF-4A7E-9B82-2812218B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CA77B-99BE-47D5-B891-D5BF2E01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7F8A3-76BA-4354-8A1E-8EB4812F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6D41B-8BB6-4B80-A1EF-3BB5100A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59E1F-82F9-4E99-9909-44AD752E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1056B-611D-476C-B897-971E6CB9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8BBE-9C9D-402C-ABD4-BCF70C1D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558-A9C7-43BA-9448-A91A2FA6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AA35F-4936-4E8C-A28F-2C1E70FA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A9D4F-4E45-43D3-8AAA-9806D6C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86257-1BEF-4F76-8276-26274373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8DF17-569C-4A2D-97A6-422E3C4C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AE3DC-DC82-424C-88E6-4F76B760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EE925-4601-4C5E-8B42-0DFE25FF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B10E8-69CF-4E09-B981-24AC0CC6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D1E09-D283-4C2E-94E7-76F73FFF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43207-9F44-4C1F-BBC9-EC35F182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A4544-1495-428F-A01E-A740EB92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246-1A64-454F-B95C-CB94C618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D4871-4709-4877-AA8E-9A7CA47B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B9A86-AB26-462E-8097-F7AAEAA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5740B-48AF-4C04-82EC-EA158637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8C1F0-9E37-4479-9EF8-897EE26C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2F09B-E5EC-416E-8963-C5751D48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FEE3F-0D1C-45C9-971F-95AE8AAC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AF9DF-0398-4742-B51C-26CD64F9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93081-4787-40B9-8F9C-A91D0265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4520E-3483-4C31-9717-EC9A19E1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6813E-CAFC-4E81-93FA-C89D0093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3EF4-67F2-4FF7-8107-07C0D9D2433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884D-4303-47F2-836B-1219AF7DE77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FD4C-8BE5-463A-BEEB-A7EF96E36CC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A036-4B78-433D-A9F1-B4C35B980C2F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BFC6-9B7F-40A7-87CA-FAA13A15FED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471A-7749-4DE1-AB58-5141D8245A5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01D0-A27B-4B2C-8A16-C9B4A8DBAB4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4CCE-C496-4496-BF9F-62D45DC5342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B75B-A008-4959-8BF2-3075D1681E9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CF1F-88B1-4ED4-802D-80544FC059D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FCF5-0B85-4C3F-A102-BAC9ACE8FE8B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D85E-9DF0-4057-8A48-CD7F6427247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ff"/>
                </a:solidFill>
                <a:latin typeface="Cambria"/>
              </a:rPr>
              <a:t>Fatty Acid oxidation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ff"/>
                </a:solidFill>
                <a:latin typeface="Cambria"/>
              </a:rPr>
              <a:t>α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-Oxidation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41" name="Content Placeholder 2"/>
          <p:cNvGrpSpPr/>
          <p:nvPr/>
        </p:nvGrpSpPr>
        <p:grpSpPr>
          <a:xfrm>
            <a:off x="103320" y="1731960"/>
            <a:ext cx="5048280" cy="4132440"/>
            <a:chOff x="103320" y="1731960"/>
            <a:chExt cx="5048280" cy="4132440"/>
          </a:xfrm>
        </p:grpSpPr>
        <p:pic>
          <p:nvPicPr>
            <p:cNvPr id="54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03320" y="1731960"/>
              <a:ext cx="5048280" cy="41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152280" y="1752480"/>
              <a:ext cx="4953240" cy="40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α-oxidation occurs in brain tissue in order to oxidize short chain FAs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Inα-oxidation,there is one carbon atom removed at time from α posi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It does not require CoA and does not generate high- energy phosphates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This type of oxidation is significant in the metabolism of dietary FAs that are methylated on β-carbon e.g. phytanic acid (peroxisomes)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r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4" name="Picture 4" descr="Screen Shot 2012-04-13 at 9.19.57 PM.png"/>
          <p:cNvPicPr/>
          <p:nvPr/>
        </p:nvPicPr>
        <p:blipFill>
          <a:blip r:embed="rId2"/>
          <a:srcRect l="-737" t="-200" r="10637" b="205"/>
          <a:stretch/>
        </p:blipFill>
        <p:spPr>
          <a:xfrm>
            <a:off x="5105520" y="1295280"/>
            <a:ext cx="3844800" cy="5105520"/>
          </a:xfrm>
          <a:prstGeom prst="rect">
            <a:avLst/>
          </a:prstGeom>
          <a:ln w="2844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920" y="2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ω-Oxidation Pathway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5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ω-oxidation is a minor pathway and occurs in the endoplasmic reticulum of many tissues rather than the mitochondria, the site of β-oxid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s process occurs primarily with medium chain FAs of adipose tissue which are mobilized to the liver under conditions of ketos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7" name="Picture 3" descr="Screen Shot 2012-04-13 at 9.15.05 PM.png"/>
          <p:cNvPicPr/>
          <p:nvPr/>
        </p:nvPicPr>
        <p:blipFill>
          <a:blip r:embed="rId1"/>
          <a:stretch/>
        </p:blipFill>
        <p:spPr>
          <a:xfrm>
            <a:off x="4800600" y="1523880"/>
            <a:ext cx="4343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Fatty Acid oxidat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3352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jor Pathwa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rtl="1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β-oxid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nor Pathwa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rtl="1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α-oxid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anch-chain FA,e.g. Phytanic aci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rtl="1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ω-oxid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16" name="Picture 3" descr="Screen Shot 2012-04-13 at 7.10.35 PM.png"/>
          <p:cNvPicPr/>
          <p:nvPr/>
        </p:nvPicPr>
        <p:blipFill>
          <a:blip r:embed="rId1"/>
          <a:stretch/>
        </p:blipFill>
        <p:spPr>
          <a:xfrm>
            <a:off x="1219320" y="1523880"/>
            <a:ext cx="4965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563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343080"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β-oxidation Pathway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18" name="Content Placeholder 2"/>
          <p:cNvGrpSpPr/>
          <p:nvPr/>
        </p:nvGrpSpPr>
        <p:grpSpPr>
          <a:xfrm>
            <a:off x="103320" y="1047600"/>
            <a:ext cx="5505480" cy="5645160"/>
            <a:chOff x="103320" y="1047600"/>
            <a:chExt cx="5505480" cy="5645160"/>
          </a:xfrm>
        </p:grpSpPr>
        <p:pic>
          <p:nvPicPr>
            <p:cNvPr id="51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03320" y="1047600"/>
              <a:ext cx="550548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2280" y="1066680"/>
              <a:ext cx="5410440" cy="54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Oxidation of fatty acids takes place in mitochondria where the various enzymes for fatty acid oxidation are present close to the enzymes of the electron transport chain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Fatty acid oxidation is a major source of cell ATP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Oxidation of FAs occur at the β-carbon atom resulting in the elimination of the two terminal carbon atoms as acetyl CoA leaving fatty acyl CoA which has two carbon atoms less than the original fatty acid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cc0099"/>
                  </a:solidFill>
                  <a:uFillTx/>
                  <a:latin typeface="Perpetua"/>
                </a:rPr>
                <a:t>β-oxidation has 4 steps</a:t>
              </a:r>
              <a:r>
                <a:rPr b="1" lang="en-US" sz="2000" spc="-1" strike="noStrike" u="sng">
                  <a:solidFill>
                    <a:srgbClr val="cc0099"/>
                  </a:solidFill>
                  <a:uFillTx/>
                  <a:latin typeface="Perpetua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Dehydrogenation (</a:t>
              </a:r>
              <a:r>
                <a:rPr b="1" lang="en-US" sz="2000" spc="-1" strike="noStrike">
                  <a:solidFill>
                    <a:srgbClr val="0000ff"/>
                  </a:solidFill>
                  <a:latin typeface="Perpetua"/>
                </a:rPr>
                <a:t>FAD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dependent)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 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Hydration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Dehydrogenation (</a:t>
              </a:r>
              <a:r>
                <a:rPr b="1" lang="en-US" sz="2000" spc="-1" strike="noStrike">
                  <a:solidFill>
                    <a:srgbClr val="0000ff"/>
                  </a:solidFill>
                  <a:latin typeface="Perpetua"/>
                </a:rPr>
                <a:t>NAD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dependent)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Cleavage (Remove 2C as acetyl CoA)</a:t>
              </a: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rtl="1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1" name="Picture 3" descr="Screen Shot 2012-04-13 at 7.33.23 PM.png"/>
          <p:cNvPicPr/>
          <p:nvPr/>
        </p:nvPicPr>
        <p:blipFill>
          <a:blip r:embed="rId2"/>
          <a:stretch/>
        </p:blipFill>
        <p:spPr>
          <a:xfrm>
            <a:off x="5562720" y="228600"/>
            <a:ext cx="3124080" cy="655308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Calcula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762120" y="1447920"/>
          <a:ext cx="7010280" cy="289548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arbons in Fatty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Acetyl C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β-oxidation cyc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C/2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) 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24" name="TextBox 4"/>
          <p:cNvSpPr/>
          <p:nvPr/>
        </p:nvSpPr>
        <p:spPr>
          <a:xfrm>
            <a:off x="304920" y="4495680"/>
            <a:ext cx="82296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99"/>
                </a:solidFill>
                <a:uFillTx/>
                <a:latin typeface="Perpetua"/>
              </a:rPr>
              <a:t>Note: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each round of β-oxidation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one molecul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AD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Perpetua"/>
              </a:rPr>
              <a:t>one molecule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f NADH+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Perpetu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are produced which generates 2 and 3 ATP molecules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Perpetua"/>
              </a:rPr>
              <a:t>Example:</a:t>
            </a:r>
            <a:r>
              <a:rPr b="1" lang="en-US" sz="3600" spc="-1" strike="noStrike">
                <a:solidFill>
                  <a:srgbClr val="0000ff"/>
                </a:solidFill>
                <a:latin typeface="Perpetua"/>
              </a:rPr>
              <a:t>  Energy of palmitoyl ~Co A (16 C) oxidation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28600" y="13712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Number of cycles=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n/2 -1 = 7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cycl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Number of acetyl ~Co A =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n/2 =8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So, 7 NADH, each provide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Perpetua"/>
                <a:ea typeface="Arial"/>
              </a:rPr>
              <a:t>3 ATP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when oxidized in the ETC 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7X3=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Perpetua"/>
                <a:ea typeface="Arial"/>
              </a:rPr>
              <a:t>21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7 FAD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each provide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Perpetua"/>
                <a:ea typeface="Arial"/>
              </a:rPr>
              <a:t>2 ATP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when oxidized in the ETC   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7x 2=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Perpetua"/>
                <a:ea typeface="Arial"/>
              </a:rPr>
              <a:t>14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8 acetyl ~Co A , each provides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Perpetua"/>
                <a:ea typeface="Arial"/>
              </a:rPr>
              <a:t>12 ATP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when converted to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&amp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Perpetua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  <a:ea typeface="Arial"/>
              </a:rPr>
              <a:t>O by the TCA cycle    </a:t>
            </a: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8x12=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Perpetua"/>
                <a:ea typeface="Arial"/>
              </a:rPr>
              <a:t>96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Perpetua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So total energy yield of oxidation of palmitoyl ~Co A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ea typeface="Arial"/>
              </a:rPr>
              <a:t>=</a:t>
            </a:r>
            <a:r>
              <a:rPr b="0" lang="en-US" sz="2400" spc="-1" strike="noStrike">
                <a:solidFill>
                  <a:srgbClr val="0000ff"/>
                </a:solidFill>
                <a:latin typeface="Perpetua"/>
                <a:ea typeface="Arial"/>
              </a:rPr>
              <a:t> 21 + 14 + 96 =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Perpetua"/>
                <a:ea typeface="Arial"/>
              </a:rPr>
              <a:t>131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Perpetua"/>
              </a:rPr>
              <a:t>2 molecules of ATP are used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the activation of a molecule of fatty aci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fore, there is a net yield of </a:t>
            </a:r>
            <a:r>
              <a:rPr b="1" lang="en-US" sz="2400" spc="-1" strike="noStrike">
                <a:solidFill>
                  <a:srgbClr val="0000ff"/>
                </a:solidFill>
                <a:latin typeface="Perpetua"/>
              </a:rPr>
              <a:t>129 molecules of ATP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Regulation of fatty acid β-oxidation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1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-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The level of ATP in the cell :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f it is high in the cell, the rate of β- oxidation will decrease (Feed back inhibition)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2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- 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Malonyl-CoA</a:t>
            </a:r>
            <a:r>
              <a:rPr b="1" lang="en-US" sz="2000" spc="-1" strike="noStrike">
                <a:solidFill>
                  <a:srgbClr val="cc0099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* (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hich is also a precursor for fatty acid synthesis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hibits Carnitine Palmitoyl Transferase I and thus, inhibits β-oxidation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lonyl-CoA is produced from acetyl-CoA by the enzyme Acetyl-CoA Carboxylase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29" name="Picture 1" descr="Screen Shot 2012-04-13 at 8.37.56 PM.png"/>
          <p:cNvPicPr/>
          <p:nvPr/>
        </p:nvPicPr>
        <p:blipFill>
          <a:blip r:embed="rId1"/>
          <a:stretch/>
        </p:blipFill>
        <p:spPr>
          <a:xfrm>
            <a:off x="1676520" y="3276720"/>
            <a:ext cx="5867280" cy="3429000"/>
          </a:xfrm>
          <a:prstGeom prst="rect">
            <a:avLst/>
          </a:prstGeom>
          <a:ln w="2844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Oxidation of Unsaturated Fatty Acid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5192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lightly more complicated Requires additional enzym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xidation of unsaturated FAs produce 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Perpetua"/>
              </a:rPr>
              <a:t>less energy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an that of saturated FAs (</a:t>
            </a:r>
            <a:r>
              <a:rPr b="0" lang="en-US" sz="2400" spc="-1" strike="noStrike">
                <a:solidFill>
                  <a:srgbClr val="cc0099"/>
                </a:solidFill>
                <a:latin typeface="Perpetua"/>
              </a:rPr>
              <a:t>because they are less highly reduced, therefore, fewer reducing equivalents can be produced from these structures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2" name="Picture 3" descr="Screen Shot 2012-04-13 at 8.44.28 PM.png"/>
          <p:cNvPicPr/>
          <p:nvPr/>
        </p:nvPicPr>
        <p:blipFill>
          <a:blip r:embed="rId1"/>
          <a:stretch/>
        </p:blipFill>
        <p:spPr>
          <a:xfrm>
            <a:off x="1143000" y="2666880"/>
            <a:ext cx="7010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Oxidation of Odd Numbered Fatty Acid</a:t>
            </a:r>
            <a:r>
              <a:rPr b="1" lang="en-US" sz="4000" spc="-1" strike="noStrike">
                <a:solidFill>
                  <a:srgbClr val="0000ff"/>
                </a:solidFill>
                <a:latin typeface="Perpetu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534" name="Content Placeholder 2"/>
          <p:cNvGrpSpPr/>
          <p:nvPr/>
        </p:nvGrpSpPr>
        <p:grpSpPr>
          <a:xfrm>
            <a:off x="255600" y="1352520"/>
            <a:ext cx="5127480" cy="4816440"/>
            <a:chOff x="255600" y="1352520"/>
            <a:chExt cx="5127480" cy="4816440"/>
          </a:xfrm>
        </p:grpSpPr>
        <p:pic>
          <p:nvPicPr>
            <p:cNvPr id="53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55600" y="1352520"/>
              <a:ext cx="5127480" cy="48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304920" y="1371600"/>
              <a:ext cx="502920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Requires three additional extra reactions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Odd numbered lipids are present in plants and marine organisms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 algn="just" rtl="1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Fatty acids with odd number of carbon atoms are also oxidized by the same process β-oxidation as even chain FAs, removing 2 carbons as acetyl CoA in each round of the oxidative process </a:t>
              </a:r>
              <a:r>
                <a:rPr b="1" lang="en-US" sz="2400" spc="-1" strike="noStrike" u="sng">
                  <a:solidFill>
                    <a:srgbClr val="0000ff"/>
                  </a:solidFill>
                  <a:uFillTx/>
                  <a:latin typeface="Perpetua"/>
                </a:rPr>
                <a:t>BUT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 the final round of β-oxidation of a fatty acid with an odd number of C atoms yields </a:t>
              </a:r>
              <a:r>
                <a:rPr b="1" lang="en-US" sz="2400" spc="-1" strike="noStrike">
                  <a:solidFill>
                    <a:srgbClr val="0000ff"/>
                  </a:solidFill>
                  <a:latin typeface="Perpetua"/>
                </a:rPr>
                <a:t>acetyl-CoA 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&amp; </a:t>
              </a:r>
              <a:r>
                <a:rPr b="1" lang="en-US" sz="2400" spc="-1" strike="noStrike">
                  <a:solidFill>
                    <a:srgbClr val="0000ff"/>
                  </a:solidFill>
                  <a:latin typeface="Perpetua"/>
                </a:rPr>
                <a:t>propionyl-CoA 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(3C)</a:t>
              </a:r>
              <a:r>
                <a:rPr b="0" lang="en-US" sz="2400" spc="-1" strike="noStrike">
                  <a:solidFill>
                    <a:srgbClr val="000000"/>
                  </a:solidFill>
                  <a:latin typeface="Perpetua"/>
                </a:rPr>
                <a:t>.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Perpetua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7" name="Picture 3" descr="Screen Shot 2012-04-13 at 8.51.07 PM.png"/>
          <p:cNvPicPr/>
          <p:nvPr/>
        </p:nvPicPr>
        <p:blipFill>
          <a:blip r:embed="rId2"/>
          <a:stretch/>
        </p:blipFill>
        <p:spPr>
          <a:xfrm>
            <a:off x="5334120" y="990720"/>
            <a:ext cx="3166920" cy="5638680"/>
          </a:xfrm>
          <a:prstGeom prst="rect">
            <a:avLst/>
          </a:prstGeom>
          <a:ln w="2844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Perpetua"/>
              </a:rPr>
              <a:t>Peroxisomes oxidize very long chain fatty acids</a:t>
            </a:r>
            <a:r>
              <a:rPr b="1" lang="en-US" sz="2800" spc="-1" strike="noStrike">
                <a:solidFill>
                  <a:srgbClr val="0000ff"/>
                </a:solidFill>
                <a:latin typeface="Perpetu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5228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Very long chain acyl-CoA synthetase facilitates the oxidation of very long chain fatty acids (e.g., C20, C22)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se enzymes are induced by high-fat diets and by hypolipidemic drugs such as Clofibrat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AD is e- acceptor for peroxisomal acyl-CoA dehydrogenase, which catalyzes the 1st oxidative step of the pathway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Within the peroxisome, FAD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generated by fatty acid oxidation is reoxidized producing hydrogen peroxide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AD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+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FAD +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 peroxisomal enzyme Catalase degrades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2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2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O +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Perpetu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These reactions produce no ATP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ß-oxidation in the peroxisomes ends at octanoyl-CoA (C 8). It is subsequently removed from the peroxisomes in the form of octanoyl and acetylcarnitine and both are further oxidized in mitochondria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just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5-12T19:34:16Z</dcterms:modified>
  <cp:revision>162</cp:revision>
  <dc:subject/>
  <dc:title>Slide 1</dc:title>
</cp:coreProperties>
</file>