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0EE2-D811-481C-9FC7-2CF6A7F0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613-3FB4-4900-8E1C-A870ED7A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7723D-5735-4D54-8F21-A32D2C3E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98B51-568A-449B-8281-F3A6A166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F3AE4-D960-4009-8FED-D912282D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E1EF0-BCCF-423D-90CF-E51E6549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2B6F3-EAAF-4AE2-94F4-3A64AEDA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AB7F2-D356-40DB-AD7E-806FA82D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D6402-B951-4EAC-A8AE-164D98B9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276E3-E8E8-46E0-AF25-AD5322B2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46127-5984-4CBB-8791-96F152B9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016F1-816F-4630-8E7E-A45444C6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4C2-5B76-4C97-B60E-A14F1A02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1F7B4-F4B8-4409-8843-5568A48F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A4820-3D16-46B7-8DAB-2373CD55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1069E-34F2-41ED-BE18-2F938332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26C1A-F681-4290-AE60-2812EB5B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02CB1-2B7E-4C6D-8997-803DFC12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96099-9190-4345-B313-9A3EFF28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B9A68-A380-4361-AB28-4CCB52DC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0C7DF-F599-4E3B-9161-B78399BA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F43E9-1914-4132-91DF-D3CD583E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C9E2A-2279-4BBA-9FD2-E745074A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A52-1D6B-44C4-B418-23C3A0E4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A1A01-65E5-4849-87CB-781AC8A6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E3500-A6FB-4711-A785-983424C5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103FB-76EB-4217-9DA1-F0E0B6AF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A556B-F7F0-4F42-91DF-A23EEB6E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93C6A-67C7-4296-8309-357B272C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24130-A407-4728-8AF0-7C7C699A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09C30-8D3E-4F76-93B3-8FB8021A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128BB-0657-420B-A8ED-B10ABFA1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1996B-C2CE-4FC4-8213-3DD89F6B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EC49E-6F88-467D-A0E5-54F504AD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1410-8E2A-4962-A460-5201A8C7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674F2-060E-473D-8CBE-67987CA0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4D430-6F39-422C-A4A5-8BC84F0F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2C529-31A4-4B2E-A1BC-B457FCD0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788E9-D7AA-407A-B5B2-19121950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00280-399D-4C22-8BAE-7E1ACC38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84D64-6824-40AF-8FBD-386C1559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7A66C-8F7C-48F4-BC91-77D2C0F4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F1F0D-F32A-48C5-9A6B-047E7FB3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E8C93-53F3-41ED-8556-A10680F8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3DB1C-342F-425A-B28E-4F14AEC9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7E8E-31A0-4882-AD07-FD77BC98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B4ACD-EDA9-4647-9117-79184ADB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30D8F-D7DC-4232-95B1-7B5827F8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20DB8-AB7D-4B47-9CAA-CFC1936D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5A9EA-DC80-4A66-B1F4-5D2ACA07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D02FE-9951-4B22-BB18-7B0A83D6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290D-EED0-4826-9E1E-12FFB452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AE06-20C3-41C1-83A9-21357E0B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69D8-8B44-4734-A884-6C944341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85FE-8011-44FD-AA16-21F3838F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824F-156E-414B-93E3-635A0C54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3AB-7B76-4F28-9D79-4A5B2AC9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A87B-22F8-4CA2-B9D9-3A0A61A9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E4C3-0FD8-48BA-8B98-C4A4833A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D1C3-A174-4B15-8B6D-DF680720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9463-4C14-4443-8BD9-0F52854D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8DB2-4ADC-4F54-AC4E-7BEF6AE5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A049F-760A-499A-B547-69C698E3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50369-C137-44F6-87ED-FA3FED2E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CDE5-3AD3-47E0-914F-89FFAB43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E96E4-BA48-4A2A-B65E-D1F16C14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384F5-CB48-4251-93D4-B7576E57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7E3-7E95-4853-B38E-CC5890EC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445FE-4C44-427F-A251-8F7AD733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93557-E101-40B3-9586-395AC23B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22F13-4768-417E-B40B-6C409725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D119D-E5B6-48CF-9472-9239BFEC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AF019-1327-4F28-A11A-1EF13DFB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9511-BE3D-4D10-8AB5-A8AE7E23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7231C-7112-482C-AF74-06968717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5CD04-143B-4C4C-8E88-3ED215CF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6D1A9-7ADA-40E6-AF88-E840C8BE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FDBAC-7C38-4DFD-B3A6-7BE71BC7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E33-C9A7-4D7C-B7CA-EFF3AD0D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62375-AFB2-4F45-AB70-9A8DB548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C52C1-5938-44AF-A826-DBC07EB3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13A25-9133-427F-8CE1-69A52A5A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FD4D9-CA0F-4F5D-80B1-638A3D27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4836-E14E-4AA9-9760-EE20C37F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0ED77-E8B3-468F-9356-54E88A4A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5DEF5-9C17-4405-92F4-32FB7D68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ADF6F-985C-4ED0-BB0F-29037181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D1FD7-CA0E-4D45-9452-00E9BD39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D4AFD-30EC-4F87-8415-AE76C599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912-29AB-4BD6-ACAA-51A80B39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426BA-388A-4CCD-9A29-537CB7D3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32E80-2C70-426C-A567-CF1EB68D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0BBBC-D028-4258-A5CB-1D60F8D4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FD126-4937-4B7E-A784-49026EDB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03C58-7270-46CB-9B64-3A955D9C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F4E2A-FAF8-429A-AF43-292A2B60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41D9C-A319-41A9-9B9E-DB2CBF08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20CAD-1800-4BD9-BBE0-A35E095A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316F4-DF56-44D9-BD9D-C2515CD4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A37B2-36DB-49B3-B841-DA2795AF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3B8-6212-4716-AB63-C108E75F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F8488-2E6D-4179-9A3F-25D6442C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867F9-C316-495A-96C1-0ACEF21D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36B7B-F36D-4636-B825-C7D82C0E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5BB0D-C8D2-459F-9531-E938F213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4BC6E-8FC8-42DC-8BA4-C7DE641A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7A5E1-652C-4FEE-8B95-AEC1C32B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23651-82C9-403A-AFE4-8E95F379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384D3-7434-4606-B6AF-86DBADC8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34848-C58E-42D9-B6BD-50EA74AA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62C46-23BA-4DDD-8166-E5F9A305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34E-924E-45D1-950A-0EF3F443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C7C3D-BCA6-41EA-B2E2-383930FB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6BCFE-BCEE-47B8-A2BB-754EFEE8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562B3-F8D3-4DFF-9348-B02D82AF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0027D-6DA9-4F76-9AD3-442B9E33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BDADD-0ED2-4CF6-AAAD-B8F4B78F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E7220-74A3-42C2-BBEF-1FE358E2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79535-A77D-4C40-A295-9B407070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37C10-62F8-4ED4-913C-A60694DA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8172C-21F6-40A3-9A66-4223F0EA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30F51-B3BB-45E7-833F-E950959E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B35-3D7B-4D6F-9732-891BA264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2EED4-EB6A-40B7-AECF-7C5A9409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74CC7-91DE-49EF-BA3F-9573697B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98EF4-71F4-4C51-A02E-B703DFCD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52BD4-1D0C-40DE-A040-4C65987B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455E4-7B87-4ECE-99B3-59A109A3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E4197-9A69-4F30-B4C1-01E864A1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B0010-676B-4A7D-B463-7CE467E9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17314-2429-4DEC-B797-E4E184F3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64C89-E565-4635-AEAB-1B407D98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FA63E-DD63-4C24-A4F9-5C6E5FF2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1CF-E18F-46AE-B70D-F222BC4B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ADAEE-5B87-4A72-8841-869DFA60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A8DDB-4FA6-4B3C-A7B7-C6FBCABD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5BC33-A25B-4894-8B13-6111D96D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CC40E-4D48-4642-A73B-96D6C32F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BD85F-0E91-4B58-A29B-A9F01F26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B28E0-A3F8-4ED4-8A9B-DDF55F08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1F8BF-128F-4407-9E76-9F456D60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7A515-1948-4EF5-B356-1DBD3338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1B6B0-50AC-428B-8652-D0CABB4F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AB33D-1D2F-4FFB-9E7D-F61E1C0D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8200-4DD3-408D-B422-38F9B40A359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476B-BD3B-446F-BCAB-210552B9833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6685-9FBD-4E99-9408-88934980B8F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BD83-F581-43CB-A225-F903599A724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DBD0-0D20-4B0D-9F4B-F95956982FE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1DE3-7FD9-4087-96B5-447BC39422B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2193-74A4-4036-8FE7-D64CC11C8BE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95AC-808F-4D2A-B05C-DD1987EF6A5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629C-B4D4-40A4-AF33-C49814318A7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F76F-F83A-4015-9E8B-022DD8E1847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E717-D26C-419F-B4ED-E15B9509769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9248-B4B3-45D3-80A7-A311BEAA78A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ff"/>
                </a:solidFill>
                <a:latin typeface="Cambria"/>
              </a:rPr>
              <a:t>Fatty Acid oxidation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BioLogo2small"/>
          <p:cNvPicPr/>
          <p:nvPr/>
        </p:nvPicPr>
        <p:blipFill>
          <a:blip r:embed="rId1"/>
          <a:stretch/>
        </p:blipFill>
        <p:spPr>
          <a:xfrm>
            <a:off x="6934320" y="1764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ff"/>
                </a:solidFill>
                <a:latin typeface="Cambria"/>
              </a:rPr>
              <a:t>α</a:t>
            </a: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-Oxidation Pathw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41" name="Content Placeholder 2"/>
          <p:cNvGrpSpPr/>
          <p:nvPr/>
        </p:nvGrpSpPr>
        <p:grpSpPr>
          <a:xfrm>
            <a:off x="103320" y="1731960"/>
            <a:ext cx="5048280" cy="4132440"/>
            <a:chOff x="103320" y="1731960"/>
            <a:chExt cx="5048280" cy="4132440"/>
          </a:xfrm>
        </p:grpSpPr>
        <p:pic>
          <p:nvPicPr>
            <p:cNvPr id="54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03320" y="1731960"/>
              <a:ext cx="5048280" cy="41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152280" y="1752480"/>
              <a:ext cx="4953240" cy="40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α-oxidation occurs in brain tissue in order to oxidize short chain FAs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Inα-oxidation,there is one carbon atom removed at time from α posi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It does not require CoA and does not generate high- energy phosphates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This type of oxidation is significant in the metabolism of dietary FAs that are methylated on β-carbon e.g. phytanic acid (peroxisomes)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4" name="Picture 4" descr="Screen Shot 2012-04-13 at 9.19.57 PM.png"/>
          <p:cNvPicPr/>
          <p:nvPr/>
        </p:nvPicPr>
        <p:blipFill>
          <a:blip r:embed="rId2"/>
          <a:srcRect l="-737" t="-200" r="10637" b="205"/>
          <a:stretch/>
        </p:blipFill>
        <p:spPr>
          <a:xfrm>
            <a:off x="5105520" y="1295280"/>
            <a:ext cx="3844800" cy="5105520"/>
          </a:xfrm>
          <a:prstGeom prst="rect">
            <a:avLst/>
          </a:prstGeom>
          <a:ln w="2844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ω-Oxidation Pathway</a:t>
            </a: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045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ω-oxidation is a minor pathway and occurs in the endoplasmic reticulum of many tissues rather than the mitochondria, the site of β-oxid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process occurs primarily with medium chain FAs of adipose tissue which are mobilized to the liver under conditions of ket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47" name="Picture 3" descr="Screen Shot 2012-04-13 at 9.15.05 PM.png"/>
          <p:cNvPicPr/>
          <p:nvPr/>
        </p:nvPicPr>
        <p:blipFill>
          <a:blip r:embed="rId1"/>
          <a:stretch/>
        </p:blipFill>
        <p:spPr>
          <a:xfrm>
            <a:off x="4800600" y="1523880"/>
            <a:ext cx="434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Fatty Acid oxid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3352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jor Pathwa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rtl="1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β-oxid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nor Pathwa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rtl="1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α-oxid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rtl="1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ranch-chain FA,e.g. Phytanic aci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rtl="1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ω-oxid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16" name="Picture 3" descr="Screen Shot 2012-04-13 at 7.10.35 PM.png"/>
          <p:cNvPicPr/>
          <p:nvPr/>
        </p:nvPicPr>
        <p:blipFill>
          <a:blip r:embed="rId1"/>
          <a:stretch/>
        </p:blipFill>
        <p:spPr>
          <a:xfrm>
            <a:off x="1219320" y="1523880"/>
            <a:ext cx="4965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343080"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β-oxidation Pathway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18" name="Content Placeholder 2"/>
          <p:cNvGrpSpPr/>
          <p:nvPr/>
        </p:nvGrpSpPr>
        <p:grpSpPr>
          <a:xfrm>
            <a:off x="103320" y="1047600"/>
            <a:ext cx="5505480" cy="5645160"/>
            <a:chOff x="103320" y="1047600"/>
            <a:chExt cx="5505480" cy="5645160"/>
          </a:xfrm>
        </p:grpSpPr>
        <p:pic>
          <p:nvPicPr>
            <p:cNvPr id="519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03320" y="1047600"/>
              <a:ext cx="550548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2280" y="1066680"/>
              <a:ext cx="5410440" cy="54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Oxidation of fatty acids takes place in mitochondria where the various enzymes for fatty acid oxidation are present close to the enzymes of the electron transport chain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Fatty acid oxidation is a major source of cell ATP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Oxidation of FAs occur at the β-carbon atom resulting in the elimination of the two terminal carbon atoms as acetyl CoA leaving fatty acyl CoA which has two carbon atoms less than the original fatty acid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cc0099"/>
                  </a:solidFill>
                  <a:uFillTx/>
                  <a:latin typeface="Perpetua"/>
                </a:rPr>
                <a:t>β-oxidation has 4 steps</a:t>
              </a:r>
              <a:r>
                <a:rPr b="1" lang="en-US" sz="2000" spc="-1" strike="noStrike" u="sng">
                  <a:solidFill>
                    <a:srgbClr val="cc0099"/>
                  </a:solidFill>
                  <a:uFillTx/>
                  <a:latin typeface="Perpetua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Dehydrogenation (</a:t>
              </a:r>
              <a:r>
                <a:rPr b="1" lang="en-US" sz="2000" spc="-1" strike="noStrike">
                  <a:solidFill>
                    <a:srgbClr val="0000ff"/>
                  </a:solidFill>
                  <a:latin typeface="Perpetua"/>
                </a:rPr>
                <a:t>FAD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-dependent)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- 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Hydr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Dehydrogenation (</a:t>
              </a:r>
              <a:r>
                <a:rPr b="1" lang="en-US" sz="2000" spc="-1" strike="noStrike">
                  <a:solidFill>
                    <a:srgbClr val="0000ff"/>
                  </a:solidFill>
                  <a:latin typeface="Perpetua"/>
                </a:rPr>
                <a:t>NAD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-dependent)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Cleavage (Remove 2C as acetyl CoA)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3" descr="Screen Shot 2012-04-13 at 7.33.23 PM.png"/>
          <p:cNvPicPr/>
          <p:nvPr/>
        </p:nvPicPr>
        <p:blipFill>
          <a:blip r:embed="rId2"/>
          <a:stretch/>
        </p:blipFill>
        <p:spPr>
          <a:xfrm>
            <a:off x="5562720" y="228600"/>
            <a:ext cx="3124080" cy="655308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Calcul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762120" y="1447920"/>
          <a:ext cx="7010280" cy="289548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arbons in Fatty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Acetyl 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β-oxidation cy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/2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) 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524" name="TextBox 4"/>
          <p:cNvSpPr/>
          <p:nvPr/>
        </p:nvSpPr>
        <p:spPr>
          <a:xfrm>
            <a:off x="304920" y="4495680"/>
            <a:ext cx="82296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99"/>
                </a:solidFill>
                <a:uFillTx/>
                <a:latin typeface="Perpetua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each round of β-oxidation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one molecul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f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AD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one molecul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f NADH+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are produced which generates 2 and 3 ATP molecules,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Perpetua"/>
              </a:rPr>
              <a:t>Example:</a:t>
            </a:r>
            <a:r>
              <a:rPr b="1" lang="en-US" sz="3600" spc="-1" strike="noStrike">
                <a:solidFill>
                  <a:srgbClr val="0000ff"/>
                </a:solidFill>
                <a:latin typeface="Perpetua"/>
              </a:rPr>
              <a:t>  Energy of palmitoyl ~Co A (16 C) oxidation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28600" y="13712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Number of cycles= </a:t>
            </a:r>
            <a:r>
              <a:rPr b="0" lang="en-US" sz="2400" spc="-1" strike="noStrike">
                <a:solidFill>
                  <a:srgbClr val="cc0000"/>
                </a:solidFill>
                <a:latin typeface="Perpetua"/>
                <a:ea typeface="Arial"/>
              </a:rPr>
              <a:t>n/2 -1 = 7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cycl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Number of acetyl ~Co A = </a:t>
            </a:r>
            <a:r>
              <a:rPr b="0" lang="en-US" sz="2400" spc="-1" strike="noStrike">
                <a:solidFill>
                  <a:srgbClr val="cc0000"/>
                </a:solidFill>
                <a:latin typeface="Perpetua"/>
                <a:ea typeface="Arial"/>
              </a:rPr>
              <a:t>n/2 =8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So, 7 NADH, each provide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Perpetua"/>
                <a:ea typeface="Arial"/>
              </a:rPr>
              <a:t>3 ATP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when oxidized in the ETC  </a:t>
            </a:r>
            <a:r>
              <a:rPr b="0" lang="en-US" sz="2400" spc="-1" strike="noStrike">
                <a:solidFill>
                  <a:srgbClr val="cc0000"/>
                </a:solidFill>
                <a:latin typeface="Perpetua"/>
                <a:ea typeface="Arial"/>
              </a:rPr>
              <a:t>7X3=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Perpetua"/>
                <a:ea typeface="Arial"/>
              </a:rPr>
              <a:t>21 AT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7 FAD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each provide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Perpetua"/>
                <a:ea typeface="Arial"/>
              </a:rPr>
              <a:t>2 ATP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when oxidized in the ETC    </a:t>
            </a:r>
            <a:r>
              <a:rPr b="0" lang="en-US" sz="2400" spc="-1" strike="noStrike">
                <a:solidFill>
                  <a:srgbClr val="cc0000"/>
                </a:solidFill>
                <a:latin typeface="Perpetua"/>
                <a:ea typeface="Arial"/>
              </a:rPr>
              <a:t>7x 2=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Perpetua"/>
                <a:ea typeface="Arial"/>
              </a:rPr>
              <a:t>14 AT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8 acetyl ~Co A , each provides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Perpetua"/>
                <a:ea typeface="Arial"/>
              </a:rPr>
              <a:t>12 ATP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when converted to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&amp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O by the TCA cycle    </a:t>
            </a:r>
            <a:r>
              <a:rPr b="0" lang="en-US" sz="2400" spc="-1" strike="noStrike">
                <a:solidFill>
                  <a:srgbClr val="cc0000"/>
                </a:solidFill>
                <a:latin typeface="Perpetua"/>
                <a:ea typeface="Arial"/>
              </a:rPr>
              <a:t>8x12=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Perpetua"/>
                <a:ea typeface="Arial"/>
              </a:rPr>
              <a:t>96 AT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Perpetua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So total energy yield of oxidation of palmitoyl ~Co A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=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 21 + 14 + 96 =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Perpetua"/>
                <a:ea typeface="Arial"/>
              </a:rPr>
              <a:t>131 AT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Perpetua"/>
              </a:rPr>
              <a:t>2 molecules of ATP are used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the activation of a molecule of fatty aci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fore, there is a net yield of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</a:rPr>
              <a:t>129 molecules of AT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Regulation of fatty acid β-oxidation</a:t>
            </a: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9903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Perpetua"/>
              </a:rPr>
              <a:t>1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</a:rPr>
              <a:t>-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</a:rPr>
              <a:t>The level of ATP in the cell :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f it is high in the cell, the rate of β- oxidation will decrease (Feed back inhibition)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Perpetua"/>
              </a:rPr>
              <a:t>2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</a:rPr>
              <a:t>-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</a:rPr>
              <a:t>Malonyl-CoA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* (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ich is also a precursor for fatty acid synthesi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hibits Carnitine Palmitoyl Transferase I and thus, inhibits β-oxidatio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lonyl-CoA is produced from acetyl-CoA by the enzyme Acetyl-CoA Carboxylas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29" name="Picture 1" descr="Screen Shot 2012-04-13 at 8.37.56 PM.png"/>
          <p:cNvPicPr/>
          <p:nvPr/>
        </p:nvPicPr>
        <p:blipFill>
          <a:blip r:embed="rId1"/>
          <a:stretch/>
        </p:blipFill>
        <p:spPr>
          <a:xfrm>
            <a:off x="1676520" y="3276720"/>
            <a:ext cx="5867280" cy="3429000"/>
          </a:xfrm>
          <a:prstGeom prst="rect">
            <a:avLst/>
          </a:prstGeom>
          <a:ln w="2844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Oxidation of Unsaturated Fatty Acid</a:t>
            </a: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5192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lightly more complicated Requires additional enzym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xidation of unsaturated FAs produce 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Perpetua"/>
              </a:rPr>
              <a:t>less energy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an that of saturated FAs (</a:t>
            </a:r>
            <a:r>
              <a:rPr b="0" lang="en-US" sz="2400" spc="-1" strike="noStrike">
                <a:solidFill>
                  <a:srgbClr val="cc0099"/>
                </a:solidFill>
                <a:latin typeface="Perpetua"/>
              </a:rPr>
              <a:t>because they are less highly reduced, therefore, fewer reducing equivalents can be produced from these structur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2" name="Picture 3" descr="Screen Shot 2012-04-13 at 8.44.28 PM.png"/>
          <p:cNvPicPr/>
          <p:nvPr/>
        </p:nvPicPr>
        <p:blipFill>
          <a:blip r:embed="rId1"/>
          <a:stretch/>
        </p:blipFill>
        <p:spPr>
          <a:xfrm>
            <a:off x="1143000" y="2666880"/>
            <a:ext cx="701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960" y="3805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Oxidation of Odd Numbered Fatty Acid</a:t>
            </a: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34" name="Content Placeholder 2"/>
          <p:cNvGrpSpPr/>
          <p:nvPr/>
        </p:nvGrpSpPr>
        <p:grpSpPr>
          <a:xfrm>
            <a:off x="255600" y="1352520"/>
            <a:ext cx="5127480" cy="4816440"/>
            <a:chOff x="255600" y="1352520"/>
            <a:chExt cx="5127480" cy="4816440"/>
          </a:xfrm>
        </p:grpSpPr>
        <p:pic>
          <p:nvPicPr>
            <p:cNvPr id="53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55600" y="1352520"/>
              <a:ext cx="5127480" cy="48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304920" y="1371600"/>
              <a:ext cx="502920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Requires three additional extra reactions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Odd numbered lipids are present in plants and marine organisms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Fatty acids with odd number of carbon atoms are also oxidized by the same process β-oxidation as even chain FAs, removing 2 carbons as acetyl CoA in each round of the oxidative process 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Perpetua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 the final round of β-oxidation of a fatty acid with an odd number of C atoms yields </a:t>
              </a:r>
              <a:r>
                <a:rPr b="1" lang="en-US" sz="2400" spc="-1" strike="noStrike">
                  <a:solidFill>
                    <a:srgbClr val="0000ff"/>
                  </a:solidFill>
                  <a:latin typeface="Perpetua"/>
                </a:rPr>
                <a:t>acetyl-CoA 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&amp; </a:t>
              </a:r>
              <a:r>
                <a:rPr b="1" lang="en-US" sz="2400" spc="-1" strike="noStrike">
                  <a:solidFill>
                    <a:srgbClr val="0000ff"/>
                  </a:solidFill>
                  <a:latin typeface="Perpetua"/>
                </a:rPr>
                <a:t>propionyl-CoA 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(3C)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.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7" name="Picture 3" descr="Screen Shot 2012-04-13 at 8.51.07 PM.png"/>
          <p:cNvPicPr/>
          <p:nvPr/>
        </p:nvPicPr>
        <p:blipFill>
          <a:blip r:embed="rId2"/>
          <a:stretch/>
        </p:blipFill>
        <p:spPr>
          <a:xfrm>
            <a:off x="5334120" y="990720"/>
            <a:ext cx="3166920" cy="5638680"/>
          </a:xfrm>
          <a:prstGeom prst="rect">
            <a:avLst/>
          </a:prstGeom>
          <a:ln w="2844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Perpetua"/>
              </a:rPr>
              <a:t>Peroxisomes oxidize very long chain fatty acids</a:t>
            </a:r>
            <a:r>
              <a:rPr b="1" lang="en-US" sz="2800" spc="-1" strike="noStrike">
                <a:solidFill>
                  <a:srgbClr val="0000ff"/>
                </a:solidFill>
                <a:latin typeface="Perpetu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52280" y="837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Very long chain acyl-CoA synthetase facilitates the oxidation of very long chain fatty acids (e.g., C20, C22)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se enzymes are induced by high-fat diets and by hypolipidemic drugs such as Clofibrat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AD is e- acceptor for peroxisomal acyl-CoA dehydrogenase, which catalyzes the 1st oxidative step of the pathway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Within the peroxisome, FAD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generated by fatty acid oxidation is reoxidized producing hydrogen peroxid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AD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+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FAD +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peroxisomal enzyme Catalase degrades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2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2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O +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se reactions produce no ATP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ß-oxidation in the peroxisomes ends at octanoyl-CoA (C 8). It is subsequently removed from the peroxisomes in the form of octanoyl and acetylcarnitine and both are further oxidized in mitochondria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i Mac </cp:lastModifiedBy>
  <dcterms:modified xsi:type="dcterms:W3CDTF">2012-05-12T19:34:16Z</dcterms:modified>
  <cp:revision>162</cp:revision>
  <dc:subject/>
  <dc:title>Slide 1</dc:title>
</cp:coreProperties>
</file>