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03C-B99D-4C5B-A69B-D6AC5906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F040-BF22-4174-97E2-FC37EB5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921A3-C208-4360-911B-B293D0B9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09BD2-90F2-4CBF-9974-3A3EA10F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23DC0-CE3F-409A-839D-535CF3A1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90DF2-39EC-4009-B00F-3069EA85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D7B4F-EBF5-4E2C-8C55-5FEDAD33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D3894-0E31-4656-8CFA-CE22993A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38D09-94AC-4120-A8D1-D23B805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8D8AA-2627-44EB-98F6-0EEB53FE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D398A-DC04-49BD-B02E-14881DC3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29BD5-8B38-45AE-8474-29A3DF27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4C4-4F29-42DA-910F-62B1D9E60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84E0D-190E-42AF-A3D6-1331B211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F483F-571E-47E8-A1B3-DB4CBCE2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EE75-7DAC-420B-914B-77353DA3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D1A8-5B67-4D3D-8A00-C82A0A46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87F2F-97FE-4FD3-9D34-30842624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9041D-33D4-4A51-A5FB-D77F07B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A0EED-09B9-4B5C-ACD4-78BE872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E9BB6-F078-4BC2-A298-827FF6A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D1596-A50D-4581-8D18-A0F1E95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7CBA5-69C9-48B7-8716-C59B77E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1F62-E441-4408-9FA1-9BE1C44E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0F96A-885D-4E34-BBC6-877E8373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33DCF-D186-4659-B625-B82BA005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DEC93-CE5D-4AF7-931C-1CB01C3E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178BE-B817-4429-9D6D-1B11B44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4471E-A102-4708-8860-3642B63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7AE56-B1A7-409C-874D-1B5A570E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C0AD0-93D1-4B4D-83DE-3A381C28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09FDE-4D37-418B-8D07-5D0F063C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2CA4F-1F00-4FF5-A120-9E6358E1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D0356-EC7F-47AA-88B3-DC300B4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38E2-EFDA-4695-8ADD-94A201AF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A65FB-0490-4991-AA36-0F447B2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B975-245C-4F89-9F90-535A0A7D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BCAB3-E359-4AF4-BFE2-CA1D6EC7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7A356-C638-42B9-AA68-0EF26E23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F29FC-949B-4BC7-8DD1-A717DFA3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13AF9-9BAC-4067-BA42-E00B031B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23B6A-2CC2-42EC-AA1E-D5F84FC7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55144-31E1-4372-819D-EF139E6B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2F6E7-8872-4869-B419-942290FD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78AC4-1522-4ED7-BC91-D15EE495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3C33-E9B4-4F66-A04F-6F48B59D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4F20AA-49BF-4328-BFA6-8F935837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8BD70-04B0-4888-8527-159763A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55DF-19BC-40DA-BCAB-CC578766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AF5AC-7467-4C61-97B3-4DEFDBA5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78D70-FA90-43E6-B1FC-B524B31E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8A1B-8088-4D90-8CB2-43376B31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1A43-9D9C-4599-987C-FFA7B096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62F3-52E5-423F-8922-36230E4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E412-248E-438A-9A4C-ABB5669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DF1D-DD85-45AE-BB2B-D00C78CD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21A-1BF6-4AE9-96ED-3843E7BD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353D-DA77-4887-A51C-6A9405E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BDAE-8B31-4480-A996-F5CE888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B5CC-9BF9-491B-9DF4-0A51C500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1171-EC2D-4F11-B788-7DCB0F1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A4C2-109E-48C6-869D-1BC8FD4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72033-AEC8-4E67-B21D-6D94EFCC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AE2A-3AEC-4576-B032-BBA9B96B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D2A7C-71AC-40EE-8D07-C2ADBC75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8C1B-272E-4861-AB25-5E1ED7E0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EA484-FE82-452B-A382-54415092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F1A-7D7D-4834-8BA2-B1791E8D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9D54-87D4-4ADD-A957-D1B30F4F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0E45-B392-4EAD-A3D2-9E9F3C8E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762F-04D4-4D5B-A06A-9344525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27B96-DCC8-4FBD-920A-3F886F8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21D16-7EB3-4FDF-8BCC-71E9DEA6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9BED7-1AB4-48F5-968F-4DD0F1F3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A177-C874-4FB2-B438-DD61170F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8974-868D-4D90-A40A-3332C4A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9CCF9-52BB-4AAE-B64C-7DC7F492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C501-8E7A-4765-A696-37543AA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F15-F8EF-4B12-8501-A6165C04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33FC-47B5-4487-99A7-8F2CDE4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E865-1A8F-4150-8D40-97C4DB3C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A10A-4307-4EAE-8EBA-194533B1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A732-11F1-4B9B-8A35-ED049A65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806F7-D6C2-4AE5-91C2-D773091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EE62B-8EAA-4B35-81EC-151AFB3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CC997-6014-476B-9A07-1630E0D3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674A-4200-4330-B635-CDE84A8A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2EF6-0183-4EAB-B699-D8296492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FBD3-8FCA-4797-BDE1-45E2E952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DE6-FE61-404D-893C-B8DB8F6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AF13-08A8-4CAE-A90B-828DB40C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E2BE-CB29-41FF-B74F-92EA4F95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5CD65-BFCC-4186-B908-9898F164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AFA8-9763-49F1-9707-42C5670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344AD-EAE5-421B-895A-3AEBD09A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858A5-B35C-466D-A571-CA167939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349AB-D737-492F-92BE-1F1F417D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66A24-109D-4626-A860-A22216E1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B39E-34FA-49BF-90D3-80A133E3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0B2F-A8A3-4E50-B450-99090FA5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D4C-E556-4FDF-A004-AB629F24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42F3E-527F-4ED2-996A-AFADE9C0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01DD-6A18-4731-B5D7-6F3765B6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66148-A2F3-4393-ABF6-0BE1CBE6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8C86-8B74-4FD8-8A04-70E94148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BAA59-E8B0-461B-A516-456F559A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DECC2-E81E-4544-BA6E-CAF4F7B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3C55-ACD7-4064-8C36-D6326764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0385-1C18-43DF-A82D-571E5E3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B4387-D28C-4564-855F-BBF0D19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939D7-ECC3-4960-A303-EA93F1B8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9C09-7D05-440B-A0EA-BE2B034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3E653-CDB9-47AE-9AFD-2B6AE4FC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7E7C-452B-4133-BBC4-8D60E556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AAC0-91D2-4C1D-B276-CC284395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62416-5C46-4CCC-A464-4DCB50CC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86B2-310D-49FC-AD64-2176831B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72E2B-D976-4945-8432-A67094DA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848E7-6534-4EB0-A44F-1E0320AF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E9EB4-9E36-4439-A93B-877AE297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FDB3C-8830-4908-925A-44621742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FFC4E-43DB-4CBB-9936-55AD228E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978-B2F5-4B17-9454-85924DC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9C99-62DD-452E-92ED-AA6D199E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E685-8DC8-46D3-B057-AF8128C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35F3-F37E-4D26-B1AA-246BA07E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41568-7D1B-4B34-91B3-6CDA307D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444FA-323D-45FB-A9D2-2616ED39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09F9-8185-46B9-BD40-2E02A1E7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48607-692C-4FBC-BA4D-A64227F5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7574C-BCC8-4AE2-8DC2-581CF84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64647-6117-44BE-94B9-4BC3CD4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DE0A4-E091-4609-B0AD-2B47E46B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582-07F1-4131-A8D3-F36EC302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4DD9-70E5-4893-A0D9-11A8FF9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4FC44-80F7-4AEA-AE3D-E2E183FC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8076-359A-460F-B113-FCBFF32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57A8F-8F74-4797-8F9E-93339795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DBFD6-2497-4D90-B2AB-14A3E79F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DDC0C-076E-4B19-997A-5E935ED5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AD8CC-AB2E-45C9-8917-E3E577C7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D13AA-50E5-4D35-A057-3A895A1B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E7254-BD83-4241-AC87-2DB09A66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65223-15CF-44DD-905A-A240DC94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187F-6A52-459E-8F7F-07846EDCAEC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5F39-B43C-4EB9-8CC1-1A5D5FFC063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75D5-44F3-4647-AA67-A1907FCCE0F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B064-3D9A-467F-949D-7D0F8D59A28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35F-1337-44F1-8120-9D8553352BF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CE64-BB01-4EB1-9A05-9B4DBDA7097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BCD8-10CA-4611-B6B3-BC95E86E773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1FD-8DCF-4A04-B05C-4FCF86A1AD6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5497-A259-45E9-89FF-691DD9D72EEC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4F98-7F1E-476B-934E-C1C35DEE8B5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FB65-DF8B-4334-93D1-3D3E4E053BD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309B-E385-4B57-B21D-7536181B178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Fatty Acid Synthesi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28600" y="4038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5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β-ketone is reduced to an alcohol by e- transfer from NADPH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6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hydration yields a trans double bond.</a:t>
            </a:r>
            <a:br>
              <a:rPr sz="2600"/>
            </a:b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7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duction by NADPH yields a saturated chai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2" name="Picture 3" descr="Screen Shot 2012-04-20 at 11.40.07 PM.png"/>
          <p:cNvPicPr/>
          <p:nvPr/>
        </p:nvPicPr>
        <p:blipFill>
          <a:blip r:embed="rId1"/>
          <a:stretch/>
        </p:blipFill>
        <p:spPr>
          <a:xfrm>
            <a:off x="533520" y="1066680"/>
            <a:ext cx="7848360" cy="28195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228240" y="37339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8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ollowing transfer of the growing fatty acid from Pant to the Condensing Enzyme's cysteine sulfhydryl, the cycle begins again, with another malonyl-Co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etyl residue successively added is derived from the 2C atoms of malonyl CoA with the release of the third C a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EXCEPT the 2 donated by the original acetyl CoA which are found at the methyl group end of the fatty acid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Title 2"/>
          <p:cNvSpPr/>
          <p:nvPr/>
        </p:nvSpPr>
        <p:spPr>
          <a:xfrm>
            <a:off x="152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Screen Shot 2012-04-20 at 11.46.52 PM.png"/>
          <p:cNvPicPr/>
          <p:nvPr/>
        </p:nvPicPr>
        <p:blipFill>
          <a:blip r:embed="rId1"/>
          <a:stretch/>
        </p:blipFill>
        <p:spPr>
          <a:xfrm>
            <a:off x="2057400" y="68580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Product Release</a:t>
            </a:r>
            <a:r>
              <a:rPr b="1" i="1" lang="en-US" sz="3600" spc="-1" strike="noStrike">
                <a:solidFill>
                  <a:srgbClr val="cc0099"/>
                </a:solidFill>
                <a:latin typeface="Cambria"/>
                <a:ea typeface="ＭＳ Ｐゴシック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28600" y="10663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When the fatty acid is 16 carbon atoms long, a Thioesterase domain catalyzes hydrolysis of the thioester linking the fatty acid to phosphopantethein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The16-C saturated fatty acid palmitate is the final product of the Fatty Acid Synthase complex (but it may produce short chain FAs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urther elongation and insertion of double bonds are carried out by other enzyme system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28240" y="228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5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Palmitate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a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16-C</a:t>
            </a:r>
            <a:r>
              <a:rPr b="1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saturated fatty acid, is the final product of the Fatty Acid Synthase reactio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1-  a. How many acetyl-CoA used for initial priming of enzym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How many acetyl-CoA used for synthesis of each malonate? 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c. How many malonate used (how many reaction cycles) per synthesis of one 16-C palminat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d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acetyl-CoA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for priming &amp; for syntheisis of malonate,   a + b(c):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2- a. How many ~P bonds of ATP used for synthesis of each malonat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~P bonds of ATP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for synthesis of one 16-C palmitate, 2a(1c): 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3- a. How many NADPH used per reaction cycle?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b. </a:t>
            </a:r>
            <a:r>
              <a:rPr b="1" lang="en-US" sz="2000" spc="-1" strike="noStrike">
                <a:solidFill>
                  <a:srgbClr val="000099"/>
                </a:solidFill>
                <a:latin typeface="Perpetua"/>
                <a:ea typeface="ＭＳ Ｐゴシック"/>
              </a:rPr>
              <a:t>Total NADPH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used per synthesis of one 16-C palmitate, 3a(1c):  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9" name="Rounded Rectangle 11"/>
          <p:cNvGrpSpPr/>
          <p:nvPr/>
        </p:nvGrpSpPr>
        <p:grpSpPr>
          <a:xfrm>
            <a:off x="2011320" y="4694400"/>
            <a:ext cx="4816440" cy="2352600"/>
            <a:chOff x="2011320" y="4694400"/>
            <a:chExt cx="4816440" cy="2352600"/>
          </a:xfrm>
        </p:grpSpPr>
        <p:pic>
          <p:nvPicPr>
            <p:cNvPr id="550" name="Rounded Rectangle 11" descr=""/>
            <p:cNvPicPr/>
            <p:nvPr/>
          </p:nvPicPr>
          <p:blipFill>
            <a:blip r:embed="rId1"/>
            <a:stretch/>
          </p:blipFill>
          <p:spPr>
            <a:xfrm>
              <a:off x="2011320" y="4694400"/>
              <a:ext cx="4816440" cy="23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2128680" y="5176800"/>
              <a:ext cx="45817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cycles = (C/2) –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Malonate molecules =  (C/2) –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Acetyl CoA molecules=  [(C/2) – 1] 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No. of NADPH molecules = [(C/2) – 1] 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Regulation of FA Synthesi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5192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Allosteric regula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etyl CoA carboxylase, which catalyzes the committed step in fatty acid synthesis, is a key control site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End-product fatty acid is a feedback inhibitor (palmitoyl-CoA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Perpetua"/>
                <a:ea typeface="ＭＳ Ｐゴシック"/>
              </a:rPr>
              <a:t>Activate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by </a:t>
            </a:r>
            <a:r>
              <a:rPr b="1" lang="en-US" sz="22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citrat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which increases in well-fed state and is an indicator of a plentiful supply of acetyl-CoA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Perpetua"/>
                <a:ea typeface="ＭＳ Ｐゴシック"/>
              </a:rPr>
              <a:t>Inhibited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by </a:t>
            </a:r>
            <a:r>
              <a:rPr b="1" lang="en-US" sz="22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long-chain acyl-CoA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54" name="Picture 2" descr="Screen Shot 2012-04-21 at 12.16.39 AM.png"/>
          <p:cNvPicPr/>
          <p:nvPr/>
        </p:nvPicPr>
        <p:blipFill>
          <a:blip r:embed="rId1"/>
          <a:stretch/>
        </p:blipFill>
        <p:spPr>
          <a:xfrm>
            <a:off x="5181480" y="1143000"/>
            <a:ext cx="3505320" cy="464832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28240" y="1447920"/>
            <a:ext cx="4800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Glucagon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s fatty acid synthesis while increasing lipid breakdown and fatty acid β-oxidatio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cetyl CoA cayboxylase is inactivated </a:t>
            </a:r>
            <a:r>
              <a:rPr b="0" i="1" lang="en-US" sz="2600" spc="-1" strike="noStrike">
                <a:solidFill>
                  <a:srgbClr val="0000ff"/>
                </a:solidFill>
                <a:latin typeface="Perpetua"/>
              </a:rPr>
              <a:t>by phosphoryl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Insuli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prevents action of glucag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hibits lipases/activates acetyl Co A cayboxylas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Title 1"/>
          <p:cNvSpPr/>
          <p:nvPr/>
        </p:nvSpPr>
        <p:spPr>
          <a:xfrm>
            <a:off x="609480" y="152280"/>
            <a:ext cx="77724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Regulation of FA 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Screen Shot 2012-04-21 at 12.20.06 AM.png"/>
          <p:cNvPicPr/>
          <p:nvPr/>
        </p:nvPicPr>
        <p:blipFill>
          <a:blip r:embed="rId1"/>
          <a:stretch/>
        </p:blipFill>
        <p:spPr>
          <a:xfrm>
            <a:off x="5057640" y="1676520"/>
            <a:ext cx="4010040" cy="4572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Further Processing of C16 Fatty Acids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Additional Elongation 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n mammalian systems FA elongation can occur either in 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Microsom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Mitochondria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Chain Elongation in Microsom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0456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actions are similar to that which occurs in the cytosolic FA synthase in that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222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) The source of the 2 carbon units is malonyl Co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224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) NADPH is used as reducing power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contrast to denovo synthesis of Fatty Acids, the intermediates in the subsequent reactions are CoA esters, indicating that the process is carried out by separate enzymes rather than a complex of FA synthase type. (uses CoA instead of ACP as the acyl carrier)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t is the main site for elongation of existing long chain FAs molecule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152280" y="1066680"/>
            <a:ext cx="4267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t differs from the microsomal system in that acetyl CoA is the source of the added 2C atoms (instead of malonyl CoA)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NADH and NADPH are sources of reducing agent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is system operate by simple reversal of the pathway of FA oxidation with the exception that, NADPH-linked α,β-unsaturated acyl CoA reductase replaces FAD linked acyl CoA dehydrogenas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 mitochondrial system serves in the elongation of shorter chain fatty acids to long chin FA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12760" indent="-2127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Chain Elongation in Mitochondri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63" name="Picture 4" descr="Screen Shot 2012-04-21 at 12.32.20 AM.png"/>
          <p:cNvPicPr/>
          <p:nvPr/>
        </p:nvPicPr>
        <p:blipFill>
          <a:blip r:embed="rId1"/>
          <a:stretch/>
        </p:blipFill>
        <p:spPr>
          <a:xfrm>
            <a:off x="4572000" y="1066680"/>
            <a:ext cx="4495680" cy="51818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  <a:ea typeface="ＭＳ Ｐゴシック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Biosynthesis of Unsaturated Fatty Aci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aturases introduce double bonds at specific positions in a fatty acid chai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mmalian cells are unable to produce double bonds at certain locations, e.g., ∆ 12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us some polyunsaturated fatty acids are dietary essentials, e.g., linoleic acid, 18:2 cis ∆ 9,12 (18 C atoms long, with cis double bonds at carbons 9-10 &amp; 12-13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52280" y="16761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re are three systems for the synthesis of fatty acids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 novo synthesis of FAs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cytoplasm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ain elongation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mitochondri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713880" indent="-420480" algn="just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ain elongation 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in microsome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mation of a double bond in a fatty acid involves the following endoplasmic reticulum membrane proteins in mammalian cell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NADH-cyt b5 Reduct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a flavoprotein with FAD as prosthetic group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Cytochrome b5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hich may be a separate protein or a domain at one end of the desatur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just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Desatur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, with an active site that contains two iron atoms complexed by histidine residue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7" name="Title 2"/>
          <p:cNvSpPr/>
          <p:nvPr/>
        </p:nvSpPr>
        <p:spPr>
          <a:xfrm>
            <a:off x="3808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228600" y="12952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∆9 desaturase in the endoplasmic reticulum catalyzes the conversion of stearate (18:0) to oleate (18:1 cis ∆ 9) 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overall reaction is: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tearate + NADH + H+ + 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oleate + NAD+ + 2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ynthesis of polyunsaturated fatty acids involves desaturase and elongase system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9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Screen Shot 2012-04-21 at 12.48.44 AM.png"/>
          <p:cNvPicPr/>
          <p:nvPr/>
        </p:nvPicPr>
        <p:blipFill>
          <a:blip r:embed="rId1"/>
          <a:stretch/>
        </p:blipFill>
        <p:spPr>
          <a:xfrm>
            <a:off x="5334120" y="1295280"/>
            <a:ext cx="37335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Differences in the oxidation and synthesis of FAs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72" name="Content Placeholder 5" descr="Screen Shot 2012-04-21 at 12.39.39 AM.png"/>
          <p:cNvPicPr/>
          <p:nvPr/>
        </p:nvPicPr>
        <p:blipFill>
          <a:blip r:embed="rId1"/>
          <a:srcRect l="-3456" t="0" r="-3456" b="0"/>
          <a:stretch/>
        </p:blipFill>
        <p:spPr>
          <a:xfrm>
            <a:off x="762120" y="16002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228600" y="1371600"/>
            <a:ext cx="8686800" cy="68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n mammals fatty acid synthesis occurs primarily in the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cytosol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of the liver and adipose tissues .It also occurs in mammary glands during lac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Acetyl-CoA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s the starting material for FA synthesis. However, most acetyl-CoA in mitochondria(from the breakdown of sugars, some amino acids and other fatty acids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So, acetyl-CoA must be transferred from the mitochondria to the cytos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                    </a:t>
            </a:r>
            <a:r>
              <a:rPr b="1" lang="en-US" sz="2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BUT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Mitochondria not permeable to acetyl Co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De novo synthesis of FAs</a:t>
            </a:r>
            <a:r>
              <a:rPr b="1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18" name="Picture 3" descr="imagesCA2Q9N15.jpg"/>
          <p:cNvPicPr/>
          <p:nvPr/>
        </p:nvPicPr>
        <p:blipFill>
          <a:blip r:embed="rId1"/>
          <a:stretch/>
        </p:blipFill>
        <p:spPr>
          <a:xfrm>
            <a:off x="380880" y="5410080"/>
            <a:ext cx="12765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295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75"/>
              </a:spcBef>
              <a:buClr>
                <a:srgbClr val="ff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Citrate-malate-pyruvate shutt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ovides cytosolic 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acetyl CoA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d reducing equivalents 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NADPH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for fatty acid synthesi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98440" indent="-298440">
              <a:spcBef>
                <a:spcPts val="575"/>
              </a:spcBef>
              <a:buClr>
                <a:srgbClr val="ff66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etyl–CoA units are shuttled out of the mitochondrial matrix as citrat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1" name="Picture 1" descr="Screen Shot 2012-04-20 at 10.01.13 PM.png"/>
          <p:cNvPicPr/>
          <p:nvPr/>
        </p:nvPicPr>
        <p:blipFill>
          <a:blip r:embed="rId1"/>
          <a:stretch/>
        </p:blipFill>
        <p:spPr>
          <a:xfrm>
            <a:off x="1447920" y="2830680"/>
            <a:ext cx="7010280" cy="36414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-24120" y="2819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4 Steps repeating cycle, extension 2C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Condensa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Reduc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Dehydra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dditional reduction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23" name="Rectangle 8"/>
          <p:cNvGrpSpPr/>
          <p:nvPr/>
        </p:nvGrpSpPr>
        <p:grpSpPr>
          <a:xfrm>
            <a:off x="-79200" y="1133640"/>
            <a:ext cx="9057960" cy="1670040"/>
            <a:chOff x="-79200" y="1133640"/>
            <a:chExt cx="9057960" cy="1670040"/>
          </a:xfrm>
        </p:grpSpPr>
        <p:pic>
          <p:nvPicPr>
            <p:cNvPr id="524" name="Rectangle 8" descr=""/>
            <p:cNvPicPr/>
            <p:nvPr/>
          </p:nvPicPr>
          <p:blipFill>
            <a:blip r:embed="rId1"/>
            <a:stretch/>
          </p:blipFill>
          <p:spPr>
            <a:xfrm>
              <a:off x="-79200" y="1133640"/>
              <a:ext cx="90579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31680" y="1219320"/>
              <a:ext cx="88394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Perpetua"/>
                  <a:ea typeface="Times New Roman"/>
                </a:rPr>
                <a:t>RULE:</a:t>
              </a:r>
              <a:r>
                <a:rPr b="0" lang="en-US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Perpetua"/>
                  <a:ea typeface="Times New Roman"/>
                </a:rPr>
                <a:t>Fatty acid synthesis is a stepwise assembly of acetyl CoA unit (mostly as malonyl CoA) ending with palmitate (16 C saturated)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7" name="Picture 10" descr="http://www.rpi.edu/dept/bcbp/molbiochem/MBWeb/mb2/part1/images/accoamal.gif"/>
          <p:cNvPicPr/>
          <p:nvPr/>
        </p:nvPicPr>
        <p:blipFill>
          <a:blip r:embed="rId2"/>
          <a:stretch/>
        </p:blipFill>
        <p:spPr>
          <a:xfrm>
            <a:off x="6324480" y="4191120"/>
            <a:ext cx="23814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Formation of Malonyl-coenzyme A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(Activation of acetate)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1295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the committed step in fatty acid synthesis (Rate Limiting Reac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takes place in two step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1. Carboxylation of biotin (involving ATP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2. Transfer of the carboxyl to acetyl-CoA to form malonyl-Co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25236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erpetua"/>
              </a:rPr>
              <a:t>Reactions are catalyzed by </a:t>
            </a:r>
            <a:r>
              <a:rPr b="1" lang="pl-PL" sz="2400" spc="-1" strike="noStrike">
                <a:solidFill>
                  <a:srgbClr val="cc0099"/>
                </a:solidFill>
                <a:latin typeface="Perpetua"/>
              </a:rPr>
              <a:t>acetyl-CoA carboxylase </a:t>
            </a:r>
            <a:r>
              <a:rPr b="0" lang="pl-PL" sz="2400" spc="-1" strike="noStrike">
                <a:solidFill>
                  <a:srgbClr val="000000"/>
                </a:solidFill>
                <a:latin typeface="Perpetua"/>
              </a:rPr>
              <a:t>(multienzyme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0" name="Picture 6" descr="http://www.rpi.edu/dept/bcbp/molbiochem/MBWeb/mb2/part1/images/malonate.gif"/>
          <p:cNvPicPr/>
          <p:nvPr/>
        </p:nvPicPr>
        <p:blipFill>
          <a:blip r:embed="rId1"/>
          <a:stretch/>
        </p:blipFill>
        <p:spPr>
          <a:xfrm>
            <a:off x="3124080" y="4343400"/>
            <a:ext cx="3000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151920" y="1066320"/>
            <a:ext cx="411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t is a multi-enzyme complex consist of 7 enzymes linked covalently in a single polypeptide chain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It is a dimer, and each monomer is identical, consisting of one chain (250 kD) containing all seven enzyme activities of fatty acid synthase and an acyl carrier protein (ACP)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ACP contains the vitamin pantothenic acid in the form of 4'-phosphopantetheine (Pant). ACP is the part that carry the acyl groups during fatty acid synthesis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>
              <a:lnSpc>
                <a:spcPct val="95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2" name="Picture 6" descr="Screen Shot 2012-04-20 at 11.23.46 PM.png"/>
          <p:cNvPicPr/>
          <p:nvPr/>
        </p:nvPicPr>
        <p:blipFill>
          <a:blip r:embed="rId1"/>
          <a:stretch/>
        </p:blipFill>
        <p:spPr>
          <a:xfrm>
            <a:off x="4419720" y="1447920"/>
            <a:ext cx="4616280" cy="464796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sp>
        <p:nvSpPr>
          <p:cNvPr id="533" name="TextBox 7"/>
          <p:cNvSpPr/>
          <p:nvPr/>
        </p:nvSpPr>
        <p:spPr>
          <a:xfrm>
            <a:off x="-304920" y="30492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Fatty acid synthase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04920" y="36576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1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 molecule of acetate is transferred from Acetyl CoA to the –SH group of ACP by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acetyl CoA-ACP transacyl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initiation or priming)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2-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ext, this 2C fragment is transferred to a cysteine residue in the active site of the condensing enzym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3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ow-empty ACP accepts a 3C malonate unit from malonyl CoA, </a:t>
            </a:r>
            <a:r>
              <a:rPr b="1" i="1" lang="en-US" sz="2600" spc="-1" strike="noStrike">
                <a:solidFill>
                  <a:srgbClr val="0000ff"/>
                </a:solidFill>
                <a:latin typeface="Perpetua"/>
              </a:rPr>
              <a:t>malonyl CoA-ACP transacyl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is reaction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Title 2"/>
          <p:cNvSpPr/>
          <p:nvPr/>
        </p:nvSpPr>
        <p:spPr>
          <a:xfrm>
            <a:off x="380880" y="3492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Screen Shot 2012-04-20 at 11.31.06 PM.png"/>
          <p:cNvPicPr/>
          <p:nvPr/>
        </p:nvPicPr>
        <p:blipFill>
          <a:blip r:embed="rId1"/>
          <a:stretch/>
        </p:blipFill>
        <p:spPr>
          <a:xfrm>
            <a:off x="457200" y="838080"/>
            <a:ext cx="79246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04560" y="9907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4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etyl unit (on the condensing enzyme) condenses with 2 carbon portion of malonyl unit on ACP forming acetoacetyl-S- ACP with release of CO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reaction is catalyzed by </a:t>
            </a:r>
            <a:r>
              <a:rPr b="1" i="1" lang="en-US" sz="2400" spc="-1" strike="noStrike">
                <a:solidFill>
                  <a:srgbClr val="0000ff"/>
                </a:solidFill>
                <a:latin typeface="Perpetua"/>
              </a:rPr>
              <a:t>β-ketoacyl –ACP syntha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ctive site on the condensing enzyme is fre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  <a:ea typeface="Arial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Screen Shot 2012-04-20 at 11.37.52 PM.png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5-12T19:21:46Z</dcterms:modified>
  <cp:revision>110</cp:revision>
  <dc:subject/>
  <dc:title>Slide 1</dc:title>
</cp:coreProperties>
</file>