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683-11CB-4A6A-BE91-F03AD53A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636-F3CC-4763-BB08-4EC6EEE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F539F-229B-4BC8-8C5F-72AAE1B5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12F99-43AC-4C23-A789-1ADD49BB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4407-3A7E-4032-AE90-8B7A3C1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E25E3-0D41-4078-B965-3E32FBE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D2BD6-FB2D-416C-B280-92F93B7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453D4-55AD-4446-AAF2-0A7A1AE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DBD90-65F8-4395-A40D-B92CA17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5DC6-B98B-4E1E-A1FF-77575B17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ECB10-1B50-4204-8B42-A370001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A677F-8E1C-4532-BB20-F72764CF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816-B57C-467F-AFDD-8AED2A5F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571E5-C6A1-47AF-B6EB-E634218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BEB3-ED68-4BDC-98F7-10319698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D0FD2-FB7A-4A8C-8C69-0D672C19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CFE70-CCC7-4822-96F9-156DCE1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19B8-18A8-467F-98C0-022F104C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888F-55FE-415B-A2F5-F07C73E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09FE5-6030-44D7-A094-E6DEFDC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265E7-9139-4D05-93EE-1373EB4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4D82-C3CD-4C7F-B3B5-E1AFCD0D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A90DE-F53A-48AB-90D3-38D089A5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DBF-3CAF-4956-BDBC-38D505A6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D25A9-6997-4496-8C45-285543E1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FE0B-0143-41F8-A3A5-95495987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DF9D9-E1E6-4DEC-B313-AFCE8DE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7BCBC-63F4-43D4-8437-5D21704A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02C5E-FFA3-49D6-BE23-468B09C6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8F309-47BF-4374-99DD-2BD62895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5FA00-1DE0-42AF-B8A9-C51CCCF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B9F5C-9A4C-4822-8317-4AAB936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3806-1545-42D1-AABC-005193A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51D2-D312-4BBA-8AF2-D8DCDA40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69CF-6038-4313-9183-5F2EF9E9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E3DAD-9CE1-4481-A3B1-E77C1770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8DCD8-79F5-4C9D-82C0-64C3247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4E0FE-4B0C-4B8A-94FE-FB796512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7C0D0-2E9B-4DC6-925D-9A8CAFA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F9CA6-133D-465D-B109-363D3C7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B8C2-A7CE-438F-8A0B-258753C3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96079-8110-4601-8AD8-37C7B4C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3E98D-5B97-4336-AB24-BC306AFB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080AD-77C2-4DC1-9C58-2ABA14E3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0DD29-AA3A-470A-8181-DF1D117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5CF6-6A88-4D5E-B4E7-59F68D42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226B7-9CEA-4582-AE6A-20BD904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AA82A-CF7A-4F4C-AC4B-9BA0B132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4C42B-54BC-42F8-830F-38B15F73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9830D-1D67-4CC3-901E-58EFA213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20211-CACA-415B-8CEC-74FCF507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4637-65D3-400E-B6C6-5563992C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0D6E-C793-42F9-8283-991D5DF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46A3-9E4D-46A7-9FC3-A467877E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85C-418C-40CE-A194-A278059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2A96-7DE0-4DD0-AD59-2A10F3C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5AD-5F8A-4AAB-8F13-8F94D8E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A58-1E1E-4E65-843D-618A5D0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DBDC-CD91-489C-A4C0-8244EE60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D64E-6249-451A-B482-3D6C65B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1491-925F-4346-9809-E303685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12FC-69AF-4043-BDA6-B2BD5CED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7DC0-A206-4F0A-824E-470132AA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95CC-CB6E-493E-8F47-6EC2EEC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2435-2402-4EB2-B3CD-BA9C051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85F35-4F74-4CA9-B471-9893E39C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47E3-BA90-4275-B70E-832D2AC4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A73-C3F5-449F-B733-71487BF4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84EF-BED0-4A00-83E5-67653EA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2E57-BDFA-490A-B2DF-6816EE4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C0B4-051F-4544-8B75-C88CF43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3E9D-F597-436E-AC1C-0425FC2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F385-A529-426A-88E1-65744FC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6187-C500-4ED5-A05C-7C89EAA6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2720-DBF0-4812-BDB1-0060C7CB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7705-B880-48AE-8730-CCBBD037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7F4F-7B75-4CA0-91D1-8254F35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D425-11E3-4E64-A978-4BCB8221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5FB-C87B-4AFE-BAA6-7F92871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F9D2A-DC92-4036-BB69-90B407FE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1E798-6448-47F0-B5A7-E830491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46F1-A3E5-47D2-862A-74113EF0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8FCE-2BBB-48CE-88A5-BBF40848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6679-F4A8-4DE5-8E53-B750E60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0DE4-DB3C-47FB-B6DC-866F2328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7BA7-F994-48F8-8ADF-C732590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53B0-AAC6-435C-9CEB-699C1EB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ECFD-094C-4B48-B940-26529998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D0DB-8041-4F55-9EEC-BF5A246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493-8136-4266-BE47-CE73065D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092B-D708-4908-85ED-F8E7694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F6F4-31ED-436A-AEB5-D9DC8EC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D154-F3F5-4089-B5E1-F8A825B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C7BD2-95FE-4F31-A66E-43B3E64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C2A3-6D95-4308-A587-03410244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DA85-4D15-4702-898B-A9D14B3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0AED-C3A9-49F3-8DD6-AC6F346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7B32-02D2-4D28-BAB1-4F89B5F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D8F8-0FF2-4F54-85E4-9F3918C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79E01-AF12-4DC5-A410-BF19D9BE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C71-CCBE-463E-B97E-78D370D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3AC04-49D7-4BB4-8A4A-EEC6434A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8105-F85C-4009-A940-F9C95B88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FDB2B-EE60-4FDA-AAB9-93E02FC0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2704-13CE-4310-B370-54021584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18E5-FADE-4E47-BB41-461E93C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E642-7682-4CBF-B79B-9ADECAA3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A04F-415B-4BC4-9717-AC48F9EA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B62A-B534-4902-82B9-004B676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C3E95-7EAD-48E8-BABF-639557A3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3090-52BA-4E75-B325-4D11EDA0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AC6-40C9-48D5-BD2A-DDCBEF0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AE06-2591-4174-99B7-0D5310D3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7B89F-BF98-4855-939B-00F6D724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F6C1-51FC-4A34-858E-C8EBA169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F837-6134-4FEC-9F53-838F2798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B832-8E65-4CE4-A71C-D8402D8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1A77-AFE2-43AF-A854-F3DF733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19208-8C30-4F63-BB5E-7EA61755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3A4DD-D9ED-49BE-9197-9115698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9486-005D-4684-B303-B0805AE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B264-B305-48DA-9F3C-A1FAC04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842-AC83-47E2-992E-D9CB15E0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C843-F50A-45DE-A026-FBF4711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7E62-0093-4D8D-9BD1-E33782E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F12F-BC3A-4892-8FD0-6136AB63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A4C39-D087-4108-89BF-6F64071F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F1D8D-2D3C-4B96-8571-C869572F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C36D3-AABB-4FFC-8554-056AC6D4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D01D3-9816-4BC8-84AB-27195A7D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434F0-1C15-4058-A041-B192076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63A9-3F0A-4442-8AFD-3A41B8B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DB4F-F70A-43F7-B537-77898E7A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287-A30C-44CA-B94F-222B4A6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BD152-083F-4626-9B0C-8B1001A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4FB4-DBBF-47E9-8CDA-EB3825D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CC30-C96C-4181-A0D5-8CC20726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D93BC-345F-49F7-B23B-12AD46C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4A60F-0C8D-4F6C-AC35-5F6F3B6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4EA5D-68A2-4010-87C4-4402BDA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D46C0-76BA-40CE-BB3B-8A2F68A7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3DCC9-AA61-4AA4-A67B-6A263165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97BB-4B68-4409-857B-A09B590A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064B0-8122-4AB7-8E6F-22A56979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446-258E-4BDF-AF08-1EE78C2FEB6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9072-BEA9-4BE1-A51D-B69E3B6BB81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2205-886B-492C-AD78-676A29787D0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946-0143-4AF3-98E3-0691207870B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56CC-82B1-4FA4-B169-B25FF4AC898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268-4AB0-41A6-B4BF-570BC85EE16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76CC-D4E8-40C9-AAFE-1BA2386905E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2D2-6E49-4487-8894-0F3FF5A1668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5896-BECC-401E-B71C-148D67F5D65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23F-726B-436D-8C6E-CAEBF3C85FF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A3B-408D-42F4-B748-27BBCDE5A30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C222-DBCF-426E-8CDB-D0BD3C8A93F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Fatty Acid Synthe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" y="4038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5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β-ketone is reduced to an alcohol by e- transfer from NADP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6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hydration yields a trans double bond.</a:t>
            </a:r>
            <a:br>
              <a:rPr sz="2600"/>
            </a:b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7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duction by NADPH yields a saturated chai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2" name="Picture 3" descr="Screen Shot 2012-04-20 at 11.40.07 PM.png"/>
          <p:cNvPicPr/>
          <p:nvPr/>
        </p:nvPicPr>
        <p:blipFill>
          <a:blip r:embed="rId1"/>
          <a:stretch/>
        </p:blipFill>
        <p:spPr>
          <a:xfrm>
            <a:off x="533520" y="1066680"/>
            <a:ext cx="7848360" cy="2819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228240" y="3733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8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ollowing transfer of the growing fatty acid from Pant to the Condensing Enzyme's cysteine sulfhydryl, the cycle begins again, with another malonyl-Co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etyl residue successively added is derived from the 2C atoms of malonyl CoA with the release of the third C a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EXCEPT the 2 donated by the original acetyl CoA which are found at the methyl group end of the fatty acid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Title 2"/>
          <p:cNvSpPr/>
          <p:nvPr/>
        </p:nvSpPr>
        <p:spPr>
          <a:xfrm>
            <a:off x="152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Screen Shot 2012-04-20 at 11.46.52 PM.png"/>
          <p:cNvPicPr/>
          <p:nvPr/>
        </p:nvPicPr>
        <p:blipFill>
          <a:blip r:embed="rId1"/>
          <a:stretch/>
        </p:blipFill>
        <p:spPr>
          <a:xfrm>
            <a:off x="2057400" y="68580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Product Release</a:t>
            </a:r>
            <a:r>
              <a:rPr b="1" i="1" lang="en-US" sz="36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When the fatty acid is 16 carbon atoms long, a Thioesterase domain catalyzes hydrolysis of the thioester linking the fatty acid to phosphopantethein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The16-C saturated fatty acid palmitate is the final product of the Fatty Acid Synthase complex (but it may produce short chain FAs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urther elongation and insertion of double bonds are carried out by other enzyme system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28240" y="228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5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Palmitate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a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16-C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saturated fatty acid, is the final product of the Fatty Acid Synthase reactio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1-  a. How many acetyl-CoA used for initial priming of enzym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How many acetyl-CoA used for synthesis of each malonate? 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c. How many malonate used (how many reaction cycles) per synthesis of one 16-C palminat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d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acetyl-CoA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for priming &amp; for syntheisis of malonate,   a + b(c):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2- a. How many ~P bonds of ATP used for synthesis of each malonat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~P bonds of ATP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for synthesis of one 16-C palmitate, 2a(1c): 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3- a. How many NADPH used per reaction cycl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NADPH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per synthesis of one 16-C palmitate, 3a(1c):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9" name="Rounded Rectangle 11"/>
          <p:cNvGrpSpPr/>
          <p:nvPr/>
        </p:nvGrpSpPr>
        <p:grpSpPr>
          <a:xfrm>
            <a:off x="2011320" y="4694400"/>
            <a:ext cx="4816440" cy="2352600"/>
            <a:chOff x="2011320" y="4694400"/>
            <a:chExt cx="4816440" cy="2352600"/>
          </a:xfrm>
        </p:grpSpPr>
        <p:pic>
          <p:nvPicPr>
            <p:cNvPr id="550" name="Rounded Rectangle 11" descr=""/>
            <p:cNvPicPr/>
            <p:nvPr/>
          </p:nvPicPr>
          <p:blipFill>
            <a:blip r:embed="rId1"/>
            <a:stretch/>
          </p:blipFill>
          <p:spPr>
            <a:xfrm>
              <a:off x="2011320" y="4694400"/>
              <a:ext cx="48164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128680" y="5176800"/>
              <a:ext cx="45817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cycles = (C/2) –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Malonate molecules =  (C/2) –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Acetyl CoA molecules=  [(C/2) – 1] 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NADPH molecules = [(C/2) – 1] 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Regulation of FA Synthesi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192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Allosteric regul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etyl CoA carboxylase, which catalyzes the committed step in fatty acid synthesis, is a key control sit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End-product fatty acid is a feedback inhibitor (palmitoyl-CoA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ＭＳ Ｐゴシック"/>
              </a:rPr>
              <a:t>Activate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by </a:t>
            </a:r>
            <a:r>
              <a:rPr b="1" lang="en-US" sz="22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citrat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which increases in well-fed state and is an indicator of a plentiful supply of acetyl-CoA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Perpetua"/>
                <a:ea typeface="ＭＳ Ｐゴシック"/>
              </a:rPr>
              <a:t>Inhibite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by </a:t>
            </a:r>
            <a:r>
              <a:rPr b="1" lang="en-US" sz="22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long-chain acyl-CoA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54" name="Picture 2" descr="Screen Shot 2012-04-21 at 12.16.39 AM.png"/>
          <p:cNvPicPr/>
          <p:nvPr/>
        </p:nvPicPr>
        <p:blipFill>
          <a:blip r:embed="rId1"/>
          <a:stretch/>
        </p:blipFill>
        <p:spPr>
          <a:xfrm>
            <a:off x="5181480" y="1143000"/>
            <a:ext cx="3505320" cy="46483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28240" y="144792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Glucag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s fatty acid synthesis while increasing lipid breakdown and fatty acid β-oxid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etyl CoA cayboxylase is inactivated </a:t>
            </a:r>
            <a:r>
              <a:rPr b="0" i="1" lang="en-US" sz="2600" spc="-1" strike="noStrike">
                <a:solidFill>
                  <a:srgbClr val="0000ff"/>
                </a:solidFill>
                <a:latin typeface="Perpetua"/>
              </a:rPr>
              <a:t>by phosphoryl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Insuli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s action of glucag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s lipases/activates acetyl Co A cayboxylas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609480" y="152280"/>
            <a:ext cx="7772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Regulation of FA 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Screen Shot 2012-04-21 at 12.20.06 AM.png"/>
          <p:cNvPicPr/>
          <p:nvPr/>
        </p:nvPicPr>
        <p:blipFill>
          <a:blip r:embed="rId1"/>
          <a:stretch/>
        </p:blipFill>
        <p:spPr>
          <a:xfrm>
            <a:off x="5057640" y="1676520"/>
            <a:ext cx="4010040" cy="4572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urther Processing of C16 Fatty Acids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Additional Elongation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n mammalian systems FA elongation can occur either in 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Microsom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Mitochondri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Chain Elongation in Microsom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56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actions are similar to that which occurs in the cytosolic FA synthase in that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222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) The source of the 2 carbon units is malonyl Co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22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) NADPH is used as reducing power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contrast to denovo synthesis of Fatty Acids, the intermediates in the subsequent reactions are CoA esters, indicating that the process is carried out by separate enzymes rather than a complex of FA synthase type. (uses CoA instead of ACP as the acyl carrier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the main site for elongation of existing long chain FAs molecul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52280" y="106668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differs from the microsomal system in that acetyl CoA is the source of the added 2C atoms (instead of malonyl CoA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ADH and NADPH are sources of reducing agent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s system operate by simple reversal of the pathway of FA oxidation with the exception that, NADPH-linked α,β-unsaturated acyl CoA reductase replaces FAD linked acyl CoA dehydrogenas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mitochondrial system serves in the elongation of shorter chain fatty acids to long chin FA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Chain Elongation in Mitochond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63" name="Picture 4" descr="Screen Shot 2012-04-21 at 12.32.20 AM.png"/>
          <p:cNvPicPr/>
          <p:nvPr/>
        </p:nvPicPr>
        <p:blipFill>
          <a:blip r:embed="rId1"/>
          <a:stretch/>
        </p:blipFill>
        <p:spPr>
          <a:xfrm>
            <a:off x="4572000" y="1066680"/>
            <a:ext cx="4495680" cy="51818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Biosynthesis of Unsaturated Fatty Aci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aturases introduce double bonds at specific positions in a fatty acid ch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mmalian cells are unable to produce double bonds at certain locations, e.g., ∆ 12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 some polyunsaturated fatty acids are dietary essentials, e.g., linoleic acid, 18:2 cis ∆ 9,12 (18 C atoms long, with cis double bonds at carbons 9-10 &amp; 12-13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5228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three systems for the synthesis of fatty acid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 novo synthesis of FAs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cytoplasm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ain elongation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mitochondri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ain elongation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microsom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mation of a double bond in a fatty acid involves the following endoplasmic reticulum membrane proteins in mammalian cell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NADH-cyt b5 Reduct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a flavoprotein with FAD as prosthetic group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Cytochrome b5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hich may be a separate protein or a domain at one end of the desatur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Desatur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ith an active site that contains two iron atoms complexed by histidine residu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Title 2"/>
          <p:cNvSpPr/>
          <p:nvPr/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28600" y="1295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∆9 desaturase in the endoplasmic reticulum catalyzes the conversion of stearate (18:0) to oleate (18:1 cis ∆ 9) 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verall reaction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arate + NADH + H+ +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leate + NAD+ + 2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ynthesis of polyunsaturated fatty acids involves desaturase and elongase system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9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Screen Shot 2012-04-21 at 12.48.44 AM.png"/>
          <p:cNvPicPr/>
          <p:nvPr/>
        </p:nvPicPr>
        <p:blipFill>
          <a:blip r:embed="rId1"/>
          <a:stretch/>
        </p:blipFill>
        <p:spPr>
          <a:xfrm>
            <a:off x="5334120" y="1295280"/>
            <a:ext cx="37335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Differences in the oxidation and synthesis of FAs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72" name="Content Placeholder 5" descr="Screen Shot 2012-04-21 at 12.39.39 AM.png"/>
          <p:cNvPicPr/>
          <p:nvPr/>
        </p:nvPicPr>
        <p:blipFill>
          <a:blip r:embed="rId1"/>
          <a:srcRect l="-3456" t="0" r="-3456" b="0"/>
          <a:stretch/>
        </p:blipFill>
        <p:spPr>
          <a:xfrm>
            <a:off x="76212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228600" y="1371600"/>
            <a:ext cx="8686800" cy="68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n mammals fatty acid synthesis occurs primarily in the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cytosol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of the liver and adipose tissues .It also occurs in mammary glands during lac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Acetyl-Co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s the starting material for FA synthesis. However, most acetyl-CoA in mitochondria(from the breakdown of sugars, some amino acids and other fatty acids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So, acetyl-CoA must be transferred from the mitochondria to the cytos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                    </a:t>
            </a: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BUT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Mitochondria not permeable to acetyl Co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De novo synthesis of FAs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18" name="Picture 3" descr="imagesCA2Q9N15.jpg"/>
          <p:cNvPicPr/>
          <p:nvPr/>
        </p:nvPicPr>
        <p:blipFill>
          <a:blip r:embed="rId1"/>
          <a:stretch/>
        </p:blipFill>
        <p:spPr>
          <a:xfrm>
            <a:off x="380880" y="5410080"/>
            <a:ext cx="1276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295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75"/>
              </a:spcBef>
              <a:buClr>
                <a:srgbClr val="ff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Citrate-malate-pyruvate shutt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vides cytosolic 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acetyl CoA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reducing equivalents 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NADP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for fatty acid synthesi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98440" indent="-298440">
              <a:spcBef>
                <a:spcPts val="575"/>
              </a:spcBef>
              <a:buClr>
                <a:srgbClr val="ff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etyl–CoA units are shuttled out of the mitochondrial matrix as citr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1" name="Picture 1" descr="Screen Shot 2012-04-20 at 10.01.13 PM.png"/>
          <p:cNvPicPr/>
          <p:nvPr/>
        </p:nvPicPr>
        <p:blipFill>
          <a:blip r:embed="rId1"/>
          <a:stretch/>
        </p:blipFill>
        <p:spPr>
          <a:xfrm>
            <a:off x="1447920" y="2830680"/>
            <a:ext cx="7010280" cy="3641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-24120" y="2819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4 Steps repeating cycle, extension 2C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Condensa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Reduc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Dehydra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dditional reduc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23" name="Rectangle 8"/>
          <p:cNvGrpSpPr/>
          <p:nvPr/>
        </p:nvGrpSpPr>
        <p:grpSpPr>
          <a:xfrm>
            <a:off x="-79200" y="1133640"/>
            <a:ext cx="9057960" cy="1670040"/>
            <a:chOff x="-79200" y="1133640"/>
            <a:chExt cx="9057960" cy="1670040"/>
          </a:xfrm>
        </p:grpSpPr>
        <p:pic>
          <p:nvPicPr>
            <p:cNvPr id="524" name="Rectangle 8" descr=""/>
            <p:cNvPicPr/>
            <p:nvPr/>
          </p:nvPicPr>
          <p:blipFill>
            <a:blip r:embed="rId1"/>
            <a:stretch/>
          </p:blipFill>
          <p:spPr>
            <a:xfrm>
              <a:off x="-79200" y="1133640"/>
              <a:ext cx="9057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1680" y="1219320"/>
              <a:ext cx="88394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Perpetua"/>
                  <a:ea typeface="Times New Roman"/>
                </a:rPr>
                <a:t>RULE:</a:t>
              </a:r>
              <a:r>
                <a:rPr b="0" lang="en-US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Fatty acid synthesis is a stepwise assembly of acetyl CoA unit (mostly as malonyl CoA) ending with palmitate (16 C saturated)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7" name="Picture 10" descr="http://www.rpi.edu/dept/bcbp/molbiochem/MBWeb/mb2/part1/images/accoamal.gif"/>
          <p:cNvPicPr/>
          <p:nvPr/>
        </p:nvPicPr>
        <p:blipFill>
          <a:blip r:embed="rId2"/>
          <a:stretch/>
        </p:blipFill>
        <p:spPr>
          <a:xfrm>
            <a:off x="6324480" y="4191120"/>
            <a:ext cx="23814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ormation of Malonyl-coenzyme A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(Activation of acetate)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1295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the committed step in fatty acid synthesis (Rate Limiting Reac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takes place in two step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. Carboxylation of biotin (involving ATP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. Transfer of the carboxyl to acetyl-CoA to form malonyl-Co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erpetua"/>
              </a:rPr>
              <a:t>Reactions are catalyzed by </a:t>
            </a:r>
            <a:r>
              <a:rPr b="1" lang="pl-PL" sz="2400" spc="-1" strike="noStrike">
                <a:solidFill>
                  <a:srgbClr val="cc0099"/>
                </a:solidFill>
                <a:latin typeface="Perpetua"/>
              </a:rPr>
              <a:t>acetyl-CoA carboxylase </a:t>
            </a:r>
            <a:r>
              <a:rPr b="0" lang="pl-PL" sz="2400" spc="-1" strike="noStrike">
                <a:solidFill>
                  <a:srgbClr val="000000"/>
                </a:solidFill>
                <a:latin typeface="Perpetua"/>
              </a:rPr>
              <a:t>(multienzyme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0" name="Picture 6" descr="http://www.rpi.edu/dept/bcbp/molbiochem/MBWeb/mb2/part1/images/malonate.gif"/>
          <p:cNvPicPr/>
          <p:nvPr/>
        </p:nvPicPr>
        <p:blipFill>
          <a:blip r:embed="rId1"/>
          <a:stretch/>
        </p:blipFill>
        <p:spPr>
          <a:xfrm>
            <a:off x="3124080" y="4343400"/>
            <a:ext cx="3000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151920" y="1066320"/>
            <a:ext cx="411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t is a multi-enzyme complex consist of 7 enzymes linked covalently in a single polypeptide chai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t is a dimer, and each monomer is identical, consisting of one chain (250 kD) containing all seven enzyme activities of fatty acid synthase and an acyl carrier protein (AC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P contains the vitamin pantothenic acid in the form of 4'-phosphopantetheine (Pant). ACP is the part that carry the acyl groups during fatty acid synthesi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lnSpc>
                <a:spcPct val="95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2" name="Picture 6" descr="Screen Shot 2012-04-20 at 11.23.46 PM.png"/>
          <p:cNvPicPr/>
          <p:nvPr/>
        </p:nvPicPr>
        <p:blipFill>
          <a:blip r:embed="rId1"/>
          <a:stretch/>
        </p:blipFill>
        <p:spPr>
          <a:xfrm>
            <a:off x="4419720" y="1447920"/>
            <a:ext cx="4616280" cy="46479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533" name="TextBox 7"/>
          <p:cNvSpPr/>
          <p:nvPr/>
        </p:nvSpPr>
        <p:spPr>
          <a:xfrm>
            <a:off x="-304920" y="30492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Fatty acid synthase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04920" y="3657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1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molecule of acetate is transferred from Acetyl CoA to the –SH group of ACP by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acetyl CoA-ACP transacyl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initiation or priming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2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this 2C fragment is transferred to a cysteine residue in the active site of the condensing enzym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3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ow-empty ACP accepts a 3C malonate unit from malonyl CoA, </a:t>
            </a:r>
            <a:r>
              <a:rPr b="1" i="1" lang="en-US" sz="2600" spc="-1" strike="noStrike">
                <a:solidFill>
                  <a:srgbClr val="0000ff"/>
                </a:solidFill>
                <a:latin typeface="Perpetua"/>
              </a:rPr>
              <a:t>malonyl CoA-ACP transacyl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is reactio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Title 2"/>
          <p:cNvSpPr/>
          <p:nvPr/>
        </p:nvSpPr>
        <p:spPr>
          <a:xfrm>
            <a:off x="380880" y="349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Screen Shot 2012-04-20 at 11.31.06 PM.png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560" y="9907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4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etyl unit (on the condensing enzyme) condenses with 2 carbon portion of malonyl unit on ACP forming acetoacetyl-S- ACP with release of CO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reaction is catalyzed by </a:t>
            </a:r>
            <a:r>
              <a:rPr b="1" i="1" lang="en-US" sz="2400" spc="-1" strike="noStrike">
                <a:solidFill>
                  <a:srgbClr val="0000ff"/>
                </a:solidFill>
                <a:latin typeface="Perpetua"/>
              </a:rPr>
              <a:t>β-ketoacyl –ACP syntha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tive site on the condensing enzyme is fre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Screen Shot 2012-04-20 at 11.37.52 PM.png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5-12T19:21:46Z</dcterms:modified>
  <cp:revision>110</cp:revision>
  <dc:subject/>
  <dc:title>Slide 1</dc:title>
</cp:coreProperties>
</file>