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158760" y="235080"/>
            <a:ext cx="8797320" cy="5870880"/>
            <a:chOff x="158760" y="235080"/>
            <a:chExt cx="8797320" cy="5870880"/>
          </a:xfrm>
        </p:grpSpPr>
        <p:sp>
          <p:nvSpPr>
            <p:cNvPr id="39" name=""/>
            <p:cNvSpPr/>
            <p:nvPr/>
          </p:nvSpPr>
          <p:spPr>
            <a:xfrm>
              <a:off x="1682640" y="3587760"/>
              <a:ext cx="90180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35080" y="3054240"/>
              <a:ext cx="5549760" cy="2160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ffffff"/>
                </a:gs>
                <a:gs pos="100000">
                  <a:srgbClr val="656565"/>
                </a:gs>
              </a:gsLst>
              <a:lin ang="5400000"/>
            </a:gra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" name=""/>
            <p:cNvGrpSpPr/>
            <p:nvPr/>
          </p:nvGrpSpPr>
          <p:grpSpPr>
            <a:xfrm>
              <a:off x="3054240" y="235080"/>
              <a:ext cx="1297800" cy="520560"/>
              <a:chOff x="3054240" y="235080"/>
              <a:chExt cx="1297800" cy="520560"/>
            </a:xfrm>
          </p:grpSpPr>
          <p:sp>
            <p:nvSpPr>
              <p:cNvPr id="42" name=""/>
              <p:cNvSpPr/>
              <p:nvPr/>
            </p:nvSpPr>
            <p:spPr>
              <a:xfrm>
                <a:off x="3054240" y="235080"/>
                <a:ext cx="128268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cecec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3091680" y="322200"/>
                <a:ext cx="126036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ook Antiqua"/>
                  </a:rPr>
                  <a:t>Engineer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" name=""/>
            <p:cNvSpPr/>
            <p:nvPr/>
          </p:nvSpPr>
          <p:spPr>
            <a:xfrm>
              <a:off x="1758960" y="1301760"/>
              <a:ext cx="12826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814760" y="1465200"/>
              <a:ext cx="1074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Comp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25840" y="1301760"/>
              <a:ext cx="12826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77680" y="1465200"/>
              <a:ext cx="1153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Electroni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733920" y="76824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44760" y="990720"/>
              <a:ext cx="265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38280" y="99684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05520" y="99684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828760" y="1541520"/>
              <a:ext cx="3127320" cy="456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Scientific Ar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Military &amp; Commercial Standar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Methodolog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(Macro Development Process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Techniqu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(Mini Development Process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Proces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(Micro Development Process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8760" y="2292480"/>
              <a:ext cx="12826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5200" y="2379600"/>
              <a:ext cx="1067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978280" y="2292480"/>
              <a:ext cx="12826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83480" y="2379600"/>
              <a:ext cx="9817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Soft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20880" y="2057400"/>
              <a:ext cx="265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14400" y="2063880"/>
              <a:ext cx="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81280" y="2063880"/>
              <a:ext cx="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5080" y="3048120"/>
              <a:ext cx="554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35080" y="3276720"/>
              <a:ext cx="554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657600" y="28256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39840" y="3429000"/>
              <a:ext cx="265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796400" y="3675240"/>
              <a:ext cx="632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SAS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362320" y="1835280"/>
              <a:ext cx="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273560" y="3587760"/>
              <a:ext cx="90180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66160" y="3675240"/>
              <a:ext cx="568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OO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343548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800600" y="343548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96840" y="4502160"/>
              <a:ext cx="90180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71640" y="4589640"/>
              <a:ext cx="923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STRAD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30560" y="4502160"/>
              <a:ext cx="90180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58360" y="4589640"/>
              <a:ext cx="585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O-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73560" y="4502160"/>
              <a:ext cx="90180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68320" y="4589640"/>
              <a:ext cx="594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OM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121280"/>
              <a:ext cx="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24280" y="412128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3574800" y="4343400"/>
              <a:ext cx="19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1365120" y="4343400"/>
              <a:ext cx="123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71600" y="434988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90920" y="434988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92480" y="4807080"/>
              <a:ext cx="6336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21080" y="4807080"/>
              <a:ext cx="6336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92880" y="4807080"/>
              <a:ext cx="6336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4807080"/>
              <a:ext cx="6336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81280" y="434988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6400" y="434988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30560" y="5568840"/>
              <a:ext cx="1054080" cy="5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99600" y="5603760"/>
              <a:ext cx="11034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 Antiqua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Book Antiqua"/>
                </a:rPr>
                <a:t>Identif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 Antiqua"/>
                </a:rPr>
                <a:t>object/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349880" y="5568840"/>
              <a:ext cx="1054080" cy="5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37080" y="5654520"/>
              <a:ext cx="628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645160" y="5873760"/>
              <a:ext cx="6336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73760" y="5873760"/>
              <a:ext cx="6336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232880" y="5603760"/>
              <a:ext cx="12146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 Antiqua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Book Antiqua"/>
                </a:rPr>
                <a:t>Identif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 Antiqua"/>
                </a:rPr>
                <a:t>Relationshi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24280" y="503568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64080" y="5257800"/>
              <a:ext cx="219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57600" y="52642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5264280"/>
              <a:ext cx="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1T22:31:16Z</dcterms:created>
  <dc:creator>Valued Acer Customer</dc:creator>
  <dc:description/>
  <dc:language>en-US</dc:language>
  <cp:lastModifiedBy>Mohamed E. Fayad</cp:lastModifiedBy>
  <dcterms:modified xsi:type="dcterms:W3CDTF">2005-02-22T06:49:38Z</dcterms:modified>
  <cp:revision>1</cp:revision>
  <dc:subject/>
  <dc:title>No Slide Title</dc:title>
</cp:coreProperties>
</file>