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7720" y="376344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340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832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9280" y="129528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772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832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9280" y="3763440"/>
            <a:ext cx="242892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3400" y="376344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400" y="1295280"/>
            <a:ext cx="368136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3763440"/>
            <a:ext cx="75438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7720" y="12952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1011240" y="1023480"/>
            <a:ext cx="7256520" cy="4875840"/>
            <a:chOff x="1011240" y="1023480"/>
            <a:chExt cx="7256520" cy="4875840"/>
          </a:xfrm>
        </p:grpSpPr>
        <p:pic>
          <p:nvPicPr>
            <p:cNvPr id="39" name="" descr=""/>
            <p:cNvPicPr/>
            <p:nvPr/>
          </p:nvPicPr>
          <p:blipFill>
            <a:blip r:embed="rId1"/>
            <a:stretch/>
          </p:blipFill>
          <p:spPr>
            <a:xfrm>
              <a:off x="4610160" y="2343240"/>
              <a:ext cx="3657600" cy="35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" name="" descr=""/>
            <p:cNvPicPr/>
            <p:nvPr/>
          </p:nvPicPr>
          <p:blipFill>
            <a:blip r:embed="rId2"/>
            <a:stretch/>
          </p:blipFill>
          <p:spPr>
            <a:xfrm>
              <a:off x="1022400" y="3556080"/>
              <a:ext cx="353052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1011240" y="1023480"/>
              <a:ext cx="7070760" cy="92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marL="285840" indent="-285840">
                <a:lnSpc>
                  <a:spcPct val="110000"/>
                </a:lnSpc>
                <a:spcBef>
                  <a:spcPts val="9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rocesses  define exactly who, what, when &amp; h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11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eammates see the “big-pictur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1T22:32:16Z</dcterms:created>
  <dc:creator>Valued Acer Customer</dc:creator>
  <dc:description/>
  <dc:language>en-US</dc:language>
  <cp:lastModifiedBy>Valued Acer Customer</cp:lastModifiedBy>
  <dcterms:modified xsi:type="dcterms:W3CDTF">1998-02-21T22:32:24Z</dcterms:modified>
  <cp:revision>1</cp:revision>
  <dc:subject/>
  <dc:title>No Slide Title</dc:title>
</cp:coreProperties>
</file>