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2794320" y="871056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AF8F925-553E-42B1-A433-CF3A4F64A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9270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9270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cess Documentation is More than a Buzzwor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y process documentation?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op 5 excuses for undocumented processes (maybe a score card for class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y guys are smart, they’ve been programming for years”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e’ve got work to do - no time for that shi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ybe on a new program, but this system is ol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ywork that noone ever reads (same could be said about SW documentation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is isn’t an assy line - can’t document creativit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75438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7720" y="3763440"/>
            <a:ext cx="75438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3400" y="129528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7720" y="376344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03400" y="376344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242892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8320" y="1295280"/>
            <a:ext cx="242892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39280" y="1295280"/>
            <a:ext cx="242892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7720" y="3763440"/>
            <a:ext cx="242892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8320" y="3763440"/>
            <a:ext cx="242892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39280" y="3763440"/>
            <a:ext cx="242892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7720" y="1295280"/>
            <a:ext cx="75438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75438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368136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03400" y="1295280"/>
            <a:ext cx="368136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3400" y="1295280"/>
            <a:ext cx="368136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7720" y="376344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368136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3400" y="129528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03400" y="376344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3400" y="129528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7720" y="3763440"/>
            <a:ext cx="75438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37720" y="1295280"/>
            <a:ext cx="75438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379520" y="3867120"/>
            <a:ext cx="22478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ore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di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04040" y="3867120"/>
            <a:ext cx="25779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ac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crete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09800" y="1461960"/>
            <a:ext cx="2987640" cy="2121120"/>
          </a:xfrm>
          <a:prstGeom prst="rect">
            <a:avLst/>
          </a:prstGeom>
          <a:ln w="0">
            <a:noFill/>
          </a:ln>
        </p:spPr>
      </p:pic>
      <p:grpSp>
        <p:nvGrpSpPr>
          <p:cNvPr id="45" name=""/>
          <p:cNvGrpSpPr/>
          <p:nvPr/>
        </p:nvGrpSpPr>
        <p:grpSpPr>
          <a:xfrm>
            <a:off x="5334120" y="1447920"/>
            <a:ext cx="2898720" cy="2000160"/>
            <a:chOff x="5334120" y="1447920"/>
            <a:chExt cx="2898720" cy="2000160"/>
          </a:xfrm>
        </p:grpSpPr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5562720" y="1447920"/>
              <a:ext cx="2670120" cy="17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5448600" y="1600200"/>
              <a:ext cx="2670120" cy="171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4"/>
            <a:stretch/>
          </p:blipFill>
          <p:spPr>
            <a:xfrm>
              <a:off x="5334120" y="1733400"/>
              <a:ext cx="2670120" cy="17146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21T22:31:44Z</dcterms:created>
  <dc:creator>Valued Acer Customer</dc:creator>
  <dc:description/>
  <dc:language>en-US</dc:language>
  <cp:lastModifiedBy>Valued Acer Customer</cp:lastModifiedBy>
  <dcterms:modified xsi:type="dcterms:W3CDTF">1998-02-21T22:32:06Z</dcterms:modified>
  <cp:revision>1</cp:revision>
  <dc:subject/>
  <dc:title>No Slide Title</dc:title>
</cp:coreProperties>
</file>