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729774-468B-4519-ADFA-0D14D5B9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Documentation is More than a Buzzwor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process documentation?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 5 excuses for undocumented processes (maybe a score card for clas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 guys are smart, they’ve been programming for years”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ve got work to do - no time for that shi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ybe on a new program, but this system is ol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ywork that noone ever reads (same could be said about SW documentation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sn’t an assy line - can’t document crea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9520" y="3867120"/>
            <a:ext cx="2247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04040" y="3867120"/>
            <a:ext cx="25779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ret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9800" y="1461960"/>
            <a:ext cx="2987640" cy="2121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334120" y="1447920"/>
            <a:ext cx="2898720" cy="2000160"/>
            <a:chOff x="5334120" y="1447920"/>
            <a:chExt cx="2898720" cy="20001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562720" y="1447920"/>
              <a:ext cx="26701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448600" y="1600200"/>
              <a:ext cx="26701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5334120" y="1733400"/>
              <a:ext cx="267012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22:31:44Z</dcterms:created>
  <dc:creator>Valued Acer Customer</dc:creator>
  <dc:description/>
  <dc:language>en-US</dc:language>
  <cp:lastModifiedBy>Valued Acer Customer</cp:lastModifiedBy>
  <dcterms:modified xsi:type="dcterms:W3CDTF">1998-02-21T22:32:06Z</dcterms:modified>
  <cp:revision>1</cp:revision>
  <dc:subject/>
  <dc:title>No Slide Title</dc:title>
</cp:coreProperties>
</file>