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609480" y="511200"/>
            <a:ext cx="7697880" cy="5815080"/>
            <a:chOff x="609480" y="511200"/>
            <a:chExt cx="7697880" cy="5815080"/>
          </a:xfrm>
        </p:grpSpPr>
        <p:sp>
          <p:nvSpPr>
            <p:cNvPr id="39" name=""/>
            <p:cNvSpPr/>
            <p:nvPr/>
          </p:nvSpPr>
          <p:spPr>
            <a:xfrm>
              <a:off x="609480" y="1066680"/>
              <a:ext cx="7697880" cy="5259600"/>
            </a:xfrm>
            <a:custGeom>
              <a:avLst/>
              <a:gdLst/>
              <a:ahLst/>
              <a:rect l="l" t="t" r="r" b="b"/>
              <a:pathLst>
                <a:path w="4849" h="3313">
                  <a:moveTo>
                    <a:pt x="1094" y="1539"/>
                  </a:moveTo>
                  <a:lnTo>
                    <a:pt x="1353" y="1457"/>
                  </a:lnTo>
                  <a:lnTo>
                    <a:pt x="1398" y="1443"/>
                  </a:lnTo>
                  <a:lnTo>
                    <a:pt x="1368" y="1402"/>
                  </a:lnTo>
                  <a:lnTo>
                    <a:pt x="1337" y="1347"/>
                  </a:lnTo>
                  <a:lnTo>
                    <a:pt x="1322" y="1306"/>
                  </a:lnTo>
                  <a:lnTo>
                    <a:pt x="1292" y="1237"/>
                  </a:lnTo>
                  <a:lnTo>
                    <a:pt x="1261" y="1182"/>
                  </a:lnTo>
                  <a:lnTo>
                    <a:pt x="1261" y="1127"/>
                  </a:lnTo>
                  <a:lnTo>
                    <a:pt x="1261" y="1058"/>
                  </a:lnTo>
                  <a:lnTo>
                    <a:pt x="1261" y="1003"/>
                  </a:lnTo>
                  <a:lnTo>
                    <a:pt x="1261" y="948"/>
                  </a:lnTo>
                  <a:lnTo>
                    <a:pt x="1261" y="921"/>
                  </a:lnTo>
                  <a:lnTo>
                    <a:pt x="1261" y="866"/>
                  </a:lnTo>
                  <a:lnTo>
                    <a:pt x="1307" y="825"/>
                  </a:lnTo>
                  <a:lnTo>
                    <a:pt x="1337" y="797"/>
                  </a:lnTo>
                  <a:lnTo>
                    <a:pt x="1398" y="756"/>
                  </a:lnTo>
                  <a:lnTo>
                    <a:pt x="1429" y="742"/>
                  </a:lnTo>
                  <a:lnTo>
                    <a:pt x="1489" y="715"/>
                  </a:lnTo>
                  <a:lnTo>
                    <a:pt x="1520" y="701"/>
                  </a:lnTo>
                  <a:lnTo>
                    <a:pt x="1581" y="701"/>
                  </a:lnTo>
                  <a:lnTo>
                    <a:pt x="1626" y="687"/>
                  </a:lnTo>
                  <a:lnTo>
                    <a:pt x="1687" y="673"/>
                  </a:lnTo>
                  <a:lnTo>
                    <a:pt x="1733" y="646"/>
                  </a:lnTo>
                  <a:lnTo>
                    <a:pt x="1793" y="646"/>
                  </a:lnTo>
                  <a:lnTo>
                    <a:pt x="1824" y="646"/>
                  </a:lnTo>
                  <a:lnTo>
                    <a:pt x="1884" y="646"/>
                  </a:lnTo>
                  <a:lnTo>
                    <a:pt x="1869" y="632"/>
                  </a:lnTo>
                  <a:lnTo>
                    <a:pt x="1900" y="577"/>
                  </a:lnTo>
                  <a:lnTo>
                    <a:pt x="1945" y="522"/>
                  </a:lnTo>
                  <a:lnTo>
                    <a:pt x="1960" y="495"/>
                  </a:lnTo>
                  <a:lnTo>
                    <a:pt x="1976" y="440"/>
                  </a:lnTo>
                  <a:lnTo>
                    <a:pt x="2006" y="426"/>
                  </a:lnTo>
                  <a:lnTo>
                    <a:pt x="2036" y="385"/>
                  </a:lnTo>
                  <a:lnTo>
                    <a:pt x="2067" y="330"/>
                  </a:lnTo>
                  <a:lnTo>
                    <a:pt x="2097" y="289"/>
                  </a:lnTo>
                  <a:lnTo>
                    <a:pt x="2158" y="247"/>
                  </a:lnTo>
                  <a:lnTo>
                    <a:pt x="2188" y="206"/>
                  </a:lnTo>
                  <a:lnTo>
                    <a:pt x="2188" y="179"/>
                  </a:lnTo>
                  <a:lnTo>
                    <a:pt x="2234" y="137"/>
                  </a:lnTo>
                  <a:lnTo>
                    <a:pt x="2264" y="124"/>
                  </a:lnTo>
                  <a:lnTo>
                    <a:pt x="2325" y="96"/>
                  </a:lnTo>
                  <a:lnTo>
                    <a:pt x="2371" y="69"/>
                  </a:lnTo>
                  <a:lnTo>
                    <a:pt x="2432" y="27"/>
                  </a:lnTo>
                  <a:lnTo>
                    <a:pt x="2447" y="14"/>
                  </a:lnTo>
                  <a:lnTo>
                    <a:pt x="2492" y="0"/>
                  </a:lnTo>
                  <a:lnTo>
                    <a:pt x="2523" y="0"/>
                  </a:lnTo>
                  <a:lnTo>
                    <a:pt x="2553" y="0"/>
                  </a:lnTo>
                  <a:lnTo>
                    <a:pt x="2584" y="27"/>
                  </a:lnTo>
                  <a:lnTo>
                    <a:pt x="2599" y="82"/>
                  </a:lnTo>
                  <a:lnTo>
                    <a:pt x="2614" y="96"/>
                  </a:lnTo>
                  <a:lnTo>
                    <a:pt x="2629" y="137"/>
                  </a:lnTo>
                  <a:lnTo>
                    <a:pt x="2629" y="179"/>
                  </a:lnTo>
                  <a:lnTo>
                    <a:pt x="2644" y="206"/>
                  </a:lnTo>
                  <a:lnTo>
                    <a:pt x="2660" y="261"/>
                  </a:lnTo>
                  <a:lnTo>
                    <a:pt x="2675" y="302"/>
                  </a:lnTo>
                  <a:lnTo>
                    <a:pt x="2690" y="330"/>
                  </a:lnTo>
                  <a:lnTo>
                    <a:pt x="2705" y="385"/>
                  </a:lnTo>
                  <a:lnTo>
                    <a:pt x="2705" y="426"/>
                  </a:lnTo>
                  <a:lnTo>
                    <a:pt x="2736" y="467"/>
                  </a:lnTo>
                  <a:lnTo>
                    <a:pt x="2766" y="508"/>
                  </a:lnTo>
                  <a:lnTo>
                    <a:pt x="2766" y="522"/>
                  </a:lnTo>
                  <a:lnTo>
                    <a:pt x="2796" y="563"/>
                  </a:lnTo>
                  <a:lnTo>
                    <a:pt x="2827" y="577"/>
                  </a:lnTo>
                  <a:lnTo>
                    <a:pt x="2872" y="550"/>
                  </a:lnTo>
                  <a:lnTo>
                    <a:pt x="2918" y="467"/>
                  </a:lnTo>
                  <a:lnTo>
                    <a:pt x="2994" y="399"/>
                  </a:lnTo>
                  <a:lnTo>
                    <a:pt x="3055" y="330"/>
                  </a:lnTo>
                  <a:lnTo>
                    <a:pt x="3085" y="289"/>
                  </a:lnTo>
                  <a:lnTo>
                    <a:pt x="3131" y="261"/>
                  </a:lnTo>
                  <a:lnTo>
                    <a:pt x="3146" y="220"/>
                  </a:lnTo>
                  <a:lnTo>
                    <a:pt x="3161" y="192"/>
                  </a:lnTo>
                  <a:lnTo>
                    <a:pt x="3176" y="151"/>
                  </a:lnTo>
                  <a:lnTo>
                    <a:pt x="3222" y="137"/>
                  </a:lnTo>
                  <a:lnTo>
                    <a:pt x="3252" y="96"/>
                  </a:lnTo>
                  <a:lnTo>
                    <a:pt x="3267" y="82"/>
                  </a:lnTo>
                  <a:lnTo>
                    <a:pt x="3298" y="69"/>
                  </a:lnTo>
                  <a:lnTo>
                    <a:pt x="3343" y="41"/>
                  </a:lnTo>
                  <a:lnTo>
                    <a:pt x="3359" y="41"/>
                  </a:lnTo>
                  <a:lnTo>
                    <a:pt x="3404" y="41"/>
                  </a:lnTo>
                  <a:lnTo>
                    <a:pt x="3450" y="69"/>
                  </a:lnTo>
                  <a:lnTo>
                    <a:pt x="3495" y="82"/>
                  </a:lnTo>
                  <a:lnTo>
                    <a:pt x="3526" y="96"/>
                  </a:lnTo>
                  <a:lnTo>
                    <a:pt x="3556" y="179"/>
                  </a:lnTo>
                  <a:lnTo>
                    <a:pt x="3587" y="206"/>
                  </a:lnTo>
                  <a:lnTo>
                    <a:pt x="3617" y="247"/>
                  </a:lnTo>
                  <a:lnTo>
                    <a:pt x="3632" y="289"/>
                  </a:lnTo>
                  <a:lnTo>
                    <a:pt x="3647" y="330"/>
                  </a:lnTo>
                  <a:lnTo>
                    <a:pt x="3678" y="385"/>
                  </a:lnTo>
                  <a:lnTo>
                    <a:pt x="3693" y="440"/>
                  </a:lnTo>
                  <a:lnTo>
                    <a:pt x="3708" y="495"/>
                  </a:lnTo>
                  <a:lnTo>
                    <a:pt x="3708" y="522"/>
                  </a:lnTo>
                  <a:lnTo>
                    <a:pt x="3708" y="577"/>
                  </a:lnTo>
                  <a:lnTo>
                    <a:pt x="3708" y="632"/>
                  </a:lnTo>
                  <a:lnTo>
                    <a:pt x="3708" y="673"/>
                  </a:lnTo>
                  <a:lnTo>
                    <a:pt x="3769" y="673"/>
                  </a:lnTo>
                  <a:lnTo>
                    <a:pt x="3815" y="632"/>
                  </a:lnTo>
                  <a:lnTo>
                    <a:pt x="3830" y="605"/>
                  </a:lnTo>
                  <a:lnTo>
                    <a:pt x="3860" y="563"/>
                  </a:lnTo>
                  <a:lnTo>
                    <a:pt x="3906" y="522"/>
                  </a:lnTo>
                  <a:lnTo>
                    <a:pt x="3967" y="508"/>
                  </a:lnTo>
                  <a:lnTo>
                    <a:pt x="3997" y="467"/>
                  </a:lnTo>
                  <a:lnTo>
                    <a:pt x="4058" y="440"/>
                  </a:lnTo>
                  <a:lnTo>
                    <a:pt x="4103" y="399"/>
                  </a:lnTo>
                  <a:lnTo>
                    <a:pt x="4179" y="399"/>
                  </a:lnTo>
                  <a:lnTo>
                    <a:pt x="4240" y="399"/>
                  </a:lnTo>
                  <a:lnTo>
                    <a:pt x="4286" y="399"/>
                  </a:lnTo>
                  <a:lnTo>
                    <a:pt x="4331" y="399"/>
                  </a:lnTo>
                  <a:lnTo>
                    <a:pt x="4407" y="399"/>
                  </a:lnTo>
                  <a:lnTo>
                    <a:pt x="4453" y="399"/>
                  </a:lnTo>
                  <a:lnTo>
                    <a:pt x="4514" y="440"/>
                  </a:lnTo>
                  <a:lnTo>
                    <a:pt x="4590" y="495"/>
                  </a:lnTo>
                  <a:lnTo>
                    <a:pt x="4605" y="522"/>
                  </a:lnTo>
                  <a:lnTo>
                    <a:pt x="4650" y="618"/>
                  </a:lnTo>
                  <a:lnTo>
                    <a:pt x="4681" y="687"/>
                  </a:lnTo>
                  <a:lnTo>
                    <a:pt x="4696" y="742"/>
                  </a:lnTo>
                  <a:lnTo>
                    <a:pt x="4696" y="825"/>
                  </a:lnTo>
                  <a:lnTo>
                    <a:pt x="4711" y="921"/>
                  </a:lnTo>
                  <a:lnTo>
                    <a:pt x="4711" y="1003"/>
                  </a:lnTo>
                  <a:lnTo>
                    <a:pt x="4711" y="1072"/>
                  </a:lnTo>
                  <a:lnTo>
                    <a:pt x="4711" y="1127"/>
                  </a:lnTo>
                  <a:lnTo>
                    <a:pt x="4681" y="1141"/>
                  </a:lnTo>
                  <a:lnTo>
                    <a:pt x="4620" y="1141"/>
                  </a:lnTo>
                  <a:lnTo>
                    <a:pt x="4605" y="1168"/>
                  </a:lnTo>
                  <a:lnTo>
                    <a:pt x="4590" y="1223"/>
                  </a:lnTo>
                  <a:lnTo>
                    <a:pt x="4620" y="1264"/>
                  </a:lnTo>
                  <a:lnTo>
                    <a:pt x="4711" y="1347"/>
                  </a:lnTo>
                  <a:lnTo>
                    <a:pt x="4772" y="1416"/>
                  </a:lnTo>
                  <a:lnTo>
                    <a:pt x="4787" y="1498"/>
                  </a:lnTo>
                  <a:lnTo>
                    <a:pt x="4833" y="1594"/>
                  </a:lnTo>
                  <a:lnTo>
                    <a:pt x="4833" y="1690"/>
                  </a:lnTo>
                  <a:lnTo>
                    <a:pt x="4848" y="1787"/>
                  </a:lnTo>
                  <a:lnTo>
                    <a:pt x="4848" y="1869"/>
                  </a:lnTo>
                  <a:lnTo>
                    <a:pt x="4848" y="1910"/>
                  </a:lnTo>
                  <a:lnTo>
                    <a:pt x="4848" y="1965"/>
                  </a:lnTo>
                  <a:lnTo>
                    <a:pt x="4742" y="1993"/>
                  </a:lnTo>
                  <a:lnTo>
                    <a:pt x="4605" y="1993"/>
                  </a:lnTo>
                  <a:lnTo>
                    <a:pt x="4468" y="1993"/>
                  </a:lnTo>
                  <a:lnTo>
                    <a:pt x="4362" y="1993"/>
                  </a:lnTo>
                  <a:lnTo>
                    <a:pt x="4331" y="1993"/>
                  </a:lnTo>
                  <a:lnTo>
                    <a:pt x="4286" y="1993"/>
                  </a:lnTo>
                  <a:lnTo>
                    <a:pt x="4270" y="2034"/>
                  </a:lnTo>
                  <a:lnTo>
                    <a:pt x="4270" y="2103"/>
                  </a:lnTo>
                  <a:lnTo>
                    <a:pt x="4255" y="2199"/>
                  </a:lnTo>
                  <a:lnTo>
                    <a:pt x="4240" y="2281"/>
                  </a:lnTo>
                  <a:lnTo>
                    <a:pt x="4225" y="2336"/>
                  </a:lnTo>
                  <a:lnTo>
                    <a:pt x="4164" y="2391"/>
                  </a:lnTo>
                  <a:lnTo>
                    <a:pt x="4073" y="2419"/>
                  </a:lnTo>
                  <a:lnTo>
                    <a:pt x="3982" y="2501"/>
                  </a:lnTo>
                  <a:lnTo>
                    <a:pt x="3860" y="2556"/>
                  </a:lnTo>
                  <a:lnTo>
                    <a:pt x="3739" y="2597"/>
                  </a:lnTo>
                  <a:lnTo>
                    <a:pt x="3632" y="2597"/>
                  </a:lnTo>
                  <a:lnTo>
                    <a:pt x="3587" y="2597"/>
                  </a:lnTo>
                  <a:lnTo>
                    <a:pt x="3511" y="2584"/>
                  </a:lnTo>
                  <a:lnTo>
                    <a:pt x="3359" y="2460"/>
                  </a:lnTo>
                  <a:lnTo>
                    <a:pt x="3267" y="2391"/>
                  </a:lnTo>
                  <a:lnTo>
                    <a:pt x="3237" y="2391"/>
                  </a:lnTo>
                  <a:lnTo>
                    <a:pt x="3237" y="2405"/>
                  </a:lnTo>
                  <a:lnTo>
                    <a:pt x="3237" y="2501"/>
                  </a:lnTo>
                  <a:lnTo>
                    <a:pt x="3222" y="2584"/>
                  </a:lnTo>
                  <a:lnTo>
                    <a:pt x="3222" y="2694"/>
                  </a:lnTo>
                  <a:lnTo>
                    <a:pt x="3176" y="2790"/>
                  </a:lnTo>
                  <a:lnTo>
                    <a:pt x="3115" y="2900"/>
                  </a:lnTo>
                  <a:lnTo>
                    <a:pt x="3055" y="2982"/>
                  </a:lnTo>
                  <a:lnTo>
                    <a:pt x="2903" y="3010"/>
                  </a:lnTo>
                  <a:lnTo>
                    <a:pt x="2812" y="3037"/>
                  </a:lnTo>
                  <a:lnTo>
                    <a:pt x="2690" y="3037"/>
                  </a:lnTo>
                  <a:lnTo>
                    <a:pt x="2584" y="3037"/>
                  </a:lnTo>
                  <a:lnTo>
                    <a:pt x="2492" y="3037"/>
                  </a:lnTo>
                  <a:lnTo>
                    <a:pt x="2447" y="3023"/>
                  </a:lnTo>
                  <a:lnTo>
                    <a:pt x="2432" y="3010"/>
                  </a:lnTo>
                  <a:lnTo>
                    <a:pt x="2416" y="2955"/>
                  </a:lnTo>
                  <a:lnTo>
                    <a:pt x="2371" y="2955"/>
                  </a:lnTo>
                  <a:lnTo>
                    <a:pt x="2325" y="3037"/>
                  </a:lnTo>
                  <a:lnTo>
                    <a:pt x="2264" y="3147"/>
                  </a:lnTo>
                  <a:lnTo>
                    <a:pt x="2188" y="3216"/>
                  </a:lnTo>
                  <a:lnTo>
                    <a:pt x="2067" y="3285"/>
                  </a:lnTo>
                  <a:lnTo>
                    <a:pt x="1945" y="3312"/>
                  </a:lnTo>
                  <a:lnTo>
                    <a:pt x="1702" y="3312"/>
                  </a:lnTo>
                  <a:lnTo>
                    <a:pt x="1505" y="3312"/>
                  </a:lnTo>
                  <a:lnTo>
                    <a:pt x="1368" y="3257"/>
                  </a:lnTo>
                  <a:lnTo>
                    <a:pt x="1261" y="3202"/>
                  </a:lnTo>
                  <a:lnTo>
                    <a:pt x="1216" y="3133"/>
                  </a:lnTo>
                  <a:lnTo>
                    <a:pt x="1185" y="3065"/>
                  </a:lnTo>
                  <a:lnTo>
                    <a:pt x="1185" y="3010"/>
                  </a:lnTo>
                  <a:lnTo>
                    <a:pt x="1185" y="2955"/>
                  </a:lnTo>
                  <a:lnTo>
                    <a:pt x="1185" y="2900"/>
                  </a:lnTo>
                  <a:lnTo>
                    <a:pt x="1170" y="2872"/>
                  </a:lnTo>
                  <a:lnTo>
                    <a:pt x="1140" y="2845"/>
                  </a:lnTo>
                  <a:lnTo>
                    <a:pt x="1033" y="2817"/>
                  </a:lnTo>
                  <a:lnTo>
                    <a:pt x="790" y="2721"/>
                  </a:lnTo>
                  <a:lnTo>
                    <a:pt x="441" y="2597"/>
                  </a:lnTo>
                  <a:lnTo>
                    <a:pt x="137" y="2446"/>
                  </a:lnTo>
                  <a:lnTo>
                    <a:pt x="46" y="2336"/>
                  </a:lnTo>
                  <a:lnTo>
                    <a:pt x="0" y="2254"/>
                  </a:lnTo>
                  <a:lnTo>
                    <a:pt x="0" y="2199"/>
                  </a:lnTo>
                  <a:lnTo>
                    <a:pt x="30" y="2116"/>
                  </a:lnTo>
                  <a:lnTo>
                    <a:pt x="137" y="2034"/>
                  </a:lnTo>
                  <a:lnTo>
                    <a:pt x="274" y="1993"/>
                  </a:lnTo>
                  <a:lnTo>
                    <a:pt x="410" y="1938"/>
                  </a:lnTo>
                  <a:lnTo>
                    <a:pt x="502" y="1924"/>
                  </a:lnTo>
                  <a:lnTo>
                    <a:pt x="547" y="1924"/>
                  </a:lnTo>
                  <a:lnTo>
                    <a:pt x="578" y="1924"/>
                  </a:lnTo>
                  <a:lnTo>
                    <a:pt x="638" y="1924"/>
                  </a:lnTo>
                  <a:lnTo>
                    <a:pt x="760" y="1924"/>
                  </a:lnTo>
                  <a:lnTo>
                    <a:pt x="866" y="1924"/>
                  </a:lnTo>
                  <a:lnTo>
                    <a:pt x="973" y="1938"/>
                  </a:lnTo>
                  <a:lnTo>
                    <a:pt x="1033" y="1938"/>
                  </a:lnTo>
                  <a:lnTo>
                    <a:pt x="1064" y="1938"/>
                  </a:lnTo>
                  <a:lnTo>
                    <a:pt x="1094" y="1842"/>
                  </a:lnTo>
                  <a:lnTo>
                    <a:pt x="1094" y="1759"/>
                  </a:lnTo>
                  <a:lnTo>
                    <a:pt x="1094" y="1842"/>
                  </a:lnTo>
                  <a:lnTo>
                    <a:pt x="1094" y="1759"/>
                  </a:lnTo>
                  <a:lnTo>
                    <a:pt x="1018" y="1690"/>
                  </a:lnTo>
                  <a:lnTo>
                    <a:pt x="1018" y="1608"/>
                  </a:lnTo>
                  <a:lnTo>
                    <a:pt x="1094" y="15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243160" y="4191120"/>
              <a:ext cx="2279520" cy="1199880"/>
            </a:xfrm>
            <a:prstGeom prst="roundRect">
              <a:avLst>
                <a:gd name="adj" fmla="val 1208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265560" y="2517840"/>
              <a:ext cx="4321080" cy="1420920"/>
            </a:xfrm>
            <a:prstGeom prst="roundRect">
              <a:avLst>
                <a:gd name="adj" fmla="val 1232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243240" y="2617920"/>
              <a:ext cx="1781280" cy="11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94080" y="4289400"/>
              <a:ext cx="1758960" cy="1003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808600" y="2714760"/>
              <a:ext cx="1643040" cy="11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97760" y="2770200"/>
              <a:ext cx="1199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Metho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53760" y="2846520"/>
              <a:ext cx="1199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Metho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34200" y="4341960"/>
              <a:ext cx="1199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Metho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51040" y="2092320"/>
              <a:ext cx="1886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Methodolog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516480" y="3273480"/>
              <a:ext cx="372960" cy="226800"/>
            </a:xfrm>
            <a:prstGeom prst="roundRect">
              <a:avLst>
                <a:gd name="adj" fmla="val 2306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00640" y="3273480"/>
              <a:ext cx="372960" cy="226800"/>
            </a:xfrm>
            <a:prstGeom prst="roundRect">
              <a:avLst>
                <a:gd name="adj" fmla="val 2306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44640" y="4748040"/>
              <a:ext cx="373320" cy="204840"/>
            </a:xfrm>
            <a:prstGeom prst="roundRect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78240" y="4848120"/>
              <a:ext cx="372960" cy="204840"/>
            </a:xfrm>
            <a:prstGeom prst="roundRect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43600" y="3273480"/>
              <a:ext cx="372960" cy="226800"/>
            </a:xfrm>
            <a:prstGeom prst="roundRect">
              <a:avLst>
                <a:gd name="adj" fmla="val 2306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66000" y="3173400"/>
              <a:ext cx="372960" cy="206280"/>
            </a:xfrm>
            <a:prstGeom prst="roundRect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42200" y="3513240"/>
              <a:ext cx="372960" cy="206280"/>
            </a:xfrm>
            <a:prstGeom prst="roundRect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22600" y="1833480"/>
              <a:ext cx="1023840" cy="1575000"/>
            </a:xfrm>
            <a:custGeom>
              <a:avLst/>
              <a:gdLst/>
              <a:ahLst/>
              <a:rect l="l" t="t" r="r" b="b"/>
              <a:pathLst>
                <a:path w="645" h="992">
                  <a:moveTo>
                    <a:pt x="644" y="991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9600" y="1414440"/>
              <a:ext cx="2008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Micro 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18640" y="5457960"/>
              <a:ext cx="897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Mac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84880" y="5676840"/>
              <a:ext cx="1301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22600" y="1833480"/>
              <a:ext cx="1931760" cy="1575000"/>
            </a:xfrm>
            <a:custGeom>
              <a:avLst/>
              <a:gdLst/>
              <a:ahLst/>
              <a:rect l="l" t="t" r="r" b="b"/>
              <a:pathLst>
                <a:path w="1217" h="992">
                  <a:moveTo>
                    <a:pt x="0" y="0"/>
                  </a:moveTo>
                  <a:lnTo>
                    <a:pt x="1216" y="99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75320" y="3745080"/>
              <a:ext cx="1270080" cy="1793880"/>
            </a:xfrm>
            <a:custGeom>
              <a:avLst/>
              <a:gdLst/>
              <a:ahLst/>
              <a:rect l="l" t="t" r="r" b="b"/>
              <a:pathLst>
                <a:path w="800" h="1130">
                  <a:moveTo>
                    <a:pt x="799" y="1129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6480" y="5081760"/>
              <a:ext cx="2428920" cy="457200"/>
            </a:xfrm>
            <a:custGeom>
              <a:avLst/>
              <a:gdLst/>
              <a:ahLst/>
              <a:rect l="l" t="t" r="r" b="b"/>
              <a:pathLst>
                <a:path w="1530" h="288">
                  <a:moveTo>
                    <a:pt x="1529" y="287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730760" y="907920"/>
              <a:ext cx="2120760" cy="214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6635880" y="907560"/>
              <a:ext cx="215640" cy="19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59400" y="511200"/>
              <a:ext cx="1778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Mini 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1T22:31:30Z</dcterms:created>
  <dc:creator>Valued Acer Customer</dc:creator>
  <dc:description/>
  <dc:language>en-US</dc:language>
  <cp:lastModifiedBy>Valued Acer Customer</cp:lastModifiedBy>
  <dcterms:modified xsi:type="dcterms:W3CDTF">1998-02-21T22:31:36Z</dcterms:modified>
  <cp:revision>1</cp:revision>
  <dc:subject/>
  <dc:title>No Slide Title</dc:title>
</cp:coreProperties>
</file>